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.gif" ContentType="image/gif"/>
  <Override PartName="/ppt/media/image1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14.jpeg" ContentType="image/jpeg"/>
  <Override PartName="/ppt/media/image5.gif" ContentType="image/gif"/>
  <Override PartName="/ppt/media/image6.gif" ContentType="image/gif"/>
  <Override PartName="/ppt/media/image2.gif" ContentType="image/gif"/>
  <Override PartName="/ppt/media/image10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072-2190-45DF-9CFA-7119FC44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977-4760-46A0-AF42-553DC1C5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A4B-D8A4-48D1-B7DD-8453318E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A3F-4770-45DE-8DD0-A317668B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781-217C-49B6-B524-BEA6EEA7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B235-C588-4C0D-A795-F8FC62E3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9F6-9891-468F-A3B8-CFDC9798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281-0E3D-41B3-812E-F087BAF6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083-C116-4CF6-B30C-E2C80904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E470-C45E-492D-9F9F-79754110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ADD1-2D2A-4D9F-9CD1-080DD4F4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BD92-FCE3-4B1E-81A8-CDB0FDBF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C574-8012-441E-9AF6-D19B9D794F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838080"/>
            <a:ext cx="480060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sson 58  What is a healthy die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289584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276720"/>
            <a:ext cx="28954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pa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962520"/>
            <a:ext cx="28954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648320"/>
            <a:ext cx="289584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410080"/>
            <a:ext cx="289584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095880"/>
            <a:ext cx="289584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o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RX_007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1523880" cy="3276360"/>
          </a:xfrm>
          <a:prstGeom prst="rect">
            <a:avLst/>
          </a:prstGeom>
          <a:ln w="0">
            <a:noFill/>
          </a:ln>
        </p:spPr>
      </p:pic>
      <p:pic>
        <p:nvPicPr>
          <p:cNvPr id="49" name="RW_002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10670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924680" y="6248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J_001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57600" y="838080"/>
            <a:ext cx="16002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1981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1.Revise the names of illn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2.Ask some students to act the dialog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RY_044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333440" cy="1486080"/>
          </a:xfrm>
          <a:prstGeom prst="rect">
            <a:avLst/>
          </a:prstGeom>
          <a:ln w="0">
            <a:noFill/>
          </a:ln>
        </p:spPr>
      </p:pic>
      <p:pic>
        <p:nvPicPr>
          <p:cNvPr id="55" name="RY_402" descr=""/>
          <p:cNvPicPr/>
          <p:nvPr/>
        </p:nvPicPr>
        <p:blipFill>
          <a:blip r:embed="rId3"/>
          <a:stretch/>
        </p:blipFill>
        <p:spPr>
          <a:xfrm>
            <a:off x="0" y="4724280"/>
            <a:ext cx="2324160" cy="213372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7772400" y="5181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0" y="609480"/>
            <a:ext cx="358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1430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.Tell me some names of Chinese food and Wester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657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2133720"/>
          <a:ext cx="7707240" cy="3149640"/>
        </p:xfrm>
        <a:graphic>
          <a:graphicData uri="http://schemas.openxmlformats.org/drawingml/2006/table">
            <a:tbl>
              <a:tblPr/>
              <a:tblGrid>
                <a:gridCol w="3809880"/>
                <a:gridCol w="3897360"/>
              </a:tblGrid>
              <a:tr h="11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ese 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ern 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it,green vege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aozi, noodles,spring rolls,et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ato crisps,butter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am ,sweets  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colate,soft drinks and me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pic>
        <p:nvPicPr>
          <p:cNvPr id="61" name="SG_014" descr=""/>
          <p:cNvPicPr/>
          <p:nvPr/>
        </p:nvPicPr>
        <p:blipFill>
          <a:blip r:embed="rId1"/>
          <a:stretch/>
        </p:blipFill>
        <p:spPr>
          <a:xfrm>
            <a:off x="2209680" y="5349960"/>
            <a:ext cx="1295640" cy="1508040"/>
          </a:xfrm>
          <a:prstGeom prst="rect">
            <a:avLst/>
          </a:prstGeom>
          <a:ln w="0">
            <a:noFill/>
          </a:ln>
        </p:spPr>
      </p:pic>
      <p:pic>
        <p:nvPicPr>
          <p:cNvPr id="62" name="SP_089" descr=""/>
          <p:cNvPicPr/>
          <p:nvPr/>
        </p:nvPicPr>
        <p:blipFill>
          <a:blip r:embed="rId2"/>
          <a:stretch/>
        </p:blipFill>
        <p:spPr>
          <a:xfrm>
            <a:off x="6172200" y="5410080"/>
            <a:ext cx="1798560" cy="121932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M_002" descr=""/>
          <p:cNvPicPr/>
          <p:nvPr/>
        </p:nvPicPr>
        <p:blipFill>
          <a:blip r:embed="rId1"/>
          <a:stretch/>
        </p:blipFill>
        <p:spPr>
          <a:xfrm>
            <a:off x="-2014560" y="-1685880"/>
            <a:ext cx="13173120" cy="10229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42900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447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Read the passage and make notes about Chinese food and western food.Let is see which i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90720" y="3048120"/>
          <a:ext cx="6019560" cy="2158920"/>
        </p:xfrm>
        <a:graphic>
          <a:graphicData uri="http://schemas.openxmlformats.org/drawingml/2006/table">
            <a:tbl>
              <a:tblPr/>
              <a:tblGrid>
                <a:gridCol w="3009960"/>
                <a:gridCol w="3009600"/>
              </a:tblGrid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ese 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ern 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lot of fruit and green vegetables,rich in fibr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in sug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o much fat (meat ,potato crisps/chips,butter,cream and chocol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o much sugar(cakes,soft drinks,sweets and so 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8001000" y="5257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M_008" descr=""/>
          <p:cNvPicPr/>
          <p:nvPr/>
        </p:nvPicPr>
        <p:blipFill>
          <a:blip r:embed="rId1"/>
          <a:stretch/>
        </p:blipFill>
        <p:spPr>
          <a:xfrm>
            <a:off x="-2147760" y="-1685880"/>
            <a:ext cx="13439520" cy="10229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76720" y="7621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1752480"/>
            <a:ext cx="716292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a diet of healthy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a di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能吃的食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foods   pl. 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in scientific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be asleep=feel asleep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睡着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go to bed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上床睡觉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go to sleep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进入梦乡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be/feel sleepy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困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burn up 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烧毁，消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He burned up all his let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The house burned up before the fireman got t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762012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M_024" descr=""/>
          <p:cNvPicPr/>
          <p:nvPr/>
        </p:nvPicPr>
        <p:blipFill>
          <a:blip r:embed="rId1"/>
          <a:stretch/>
        </p:blipFill>
        <p:spPr>
          <a:xfrm>
            <a:off x="-3048120" y="-1371600"/>
            <a:ext cx="15183000" cy="10115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2120" y="91440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When pla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football or basketball,you might be using 400 calories an hour.On Sports Day,during the relay race,you will use most of all,perhaps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as much a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650 calories an h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514600"/>
            <a:ext cx="73911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).When pla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football or basketball=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When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you a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pla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football or baske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.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as much a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/as many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n she worked there ,she could earn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as much a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500 dollars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 our class ,there are as many as 67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8534520" y="4876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M_001" descr=""/>
          <p:cNvPicPr/>
          <p:nvPr/>
        </p:nvPicPr>
        <p:blipFill>
          <a:blip r:embed="rId1"/>
          <a:stretch/>
        </p:blipFill>
        <p:spPr>
          <a:xfrm>
            <a:off x="-2362320" y="-1143000"/>
            <a:ext cx="12811320" cy="9715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38080" y="380880"/>
            <a:ext cx="7772400" cy="57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be rich/high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poor/low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China is rich in natural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Japan is poor in natural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the Chinese /Japa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Japanese/ Chi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take/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have/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enough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o morning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.in the for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He made the suggestion in the form of a qu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A1_041" descr=""/>
          <p:cNvPicPr/>
          <p:nvPr/>
        </p:nvPicPr>
        <p:blipFill>
          <a:blip r:embed="rId2"/>
          <a:stretch/>
        </p:blipFill>
        <p:spPr>
          <a:xfrm>
            <a:off x="5791320" y="5562720"/>
            <a:ext cx="1314360" cy="153180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6858000" y="5257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M_045" descr=""/>
          <p:cNvPicPr/>
          <p:nvPr/>
        </p:nvPicPr>
        <p:blipFill>
          <a:blip r:embed="rId1"/>
          <a:stretch/>
        </p:blipFill>
        <p:spPr>
          <a:xfrm>
            <a:off x="-609480" y="-17640"/>
            <a:ext cx="10667880" cy="6875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90720" y="2057400"/>
            <a:ext cx="73911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9.soft drinks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清凉饮料主要原料二氧化碳，加入糖、香料和色料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然后加压装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ong drinks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含酒精成分的饮料，烈性酒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.by the ag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t the ag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By the age of ten,he had learned to play the pi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At the age of six,he liked to read some picture-boo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1371600" y="838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M_04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00200" y="10666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o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16765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sk a student what we studied in this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23623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.What is a healthy di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2.Some useful phr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56386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11:16:07Z</dcterms:created>
  <dc:creator>1</dc:creator>
  <dc:description/>
  <dc:language>en-US</dc:language>
  <cp:lastModifiedBy>1</cp:lastModifiedBy>
  <dcterms:modified xsi:type="dcterms:W3CDTF">2001-03-06T14:03:49Z</dcterms:modified>
  <cp:revision>5</cp:revision>
  <dc:subject/>
  <dc:title>PowerPoint 演示文稿</dc:title>
</cp:coreProperties>
</file>