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F74-F7D2-4B6F-AF83-79893C96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CFB-158C-487D-B820-DDF19A5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F7E-E0E1-4505-8CC8-A94C70D1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A30-B2FF-4DF7-A5B8-F2202A16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AC0-41FB-41A8-BD37-BCAF029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8D7-C399-49CC-BFEC-9C472C41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D9B-354C-448D-B84D-0BC39566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539-56F0-4A15-AC2C-861AB19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79E-BDE8-4ECD-83F6-84F4417E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DB2-8698-4070-A607-D3718C7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A87-02C8-42BD-9D03-D764DAB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34B-8BA9-4C54-ABA8-1F7D7A9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FB9D-D3DC-4B49-8897-0F87CB5960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362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临 江 中 学       江 建 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gy</cp:lastModifiedBy>
  <dcterms:modified xsi:type="dcterms:W3CDTF">2004-12-20T13:29:55Z</dcterms:modified>
  <cp:revision>25</cp:revision>
  <dc:subject/>
  <dc:title>PowerPoint Presentation</dc:title>
</cp:coreProperties>
</file>