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wind.wav" ContentType="audio/x-wav"/>
  <Override PartName="/ppt/media/type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CEBE-4880-4992-9448-E0651FA5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A48-27B2-4993-A484-897F9889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736-7B85-4FEA-B879-DEF70EEC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8C4-77EC-489C-81DB-7E5F6CF8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8358-FD2F-4EEF-9FD3-7EC94B3F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91C8-A316-4667-AEA0-69CB4FC9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251F-4494-4477-8E62-70D98C01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8D24-C4C7-4079-8AB7-33061653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5600-400B-461D-89A7-6AF5C1E9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0575-EB51-4004-A154-35B3984E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1260-CB3E-4CF4-B684-992198ED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E5B-0786-4B13-BA6A-DD6E66C6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707B-2DB0-4A2B-8B45-B6871BDB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C03C-19F2-481C-BD69-E38259E8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2BD9-2480-410B-91E7-DCCB0BDA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D9E4-DD07-4D2E-B5CD-7BF38774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DDB6-13D8-44C5-BC8E-2B5EC479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7106-CE63-45EA-B021-DE9C51CC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4EADD-C8F2-4115-8BAA-C6267B0E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F5EE-9CA2-41D7-8FAF-2145D2C2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DAEB-7AB6-4288-8F95-312F0C92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DC744-C388-4396-8401-3D8CEDB2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F27-A95B-4641-A03F-965425B6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AC6FB-0913-4A32-B571-5B54F5FF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229D6-1305-4725-A297-B1915545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F0783-992A-4A3E-8D29-E9A0227F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A29EA-AEE0-45E6-8C2D-FEEFFC90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F64DE-860E-4FE3-981F-B275B80B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E202-9CC7-4127-A332-55BD1CE2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508E6-784E-4A84-9E91-CF67AA48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A99F-4474-403A-9ED7-3C0B497C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8964A-7D05-43CF-B1E1-43285F49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5B603-A528-44C4-BE04-19D53B14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274-DFC4-4C74-8786-F984C65B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99E56-01E3-46AC-992B-3222231B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1F869-EF84-45DD-8AAC-F2E6495F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9AB3F-CB6D-4744-8352-87721684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C7BCB-05E1-4F0F-BBC2-A59FCC4F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55397-896B-4BD3-82E7-D050AC2B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B5130-58C6-4103-B485-8971B6CC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9F057-916B-435A-9CBD-0D212D45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1F42C-BD46-4A74-A7FE-F6D6E68C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7CC60-5C5B-4371-BD0F-28D5BD7D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7BC72-0C16-4E78-9A55-A32A0FDA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842-2489-4B77-A1AE-F34B9C94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0C5EC-8F62-4858-9D8E-3222F6A9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C0F11-25FE-4439-A6C9-024E1A57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3F60B-DB47-40FF-B728-6AC65A37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34AFA-E35E-4CE2-B977-0E8F002E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D695E-B60B-4361-B8C1-47BFED5C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BF8EC-AEAA-432A-8655-878AD860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DCBD5-EF84-4C30-B978-B4B791B4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6FE95-2356-4A19-AA51-C6D82261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20EC1-3A7A-4C93-9F4E-47FCE681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EF60E-E514-4593-95CC-11D3BD93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C15-28DB-4B78-B5CA-8ADF5E33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D85DB-3BAF-4400-A8E8-8EF87E29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CA2CB-69E4-4E06-980C-9BA55F39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85999-6887-4796-B49F-F5A0DE5D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E71D9-2404-43F4-A4D3-279F57E4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6080F-08CD-4526-989C-8AB5D5F3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35D69-8EB3-4682-8784-786AA91A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BD242-8FB7-4B19-BE05-4BC465FF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56DA2-35B6-402E-8D10-8246F7BB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D6183-85CF-4CCC-A310-86519DAF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9C5B6-D3E0-4860-A025-04B17FAA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A6D-7CF6-47D4-81FC-66C5DA26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AA706-0C1B-4339-B266-E12F88B0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73893-A2BC-4D77-8DEC-771897ED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8DD2A-A8A9-44D2-84FA-699BA7A2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CCE-A3E1-48A0-B2A1-D822DB54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1BB-8429-4918-A058-2623F106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333D-D87E-4E4A-8424-EA0E95E7B5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3360-0E1D-45CF-B671-42F1FB72FD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0A29-B677-4BE7-8046-FDECCF68658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80E0-C9E0-4A29-A5C9-CE1535911EC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DAF8-495F-4EFB-9BDB-30388922C131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B700-49FC-4C1B-BF59-4B33FA15934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22093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复合句中，修饰某个名词或代词的从句称为定语从句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The Attributive Clause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被定语从句所修饰的名词或代词叫先行词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ntecedent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049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楷体_GB2312"/>
              </a:rPr>
              <a:t>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楷体_GB2312"/>
              </a:rPr>
              <a:t>The Attributive Clause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57360" y="1947960"/>
            <a:ext cx="7731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86240" y="1052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</a:rPr>
              <a:t>先行词和关系词的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96240" y="1947960"/>
            <a:ext cx="7652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                                         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60840" y="4076640"/>
            <a:ext cx="2387520" cy="9471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82920" y="4076640"/>
            <a:ext cx="2089080" cy="647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ahoma"/>
              </a:rPr>
              <a:t>a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96240" y="1947960"/>
            <a:ext cx="7652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                                         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82920" y="4076640"/>
            <a:ext cx="2089080" cy="647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ahoma"/>
              </a:rPr>
              <a:t>a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95840" y="4226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00440" y="4149720"/>
            <a:ext cx="22366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at 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198900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19520" y="422100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5932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204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5520" y="1989000"/>
            <a:ext cx="7607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2260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9760" y="1989000"/>
            <a:ext cx="7514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1932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9760" y="1989000"/>
            <a:ext cx="7514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3680" y="422100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引导定语从句的关系代词有：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who , whom , whose , that , whic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系代词的作用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连接定语从句的主句和从句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指代先行词 ，并在从句中充当主语、宾语或定语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8800" y="1989000"/>
            <a:ext cx="81925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that / who we saw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50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95280" y="2708280"/>
          <a:ext cx="7921800" cy="288756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4360"/>
                <a:gridCol w="1584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宾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28720" y="20462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代词在从句中可以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18960" y="580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何时可以省略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50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95280" y="2708280"/>
          <a:ext cx="7921800" cy="288756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4360"/>
                <a:gridCol w="1584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宾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54200" y="3354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3712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9840" y="33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3420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3712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2148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420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8112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340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6528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292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56000" y="3925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45018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24360" y="5149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40360" y="51494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28720" y="20462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代词在从句中可以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8960" y="580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何时可以省略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0240" y="6237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做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宾语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时可以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68280" y="10638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3400" y="1844640"/>
            <a:ext cx="9096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ggs were not fresh. I bought them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The friend was not hungry. He came to supper last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He prefers the cheese. It comes from his parent’s fa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The noodles were delicious. You cooked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I don’t like the people. They smoke a 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1760" y="2276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gg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that/which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 bought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ere not fres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6680" y="3137040"/>
            <a:ext cx="104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frie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/ 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ame to supper last night was not hungr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8480" y="3989520"/>
            <a:ext cx="104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 prefers the chees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 / which 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comes from his parent’s fa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9600" y="4869000"/>
            <a:ext cx="901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noodl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which/ that 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cook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ere delici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5200" y="5657760"/>
            <a:ext cx="77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don’t like the peopl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 / who the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moke a 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2349360"/>
            <a:ext cx="86364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64000" y="3284640"/>
            <a:ext cx="43164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80000" y="4076640"/>
            <a:ext cx="43200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56360" y="4941720"/>
            <a:ext cx="79200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35640" y="5734080"/>
            <a:ext cx="79200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231000" y="10638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副词和先行词的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5000" y="2133720"/>
            <a:ext cx="913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still rememb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da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came 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hou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r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ived last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re are man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ople like trave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don’t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wa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sp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50360" y="2565360"/>
            <a:ext cx="33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day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6640" y="3429000"/>
            <a:ext cx="37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house=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87800" y="4292640"/>
            <a:ext cx="39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reasons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53320" y="5229360"/>
            <a:ext cx="30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way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5640" y="5877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副词实际上是介词＋先行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先行词为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tuation, case, point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时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, using whe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you think of a situation where you can use the wor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5640" y="1700280"/>
            <a:ext cx="9850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’ll never forget the days______________ 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ork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I’ll never forget the days ___________ 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I went to the place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ork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n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I went to the place _____________ 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isi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n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This is the reason _____________________ he was l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 reason _____________________ 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a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87960" y="162864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 /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60120" y="2565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95960" y="335772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/ 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10800" y="427824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1880" y="50706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y/ for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0160" y="59342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几种易混的情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9160" y="2997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41520" y="465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65520" y="640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难用的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wh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eacher praised the student. His English is the best in our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933720"/>
            <a:ext cx="90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eacher praised the studen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English 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best in our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7360" y="2133720"/>
            <a:ext cx="56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Join the following pair of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33920" y="4724280"/>
            <a:ext cx="39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 =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tuden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5300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实际上是先行词的所有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难用的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wh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9280" y="2565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is mine. The window of the house is bro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7360" y="2133720"/>
            <a:ext cx="56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Join the following pair of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200" y="3573360"/>
            <a:ext cx="79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indow is broken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13000" y="413388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=the house’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6400" y="5157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                                                  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4941720"/>
            <a:ext cx="432000" cy="1079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0" y="4700520"/>
            <a:ext cx="48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he window of which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bro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0360" y="5734080"/>
            <a:ext cx="48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f which the window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bro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08000" y="981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-51120" y="2997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77280" y="17478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0" y="4221000"/>
          <a:ext cx="8280360" cy="252720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否省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翻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非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8394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o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visited our school yesterday is Mr Brow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bo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saw yesterday is Jack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i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o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 went to school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908000" y="981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-51120" y="2997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77280" y="17478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0" y="4221000"/>
          <a:ext cx="8280360" cy="252720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翻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非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"/>
          <p:cNvSpPr/>
          <p:nvPr/>
        </p:nvSpPr>
        <p:spPr>
          <a:xfrm>
            <a:off x="1692360" y="602136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插入成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11880" y="5141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修饰限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62560" y="6078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补充解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08360" y="609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36720" y="50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不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38640" y="5084640"/>
            <a:ext cx="8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5289840" y="4292640"/>
            <a:ext cx="1034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能否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8388360" y="6435720"/>
            <a:ext cx="433440" cy="422280"/>
          </a:xfrm>
          <a:custGeom>
            <a:avLst/>
            <a:gdLst>
              <a:gd name="textAreaLeft" fmla="*/ 27360 w 433440"/>
              <a:gd name="textAreaRight" fmla="*/ 406080 w 4334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2170" h="21600">
                <a:moveTo>
                  <a:pt x="0" y="0"/>
                </a:moveTo>
                <a:lnTo>
                  <a:pt x="22170" y="0"/>
                </a:lnTo>
                <a:lnTo>
                  <a:pt x="22170" y="21600"/>
                </a:lnTo>
                <a:lnTo>
                  <a:pt x="0" y="21600"/>
                </a:lnTo>
                <a:close/>
              </a:path>
              <a:path fill="lightenLess" w="22170" h="21600">
                <a:moveTo>
                  <a:pt x="0" y="0"/>
                </a:moveTo>
                <a:lnTo>
                  <a:pt x="22170" y="0"/>
                </a:lnTo>
                <a:lnTo>
                  <a:pt x="20770" y="1400"/>
                </a:lnTo>
                <a:lnTo>
                  <a:pt x="1400" y="1400"/>
                </a:lnTo>
                <a:close/>
              </a:path>
              <a:path fill="darken" w="22170" h="21600">
                <a:moveTo>
                  <a:pt x="22170" y="0"/>
                </a:moveTo>
                <a:lnTo>
                  <a:pt x="22170" y="21600"/>
                </a:lnTo>
                <a:lnTo>
                  <a:pt x="20770" y="20200"/>
                </a:lnTo>
                <a:lnTo>
                  <a:pt x="20770" y="1400"/>
                </a:lnTo>
                <a:close/>
              </a:path>
              <a:path fill="darkenLess" w="22170" h="21600">
                <a:moveTo>
                  <a:pt x="22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0" y="20200"/>
                </a:lnTo>
                <a:close/>
              </a:path>
              <a:path fill="lighten" w="22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0" h="21600">
                <a:moveTo>
                  <a:pt x="4079" y="3794"/>
                </a:moveTo>
                <a:lnTo>
                  <a:pt x="18092" y="10800"/>
                </a:lnTo>
                <a:lnTo>
                  <a:pt x="407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63640" y="2060640"/>
            <a:ext cx="223200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35280" y="2637000"/>
            <a:ext cx="1944720" cy="5029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547640" y="1197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分析两种定语从句省略后的结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099800" y="2565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87640" y="2565360"/>
            <a:ext cx="2087640" cy="4334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68360" y="3068640"/>
            <a:ext cx="2087640" cy="4334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547640" y="1197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分析两种定语从句省略后的结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797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限制性定语从句省略后主语所指就不明确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所以不能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187280" y="98100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和单句的比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5760" y="3213000"/>
            <a:ext cx="84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He failed in the exam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_______ made his parents ang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He failed in the exam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_______made his parents ang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0400" y="5157720"/>
            <a:ext cx="74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He has two so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Both of ________ are teach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He has two so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both of ________ are teach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89480" y="32130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58080" y="35733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512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90160" y="5445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788000" y="508464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440" y="400536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9520" y="2708280"/>
            <a:ext cx="85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I am reading Harry Porter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_____is an interesting bo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5960" y="263700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59500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He has two sons, both of them teac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0920" y="4437000"/>
            <a:ext cx="95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failed in the exam and this made his parents ang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2060640"/>
            <a:ext cx="79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.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,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_____ is known to all, the earth is 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______ is known to all </a:t>
            </a:r>
            <a:r>
              <a:rPr b="1" i="1" lang="en-US" sz="2800" spc="-1" strike="noStrike">
                <a:solidFill>
                  <a:srgbClr val="1c1c1c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82040" y="204624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12320" y="2770200"/>
            <a:ext cx="124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/ as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2880" y="3773520"/>
            <a:ext cx="60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3120" y="463860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522936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具有正如之意，与之搭配的动词一般是固定的，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know/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see/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e planned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1280" y="42782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定语从句在句首时只能用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非限制性定语从句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隶书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5640" y="2708280"/>
            <a:ext cx="570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the same pen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the same p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14040" y="1916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42920" y="341640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和我丢的那本一模一样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74720" y="4581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就是我丢的那本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限制性定语从句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隶书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5760" y="2565360"/>
            <a:ext cx="869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 interesting book ____ we all li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nteresting a book _____ we all li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 interesting book ____we all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interesting a book ____we all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2549520"/>
            <a:ext cx="5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58640" y="4205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6040" y="1916280"/>
            <a:ext cx="85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lete the following sentences and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648400" y="2981160"/>
            <a:ext cx="5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84080" y="47102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94000" y="358632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是大家都喜欢的如此有趣的一本书。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定语从句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66800" y="531324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如此有趣，大家都喜欢。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结果状语从句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3320" y="2565360"/>
            <a:ext cx="909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m  you spoke     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7856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0220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5.08553E-006 C 0.00087 -0.02472 0.00173 -0.04923 -0.01788 -0.06194 C -0.0375 -0.07466 -0.08646 -0.07373 -0.11788 -0.07674 C -0.14931 -0.07974 -0.17604 -0.07974 -0.20677 -0.07974 C -0.2375 -0.07974 -0.27604 -0.0772 -0.30226 -0.07674 C -0.32847 -0.07627 -0.34566 -0.08251 -0.36459 -0.07674 C -0.38351 -0.07096 -0.40573 -0.05454 -0.41563 -0.04137 C -0.42552 -0.02819 -0.42257 -0.00531 -0.42448 0.003 E">
                                      <p:cBhvr>
                                        <p:cTn id="402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0069 C -0.00729 -0.01203 -0.01441 -0.02451 -0.02448 -0.0319 C -0.03455 -0.0393 -0.04878 -0.04115 -0.05989 -0.04369 C -0.07101 -0.04624 -0.08073 -0.04577 -0.09114 -0.0467 C -0.10156 -0.04762 -0.10972 -0.0497 -0.12222 -0.0497 C -0.13472 -0.0497 -0.15295 -0.0467 -0.16667 -0.0467 C -0.18038 -0.0467 -0.19323 -0.04924 -0.20434 -0.0497 C -0.21545 -0.05017 -0.22292 -0.05017 -0.23333 -0.0497 C -0.24375 -0.04924 -0.25417 -0.04716 -0.26667 -0.0467 C -0.27917 -0.04624 -0.2967 -0.0467 -0.30885 -0.0467 C -0.32101 -0.0467 -0.33212 -0.04855 -0.33993 -0.0467 C -0.34774 -0.04485 -0.35156 -0.03976 -0.35555 -0.03491 C -0.35955 -0.03006 -0.3618 -0.02312 -0.36441 -0.01711 C -0.36701 -0.0111 -0.36996 -0.0037 -0.37101 0.00069 E">
                                      <p:cBhvr>
                                        <p:cTn id="406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612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9616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995840" y="104292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44220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54920" y="299736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om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you are going to visit is a famous writ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you me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perso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bout who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e was speaking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6256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9128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3384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0692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6220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4620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6220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4620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40000" y="25059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57000" y="3357000"/>
            <a:ext cx="5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44226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可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who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不能用与介词之后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995840" y="104292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249228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s this the watch that you ar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looking fo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old man whom I am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looking aft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tter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7840" y="480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8360" y="44226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固定短语中介词不能提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are for, call on, put off, listen to, look for, look af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6640" y="1916280"/>
            <a:ext cx="25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下面两句中的介词能提前吗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-1112760"/>
            <a:ext cx="9144000" cy="90835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-1035000"/>
            <a:ext cx="9144000" cy="7893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92400" y="47628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you like the book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e spent $10?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e paid $10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e learned a lot?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e often talk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  He built a telescop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e could study the sk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There is a tall tree outside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tands our teac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  China has a lot of rivers, the second longest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 Yellow Riv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The tower _______             people can have a good vie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on the hi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The man ________ I spoke on the phone last n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very good at wrestl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He paid the boy $10 for washing ten window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______        hadn’t been cleaned for at least a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88640" y="4572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81080" y="8110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781080" y="11430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om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96560" y="15238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out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78920" y="190512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rough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67800" y="227664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nder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45440" y="26668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52000" y="340344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om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39040" y="412416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 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51240" y="52293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89480" y="0"/>
            <a:ext cx="402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     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-10440" y="1881360"/>
            <a:ext cx="9268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He did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all / everyth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_______he could to help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This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very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ng _______ I am af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We talked about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men and the thing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_______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remembered at scho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He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on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an _______ can do the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.This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fir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ing _______ I want to s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.He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fine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an _______ I have ever work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s the man _______ spoke to you at the g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Whic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s the star _______ is nearest to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54160" y="1049400"/>
            <a:ext cx="37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 , which or wh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>
            <a:hlinkClick r:id="rId1" action="ppaction://hlinksldjump"/>
          </p:cNvPr>
          <p:cNvSpPr/>
          <p:nvPr/>
        </p:nvSpPr>
        <p:spPr>
          <a:xfrm>
            <a:off x="4573800" y="197316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>
            <a:hlinkClick r:id="rId2" action="ppaction://hlinksldjump"/>
          </p:cNvPr>
          <p:cNvSpPr/>
          <p:nvPr/>
        </p:nvSpPr>
        <p:spPr>
          <a:xfrm>
            <a:off x="4567320" y="2492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>
            <a:hlinkClick r:id="rId3" action="ppaction://hlinksldjump"/>
          </p:cNvPr>
          <p:cNvSpPr/>
          <p:nvPr/>
        </p:nvSpPr>
        <p:spPr>
          <a:xfrm>
            <a:off x="7453440" y="2924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97440" y="38606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213440" y="4422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>
            <a:hlinkClick r:id="rId4" action="ppaction://hlinksldjump"/>
          </p:cNvPr>
          <p:cNvSpPr/>
          <p:nvPr/>
        </p:nvSpPr>
        <p:spPr>
          <a:xfrm>
            <a:off x="4206960" y="48690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65800" y="5862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>
            <a:hlinkClick r:id="rId5" action="ppaction://hlinksldjump"/>
          </p:cNvPr>
          <p:cNvSpPr/>
          <p:nvPr/>
        </p:nvSpPr>
        <p:spPr>
          <a:xfrm>
            <a:off x="3565800" y="63658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47840" y="33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97160" y="1049400"/>
            <a:ext cx="62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 , which ,whose, whom or wh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9400" y="2205000"/>
            <a:ext cx="981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.Is there anything el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 want to s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.Any pers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s the money can join the grou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1.He often speaks the role he played in the pla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de others up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2.He opened the door, in front o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t a bo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3.The man t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 spoke is a famous scienti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.The bo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ther is dead was brought u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y his fa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02520" y="22050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61080" y="27655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>
            <a:hlinkClick r:id="rId1" action="ppaction://hlinksldjump"/>
          </p:cNvPr>
          <p:cNvSpPr/>
          <p:nvPr/>
        </p:nvSpPr>
        <p:spPr>
          <a:xfrm>
            <a:off x="250920" y="364500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>
            <a:hlinkClick r:id="rId2" action="ppaction://hlinksldjump"/>
          </p:cNvPr>
          <p:cNvSpPr/>
          <p:nvPr/>
        </p:nvSpPr>
        <p:spPr>
          <a:xfrm>
            <a:off x="6227640" y="4149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74520" y="46530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41800" y="51577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7308720" y="6058080"/>
            <a:ext cx="122400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525960" y="2997360"/>
            <a:ext cx="729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是不定代词时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如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ll ,few, little, much,  every, something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nything, everything,  none, one, any,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84360" y="479736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nything that I can do for you in tow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50920" y="292428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被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e only, the very, the sam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ittle, few, no, any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等修饰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1280" y="429264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only film I find interes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at    </a:t>
            </a:r>
            <a:r>
              <a:rPr b="0" i="1" lang="en-US" sz="4800" spc="-1" strike="noStrike">
                <a:solidFill>
                  <a:srgbClr val="ff0033"/>
                </a:solidFill>
                <a:latin typeface="Arial"/>
              </a:rPr>
              <a:t>(people</a:t>
            </a:r>
            <a:r>
              <a:rPr b="0" i="1" lang="zh-CN" sz="48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’s ask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reading the book over ther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gir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saw yesterday is Jim’s sist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人和物合做先行词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16000" y="3357720"/>
            <a:ext cx="54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alked about the teachers and schools that he had visi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被序数词或形容词最高级修饰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476360" y="1120680"/>
            <a:ext cx="56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16000" y="4067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best film that I’ve ever s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76360" y="5013360"/>
            <a:ext cx="590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87280" y="4581360"/>
            <a:ext cx="60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first place that I visited last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疑问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ich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at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开头的句子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76360" y="1120680"/>
            <a:ext cx="56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258920" y="3933720"/>
            <a:ext cx="51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the man that is speaking over t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关系代词在从句中作表语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1258920" y="342900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no longer the boy that he was 10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非限制性定语从句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284200" y="1120680"/>
            <a:ext cx="43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ich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11280" y="2852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介词后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304360" y="1120680"/>
            <a:ext cx="42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ich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16000" y="3573360"/>
            <a:ext cx="698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that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in which we live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which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先行词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ose, he, she , anyone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等代词表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关系代词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般不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ose who want to go there must be at the school gate by 7:00 p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who doesn’t reach the Great Wall is not a true m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762120" y="685800"/>
            <a:ext cx="769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结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有下列情况时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通常 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hat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而  不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是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ll, something, much,  little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不定代词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前有序数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形容词最高级或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no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ny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词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先行词前有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he last,the very, the only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如果先行词中既含有表示人的名词又有表示物的名词时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4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若主句中有疑问代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o,which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为了避免重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关系代词不要再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o,whi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79280" y="2048400"/>
            <a:ext cx="856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 I know the reason 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 he came l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Do you know the woman, _______son went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ollege las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he house _______ color is red is john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 This is the best film 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 I’ve ever s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00720" y="10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02280" y="256536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767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76720" y="289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240440" y="4005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81200" y="350028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04560" y="197964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9280" y="1803960"/>
            <a:ext cx="85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. That’s the town 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 he worked in 198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. I have 2 brothers, 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 are both soldi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7. Next week, 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 you’ll spend in yo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metown ,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. I’ve tried 2 pairs of shoes, neither of 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its me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00720" y="10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289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70760" y="177336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51720" y="227664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68960" y="3789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92240" y="2781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at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0033"/>
                </a:solidFill>
                <a:latin typeface="Arial"/>
              </a:rPr>
              <a:t>(things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plane i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 machin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cake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 cooked were deliciou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95280" y="432360"/>
            <a:ext cx="834552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33cc"/>
              </a:buClr>
              <a:buFont typeface="Monotype Corsiv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Tell me the reason ____ you were late for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2. Who is the girl _____ is speaking ther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3. This is Mr. Smith, _____ has something interesting to tell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4. The computer ________ CPU doesn’t work has to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repai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466800" y="1413000"/>
            <a:ext cx="9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88080" y="2205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91360" y="306864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85920" y="422100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10960" y="464040"/>
            <a:ext cx="8933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5. This kind of computer, _____ is well-known 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is out of d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6. This is just the place ___ I’ve been long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o visit for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7. His mother is an engineer, ____ makes hi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very pro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8. The old man has 4 sons, three of ____ 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do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6560" y="549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00800" y="1989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11520" y="342900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27680" y="486900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99840" y="1484280"/>
            <a:ext cx="802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1.The earth is round, ____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1160" y="270828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2. ____ is known to all, the earth is 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195440" y="13809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345280" y="1380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80560" y="248292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8360" y="443700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 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具有“正如”之意，搭配的动词一般是固定的，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you know/ </a:t>
            </a: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you see/</a:t>
            </a: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we planned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w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89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836640"/>
            <a:ext cx="84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结论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: as ,which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均可引导非限制性定语从句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,as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引导的从句可以放在句首、句中、句末，有“如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正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之意， 与之连用的词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know, see, expect, announce, point out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等，常用被动结构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announced(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据宣布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reporte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据报道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expected(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正如所期待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料想的那样；不出所料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has been explaine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正如所解释的那样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04920" y="692280"/>
            <a:ext cx="8540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may be imagined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pointed out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has been said before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mentioned above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shown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known to all,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we all know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ich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引导的从句通常置句后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此外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the same…as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uch….as…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引导的是限制性定语从句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-24120" y="1052640"/>
            <a:ext cx="91796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1.I’ll never forget the days______________ we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work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ogeth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2.I’ll never forget the days ___________ we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spent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ogeth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3.I went to the place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                   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I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work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en years ag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4.I went to the place _____________ I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visit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en years ag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5.This is the reason _____________________ he was la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6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s is the reason _____________________ 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gav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83240" y="98100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 /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69440" y="1773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91240" y="256536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/ 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0160" y="33577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90520" y="42210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y/ for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34160" y="4941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8912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97120" y="39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49480" y="558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78360" y="331920"/>
            <a:ext cx="33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关系代词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?             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关系副词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591192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7. I’ll never forget the day ____ we visited the 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67280" y="5877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-108720" y="705240"/>
            <a:ext cx="9738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Difference Between “that” and “which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Complete the following sentences with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“that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r “which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s is the 2nd article ____ I have writt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in Engl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2. It is the best film _____ he has ever s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3. This is the very book _____ I want to r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4. All ____ they told me surprised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5. They talked about the teachers and schoo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_____ they had visi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32440" y="2637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26280" y="3573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32440" y="414504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32080" y="4581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36800" y="551664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-589320" y="1342440"/>
            <a:ext cx="1089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BatangChe"/>
              <a:buAutoNum type="arabicPeriod" startAt="9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He paid the boy $10 for washing the window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most of _______ hadn’t been cleaned at lea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a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10. The weather turned out to be very good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_______ was more than we could exp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11. The clever boy made a hole in the wall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through _______ he could see what was going 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       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inside the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300720" y="6018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315880" y="206064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71800" y="350028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71520" y="443700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12760" y="44280"/>
            <a:ext cx="893124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Correct mistakes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.I saw some trees leaves of which were black with diseas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在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leaves </a:t>
            </a: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前加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the 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2.Here is the pen you lost it yesterday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去掉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i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3.The girl told me the news is not here now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Adding “who” before tol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4.This is the village where my father worked in three  years   ag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①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Chang “where into “which”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②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omitted “i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9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9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3000" fill="hold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000" fill="hold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30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2000" fill="hold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2000" fill="hold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.The reason why he gave us sounded a little strang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hange” why” into “that/which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.He is the only one of the students who know  French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now” should be changed into “knows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7.I’ll never forget the day on which I spent with you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mit “on” or “on which” should be omitte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8.Which was planned, we met at the railway station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ich” should be changed into “as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9.This is the teacher with whom we’ve learnt a lo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ith” should be turned into “from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.Is this farm we visited last year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ding “the one” after thi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20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2000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2000" fill="hold"/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2000" fill="hold"/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8" dur="2000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ic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ook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ic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whit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fis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ich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bought were not fresh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The film brought the hours back to me ___I was taken good care of in that far-away villag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until   B. that   C. when  D. whe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___ is known to everybody, the moon travels round the earth once every month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It  B. As  C. That   D. Wh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orothy was always speaking highly of her role in the play, ___ , of course, made the others unhappy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who   B. which   C. this   D. what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11280" y="1197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26920" y="2637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64000" y="47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304920" y="259920"/>
            <a:ext cx="854064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介词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关系代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由先行词的习惯搭配或根据先行词的需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speed at which light travels is 300,000km  per secon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room in which there is a blackboard is their classroom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介词可能是从句谓语的一个部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或动词所需要的搭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on’t bring children to see the animals of which they are afrai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job at which they laughe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540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表示所有关系或整体的一部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用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ina has hundreds of islands, the largest of which is Taiwa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 have many friends, ___ some are busines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of them   B. from which   C. who of  D. of whom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ome, any, several, many, most, all, both, neither, none, half, one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等和形容词比较级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最高级之后接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whom / which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356000" y="2205000"/>
            <a:ext cx="100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242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North Island is famous for an area of hot springs, some of which throw hot water high into the air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re are altogether 11 books on the shelf, ___ five are min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on which   B. in which   C. of which  D. from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re are 2 buildings, ___ stands nearly 100 feet high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the larger  B. the larger of them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. the larger one that   D. the larger of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55640" y="2421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59280" y="39337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Fill in the blanks with “prep + whom/which” .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406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teacher ____ _______ I learnt most was Mrs. Zhu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hat’s the name of the sport _____ ______ you go in a boat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athematics is the subject ______  _______ I am most intereste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question ______  __________ we have had a discussio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house __________  _________ I was bor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03640" y="112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rom     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651640" y="3284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51640" y="328464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00720" y="43657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out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00720" y="5373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88000" y="213372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40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is is the pen ________  _______ I wrote the lett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 that the girl ________  ________ you lent your bicycle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ere is the address _______  _______ you should writ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se are the things _______  ________ I spoke just now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 that the fish _______  _______ you asked the waiter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427640" y="333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            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40360" y="162864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    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59280" y="2708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59280" y="37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out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35280" y="4869000"/>
            <a:ext cx="331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51280" y="4869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r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moon is a ball ______  _______ there are no living thing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ater is very important to fish, _______  _____ it can't liv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e love the village _______  _______ we work for two year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eter,______  ______ I played tennis on Sundays, was stronger than I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59280" y="1341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n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516720" y="2349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42920" y="292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0" y="3429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16360" y="4508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5406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man is in the next room. He brought us the letter yesterday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film is interesting. They saw it last nigh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pen is mine. He has taken it away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students will not pass the exam. They don’t work har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lady is our teacher. You saw her just now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00000" y="90792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man who brought us the letter yesterday is in the next 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71640" y="2349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film they saw last night is interes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26920" y="328464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pen he has taken away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4360" y="4581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students who don’t work hard will not pass the ex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26920" y="5950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lady who you saw just now is our teac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46836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The ma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who lives next to u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sells vegeta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16000" y="1916280"/>
            <a:ext cx="71280" cy="936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0840" y="3279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先行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924360" y="1916280"/>
            <a:ext cx="647640" cy="7207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403080" y="2727360"/>
            <a:ext cx="37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放置于名词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修饰名词的从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56000" y="1844640"/>
            <a:ext cx="144360" cy="23050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632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40056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19640" y="4076640"/>
            <a:ext cx="144360" cy="865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81120" y="3782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连接作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05280" y="3808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04560" y="481644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28080" y="47912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在从句中充当成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0664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1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72648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258920" y="1557360"/>
            <a:ext cx="431640" cy="374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04720" y="98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12400" y="90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代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620720" y="4940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72760" y="4935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副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348000" y="47628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44920" y="35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73120" y="331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44920" y="1287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73120" y="133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65440" y="2203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82520" y="2198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某一情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68560" y="351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941440" y="331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16360" y="763560"/>
            <a:ext cx="10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68720" y="7635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860720" y="13399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25080" y="1339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0" y="1359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633280" y="2224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003080" y="2224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651280" y="2637000"/>
            <a:ext cx="360360" cy="287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160240" y="2846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不能放于句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236000" y="2708280"/>
            <a:ext cx="72720" cy="1152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26520" y="3984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放于句中或句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57120" y="42926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正如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81080" y="4940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78520" y="4940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88000" y="5013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864800" y="17002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主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宾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91480" y="53722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状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rry is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o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mother is our maths teach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re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leaves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me tre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he leave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f whi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some trees,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f whi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he leaves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24000" y="3075120"/>
            <a:ext cx="85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Thank you for your attenda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（介词后置）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m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se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系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t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词后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词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ich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t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词后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se 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f which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066680"/>
            <a:ext cx="228600" cy="4496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7000 h 4496040"/>
              <a:gd name="textAreaBottom" fmla="*/ 4379040 h 449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533520"/>
            <a:ext cx="228600" cy="2574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6960 h 2574720"/>
              <a:gd name="textAreaBottom" fmla="*/ 2507760 h 257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4495680"/>
            <a:ext cx="228600" cy="1812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160 h 1812960"/>
              <a:gd name="textAreaBottom" fmla="*/ 1765800 h 181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5181480"/>
            <a:ext cx="1523880" cy="1451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2005-09-13T14:02:35Z</dcterms:modified>
  <cp:revision>25</cp:revision>
  <dc:subject/>
  <dc:title>PowerPoint Presentation</dc:title>
</cp:coreProperties>
</file>