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05E-78DA-4CEF-A846-A138BEFB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D1B-22E1-4224-B490-BC951890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EC7-DF38-482A-8BF1-20862CAC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DC1-CF2C-4D1B-A976-99084DA3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DAC2-4441-44AD-A09E-2314E4AA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FFD0-C8D4-407F-8C0D-9912C84D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8A35-2CB4-4ECF-AAC1-CFBDBC17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6464-9537-4EB7-878C-77AC4268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0614-B849-48E2-BD54-4685CF32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74B8-771F-47D1-85C4-FC860829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3DDA-E2E0-4DB3-B685-4028E675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EAA-F8FA-4677-B67A-626A1858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0994-7E74-4419-A56C-3315DFB2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0024-672E-4444-9ECE-748A45A9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2D75-1119-4BBD-B13C-2934E5E5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113F-B30D-409F-BCD9-A816D602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F31C-F55B-4044-8E6F-2C81FB26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D24-5BDB-4F5B-898F-7E6A3BD6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54C-58BA-4D8A-B421-C6A7821C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DD0-D6B7-41CB-9BBD-220C1A87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21C-A338-4181-9060-E902A65E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3E0-BF8F-4EF4-AC23-7FB880F4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8F4-583A-4AEE-9C47-B4E507C3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AB1-2E25-46B0-8E18-2F458E0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10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10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280160" indent="-182880">
              <a:spcBef>
                <a:spcPts val="100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62D1-CEA4-4875-9DB6-C145B0E3B4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3602-3BD6-4A0B-B30F-7F34E5B0D0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高三英语</a:t>
            </a:r>
            <a:br>
              <a:rPr sz="4800"/>
            </a:b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（一）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主讲：毕勤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听力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单项选择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完形填空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阅读理解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短文改错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书面表达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总计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5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，考试时间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20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分，近几年高考难度系数在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0.5~0.55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之间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学生应具备的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10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项能力要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①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应会识别词义、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注意发音，了解词义，注意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会分析句子的基本结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句子的大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理解句子的深层含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对句子的用语的了解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相同词汇在不同情景下的变化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一词多义，一词多种词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⑤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相同情景下使用不同词汇、句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注意句型的变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⑥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用英语的思维进行思考，表达自己一定的情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⑦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把语言的使用与情景、人、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人的社会身份相结合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⑧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了解东西方文化差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⑨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学会使用工具书（字典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⑩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学会自己学习英语，安排自己的学习内容和时间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备战高考时，首先要了解高考命题思路和命题原则，以及备战高考时的方法及策略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对英语产生兴趣，培养自己的自信心，对自己的目标确定合适，切实可行，掌握方法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如听，找对材料有意识地听，无意识地听结合起来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备战高考的方法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词汇表，带着一定的句子去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基本句型、常见试题，注意错题的积累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背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范文、小短文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使用好的句式进行书面表达，如新概念第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册中小短文，写作答案等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基本题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能力（听、读方面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针对自己的问题针对性地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不求第一次都对都会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但求第二次不错。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愈到考试时，降低难度，英语学习以练为主，以模仿为主，以理解为辅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高考的题型特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高考命题原则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ten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ish  Englis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认真学习考纲，以课本为依据，不拘泥于课本，明确了解大纲说明，注重能力培养，明确对题型分值要求的注释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以词汇表为主，对短语词汇有基本了解，参考教材，作为阅读材料、复习知识点的依据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2/3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题属于中等难题和容易题，按照自己水平安排复习思路和重点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中淡化语法知识，重在交际，对各部分考试有所了解，复习时既要重视语法又不能完全陷入语法框架中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单项填空四个考查要点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基本语法知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惯用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词语辨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情景交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ahoma"/>
              </a:rPr>
              <a:t>总复习的方法及策略</a:t>
            </a:r>
            <a:endParaRPr b="0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侧重能力的考核：思维能力、阅读能力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高考试卷比较稳定，有些变化，北京市命题，听力记入总分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2:42:52Z</dcterms:created>
  <dc:creator>shihui</dc:creator>
  <dc:description/>
  <dc:language>en-US</dc:language>
  <cp:lastModifiedBy>aoxiao33</cp:lastModifiedBy>
  <dcterms:modified xsi:type="dcterms:W3CDTF">2002-07-02T01:37:18Z</dcterms:modified>
  <cp:revision>150</cp:revision>
  <dc:subject/>
  <dc:title>高一化学</dc:title>
</cp:coreProperties>
</file>