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AC08-DD65-49F7-A5E9-3CD311C17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271C-9E22-4647-866E-FF6189085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2053-47DD-4027-B90F-7C7D4655E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0422-0017-48BE-92F1-BEDE468EE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38DD-68FA-4CEF-A866-4E25B5830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F128-6A73-4FA5-A6B6-F72469206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E5ED-97F8-4B12-9C5B-D7DB29E99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0FB8-4F2D-4A9A-9C3F-BA1E0F266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4230-5BAC-4D4E-9705-2145799BC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2B04-AA4F-49FA-840B-6C97832B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7CE0-3223-430B-BA28-ECD87DB4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68C6-C24A-4D57-9205-50CA71F2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55714-EB81-437A-B66F-066C3BF01B1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z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z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z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z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z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4T03:03:08Z</dcterms:created>
  <dc:creator>USER13</dc:creator>
  <dc:description/>
  <dc:language>en-US</dc:language>
  <cp:lastModifiedBy>USER13</cp:lastModifiedBy>
  <dcterms:modified xsi:type="dcterms:W3CDTF">2002-05-04T03:03:34Z</dcterms:modified>
  <cp:revision>1</cp:revision>
  <dc:subject/>
  <dc:title>PowerPoint 演示文稿</dc:title>
</cp:coreProperties>
</file>