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2F12-ED60-42E5-9A81-6A15C1720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2D35-66AB-411E-A520-ECC174A2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E6F0-3953-41B8-A31F-F7D45F55B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6A01-CCD8-416E-8D47-AB3E4EF55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6D70-BD98-42AE-BB3C-2A8CE606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F7BB-BFFD-4D5B-BCAC-6D7942D2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7CA9-EB78-4B0B-908B-DA34DCD9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D83C-44EF-4C7E-8D5F-5ED8F62B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894B-A1CF-4A03-92AF-9B21659F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714D-A503-49FE-A8B0-718E2D8A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3FCC-891F-4067-B1ED-0B8C6857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32B8-CA02-4223-8F85-0568C4A7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2632-99B8-49C0-9DDD-D18C1798BB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黑体"/>
                <a:ea typeface="黑体"/>
              </a:rPr>
              <a:t>           </a:t>
            </a:r>
            <a:r>
              <a:rPr b="1" lang="zh-CN" sz="4000" spc="-1" strike="noStrike">
                <a:solidFill>
                  <a:srgbClr val="cc3300"/>
                </a:solidFill>
                <a:latin typeface="黑体"/>
                <a:ea typeface="黑体"/>
              </a:rPr>
              <a:t>高考英语书面表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094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一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. 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如何写好高考英语作文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2193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做好英语书面表达应当把握好几个重要步骤：审题找点，连词成句和组句成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981080"/>
            <a:ext cx="8610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： 在日常生活中，因特网起着越来越重要的作用。请根据下表所提示为某英文报纸写一篇题为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n the Interne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征文稿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特网的主要用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7242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838080" y="4038480"/>
          <a:ext cx="7620120" cy="2619360"/>
        </p:xfrm>
        <a:graphic>
          <a:graphicData uri="http://schemas.openxmlformats.org/drawingml/2006/table">
            <a:tbl>
              <a:tblPr/>
              <a:tblGrid>
                <a:gridCol w="1219320"/>
                <a:gridCol w="6400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信   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看国内外新闻，获取其他信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通   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发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—mail ,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打电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学   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上网上学校，阅读各种书籍，自学外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娱   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欣赏音乐，观看体育比赛，玩棋牌游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生   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购物，聊天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1127160" y="5811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228600"/>
            <a:ext cx="8915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整篇文章中，避免只使用一两个句式，要灵活运用诸如倒装句，强调句，主从复合句，分词；状语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灵活地应用强调句。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38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33"/>
                </a:solidFill>
                <a:latin typeface="Times New Roman"/>
              </a:rPr>
              <a:t>〈修正〉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My parents praised Ah Fu warmly.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It was our brave Ah Fu who had saved my little sister bra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505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引导的从句，此处的相当于中文的“所……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很大的概括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257800"/>
            <a:ext cx="80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引导的短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52388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〈原文〉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My parents praised Ah Fu warmly. It had saved my little sister brav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96840" y="3886200"/>
            <a:ext cx="610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原文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e had to stand there to catch the offe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478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〈修正〉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at we had to do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was (to) stand there, trying to catch the offe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3920" y="5784840"/>
            <a:ext cx="86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sat in a chair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with a newspaper in the ha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词短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9907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倒装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600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省略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057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对比，这是中文中也常用的方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04812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过分词和合句，增强句子的连贯性和表现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atisfied with the 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he decided to go on with a new experi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9144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nly in this wa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an we achieve our go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14479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f so</a:t>
            </a: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, victory will be o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25146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hen I pla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I feel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xcit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fter 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 feel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relax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581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〈原文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He stopped us half an hour ago. He made us catch the next offe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343400"/>
            <a:ext cx="8763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〈修正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He stopped us half an hour ago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an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made us catch the next offe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2578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于“较复杂的词汇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从以下几个方面着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57150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用一些有“洋味”的单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60958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nk you for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haring the time with 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使用词组，习语来代替一些单词，以增加文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5335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 new railway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is being buil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in my homet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14300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修正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: A new railway is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cc3300"/>
                </a:solidFill>
                <a:latin typeface="Times New Roman"/>
              </a:rPr>
              <a:t>under construction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n my homet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7524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避免重复使用某一单词或短    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286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like reading while my brother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likes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atching T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819520"/>
            <a:ext cx="8915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修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like reading while my brother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enjoy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watching T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05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上列举的高分技巧需仔细研习，加强训练。强调的是，最好在没有错误的前提下作一些适当发挥。不要为了获取高分而挖空心思用大量华丽词藻去修饰，那样反而适得其反忽略主题。另外，如遇到一时难表达的要点，可采用变通的办法，绕道而行。应记住。同一意思有多种表达形式。总之，所造句子要得体，符合英美的表达习惯，避免汉语式英语，并要正确使用标点符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2286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492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3300"/>
                </a:solidFill>
                <a:latin typeface="Times New Roman"/>
              </a:rPr>
              <a:t>一。如何审题找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609480"/>
            <a:ext cx="89154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仔细审视试题中所提供的所说明及图表提供的信息，在脑子里形成总的构思（格式，人称，时态，体裁等），然后提炼要点如：根据上文题目中表格的提示，列出要点如下：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因特网起着重要作用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因特网可了解国内外新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获取信息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在因特网上发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e—mail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打电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在因特网上阅读各种书籍，上网上学校，自学外语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在因特网上欣赏音乐，观看体育比赛，玩棋牌游戏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在因特网上购物，聊天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因特网使人们生活更丰富多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6781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宋体"/>
              </a:rPr>
              <a:t>要点 </a:t>
            </a:r>
            <a:r>
              <a:rPr b="0" i="1" lang="zh-CN" sz="2400" spc="-1" strike="noStrike">
                <a:solidFill>
                  <a:srgbClr val="000000"/>
                </a:solidFill>
                <a:latin typeface="宋体"/>
              </a:rPr>
              <a:t>1:</a:t>
            </a:r>
            <a:r>
              <a:rPr b="1" i="1" lang="zh-CN" sz="2400" spc="-1" strike="noStrike">
                <a:solidFill>
                  <a:srgbClr val="cc3300"/>
                </a:solidFill>
                <a:latin typeface="宋体"/>
              </a:rPr>
              <a:t>因特网起着重要作用</a:t>
            </a:r>
            <a:r>
              <a:rPr b="0" i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5720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表达一</a:t>
            </a: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i="1" lang="zh-CN" sz="2800" spc="-1" strike="noStrike">
                <a:solidFill>
                  <a:srgbClr val="3333cc"/>
                </a:solidFill>
                <a:latin typeface="宋体"/>
              </a:rPr>
              <a:t>The Internet is playing a more and more important part in our dail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9528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表达二</a:t>
            </a: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i="1" lang="zh-CN" sz="2800" spc="-1" strike="noStrike">
                <a:solidFill>
                  <a:srgbClr val="660033"/>
                </a:solidFill>
                <a:latin typeface="宋体"/>
              </a:rPr>
              <a:t>The Internet is becoming more and more important in our dail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8600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表达三</a:t>
            </a: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Today the Internet takes a very important part in our dail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200400"/>
            <a:ext cx="8534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i="1" lang="zh-CN" sz="2400" spc="-1" strike="noStrike">
                <a:solidFill>
                  <a:srgbClr val="cc3300"/>
                </a:solidFill>
                <a:latin typeface="宋体"/>
              </a:rPr>
              <a:t>通过因特网可了解国内外新闻</a:t>
            </a:r>
            <a:r>
              <a:rPr b="1" i="1" lang="zh-CN" sz="2400" spc="-1" strike="noStrike">
                <a:solidFill>
                  <a:srgbClr val="cc3300"/>
                </a:solidFill>
                <a:latin typeface="宋体"/>
              </a:rPr>
              <a:t>,</a:t>
            </a:r>
            <a:r>
              <a:rPr b="1" i="1" lang="zh-CN" sz="2400" spc="-1" strike="noStrike">
                <a:solidFill>
                  <a:srgbClr val="cc3300"/>
                </a:solidFill>
                <a:latin typeface="宋体"/>
              </a:rPr>
              <a:t>获取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733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表达一</a:t>
            </a:r>
            <a:r>
              <a:rPr b="1" i="1" lang="zh-CN" sz="2400" spc="-1" strike="noStrike">
                <a:solidFill>
                  <a:srgbClr val="3333cc"/>
                </a:solidFill>
                <a:latin typeface="宋体"/>
              </a:rPr>
              <a:t>:On the Internet, we can learn news both at home and abroad and all kinds of other information as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572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表达二</a:t>
            </a:r>
            <a:r>
              <a:rPr b="0" i="1" lang="zh-CN" sz="2400" spc="-1" strike="noStrike">
                <a:solidFill>
                  <a:srgbClr val="660033"/>
                </a:solidFill>
                <a:latin typeface="宋体"/>
              </a:rPr>
              <a:t>:</a:t>
            </a:r>
            <a:r>
              <a:rPr b="1" i="1" lang="zh-CN" sz="2400" spc="-1" strike="noStrike">
                <a:solidFill>
                  <a:srgbClr val="660033"/>
                </a:solidFill>
                <a:latin typeface="宋体"/>
              </a:rPr>
              <a:t>On the Internet, we can get not only news from all over the world but also all kinds of other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486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表达三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:News both at home and abroad as well as all kinds of other information can be learn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可在因特网上发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e—mail,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打电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57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达一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:We can also send message by E—mail and make phone ca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447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达二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:It is very easy for us to send messages by E—mail and make telephone ca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590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达三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: To send message by E—mail and telephone others has become very easy for 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6576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可在因特网上阅读各种书籍，上网上学校，自学外语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1148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达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:We can go to on—line school, read various kinds of books and learn foreign languages by oursel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814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表达二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:On the net we can easily find various kinds of books to read, teach ourselves foreign languages and go to on—line sch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2206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可在因特网上欣赏音乐，观看体育比赛，玩棋牌游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83808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表达一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:We can enjoy music, watch sports or matches and play chess or cards on the 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182880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表达二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:Enjoying music, watching sports or matches and playing cards can be done on the 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3886200"/>
            <a:ext cx="8610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表达三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:It is possible for us to do shopping, have a chat with others and make friends with the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2819520"/>
            <a:ext cx="8305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在因特网上购物，聊天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34290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表达一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:We can even do shopping , have a chat with others and make friends with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51800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表达二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:Doing shopping, chatting with others and making friends with them can be carried out on the 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因特网使人们生活更丰富多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572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表达一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:The Internet has made our life more color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9907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表达二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:Our life has become more colorful as the result of the Inter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9051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表达三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:It is the Internet that has made our life more interes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二：如何连句成段，组句成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35268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一）：主题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题句是用来说明这一段的大意的。要写好一个段落，首先必须决定他写这段要表达些什么。主题句就是表明段落中心主旨的句子。例如，看了下面的三个主题句后，你可以预计该段作者要讨论什么问题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wning a car is expensive.         Going to college requires much more self-reliance than going to high school.    Spring is the most pleasant season of the year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像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 saw Mary last week.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样的句子似乎不能作为主题句来说明一段的中心思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):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语句间和段落间的连接—过渡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5720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过渡词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能起到连接句与句或段与段的中间媒介作用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如果使用得当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就可以使文章整篇书面表达顺畅自然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严密紧凑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295280"/>
            <a:ext cx="914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书面表达常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渡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章及段落起始的过渡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o begin wit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首先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generally speaking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总体上讲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first of all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首先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n the first plac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首先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666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章及段落结尾常用的过渡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therefore, thu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此                       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in conclusio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后  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in brief,  in a nutshel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简而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to sum u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总而言之  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in a wor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总之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809880"/>
            <a:ext cx="8686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见的表示先后次序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渡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first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一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econd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二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ex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次  然后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ventually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后 最终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ince then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此之后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fterwar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后 随后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eanwhil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时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for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而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mmediatel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立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56707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见的表示因果关系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渡词：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ccordingl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于是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or this reaso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于这个原因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s a resul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果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 this wa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样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以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ue to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于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for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而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cause of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为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u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28600"/>
            <a:ext cx="914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见的表示比较和对比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渡词：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 contrast wit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之相比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imilarly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样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herea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然而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 the contrary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ifferent from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……不同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qually importan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样重要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 the other han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另一方面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3623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33"/>
                </a:solidFill>
                <a:latin typeface="Times New Roman"/>
              </a:rPr>
              <a:t>六</a:t>
            </a:r>
            <a:r>
              <a:rPr b="0" lang="zh-CN" sz="2400" spc="-1" strike="noStrike">
                <a:solidFill>
                  <a:srgbClr val="660033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660033"/>
                </a:solidFill>
                <a:latin typeface="Times New Roman"/>
              </a:rPr>
              <a:t>常见的表示举例的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过渡词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for example (take…for example)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例如     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namely (that is)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即   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for instance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例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657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见的描写图表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渡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uring this time / the period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此期间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part from…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除了…之外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ompared wit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…相比较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rom the above tabl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上图所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105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八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常见的描写图表的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过渡词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:       furthermore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此外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lso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moreover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而且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besides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此外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n fact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实际上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ndeed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的确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gain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另外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n particula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尤其 特别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aturally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当然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自然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必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何连词成句： 近几年来，高考作文要求在词法上，尽可能地应用已学过的而且比较熟练的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词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短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成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要在使用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非谓语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副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词语活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方面多用笔墨；句法句式上，要求变换各种句式，如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强调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400" spc="-1" strike="noStrike" u="sng">
                <a:solidFill>
                  <a:srgbClr val="000066"/>
                </a:solidFill>
                <a:uFillTx/>
                <a:latin typeface="Times New Roman"/>
              </a:rPr>
              <a:t>倒装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感叹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省略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各种从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固定句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，以及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长句和短句的交错使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905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因此要想得高分，除了要点和语言准确度以外，还必须在较复杂的句子结构和词汇上有所表现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句式单一</a:t>
            </a: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缺乏生气的文章</a:t>
            </a: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哪怕没有任何错误也不可能得高分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。</a:t>
            </a: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相反“有些错误，但是为了使用较复杂结构或较高级词汇所 致 ”。给分档次仍在最高档（</a:t>
            </a: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21—25</a:t>
            </a: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50532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于增加句子的复杂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从以下几个方面着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改变句子的开头方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要一味地都是主语开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着是谓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后再加一个状语。可以把</a:t>
            </a: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状语置于句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或</a:t>
            </a: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用分词做状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。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715000"/>
            <a:ext cx="8915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修正） </a:t>
            </a:r>
            <a:r>
              <a:rPr b="1" i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Early in the morn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e met at the school gate and went there together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4800600"/>
            <a:ext cx="7467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原文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e met at the school gate and went there together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arly in the mo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7T14:21:52Z</dcterms:created>
  <dc:creator>杨</dc:creator>
  <dc:description/>
  <dc:language>en-US</dc:language>
  <cp:lastModifiedBy>紫中</cp:lastModifiedBy>
  <dcterms:modified xsi:type="dcterms:W3CDTF">2004-09-29T02:15:33Z</dcterms:modified>
  <cp:revision>10</cp:revision>
  <dc:subject/>
  <dc:title>PowerPoint 演示文稿</dc:title>
</cp:coreProperties>
</file>