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media/image10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E673-646A-4F5B-8196-1080FCB05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1118E-8567-4125-B0F2-6D6C5FA8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B7CD-0CBB-4439-94B1-1654D1B19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545A-95B6-48D7-B2B5-4AA63EDC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F3368-E014-4D4A-8E16-16F8D1E8F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17E1-96D1-463D-BC14-BB9264C6C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75A05-B67D-4EE8-B22A-35AF96149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545-B17E-45AF-B3B1-1547D33E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96D00-7988-4CE1-B347-885D132D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336F-4F92-4D7B-ACD3-27A030FD2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9AB42-CA71-4AC5-A94B-1D7CC89D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AAE9-6FAB-4912-AA65-059D714C7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A625C-F0EA-4B8A-9CA6-7CA1789F159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6.xml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gb3u2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362320" y="1600200"/>
            <a:ext cx="502920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00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Unit 2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  </a:t>
            </a:r>
            <a:r>
              <a:rPr b="1" lang="en-US" sz="4000" spc="1" strike="noStrike">
                <a:ln w="936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c0c0c0"/>
                  </a:outerShdw>
                </a:effectLst>
                <a:latin typeface="隶书"/>
              </a:rPr>
              <a:t>Captain Cook</a:t>
            </a:r>
            <a:endParaRPr b="1" lang="en-US" sz="4000" spc="1" strike="noStrike">
              <a:ln w="9360">
                <a:solidFill>
                  <a:srgbClr val="333399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11360" y="0"/>
            <a:ext cx="839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Step 2 New wo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685800"/>
            <a:ext cx="9144000" cy="65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erchant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1)adj. of business    e.g -----a merchant 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n. a businessman  e.g :My father is a mercha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exis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vi.To have actual being; be real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实际存在；真实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e.g:Dinosaur(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恐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)no longer exists on the earth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1)adj. more important than others;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要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---major fo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) vi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主修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ll of you 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major 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poli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plain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1) adj.  ordinary,simple,clear--- a plain fact/a plain girl      2)n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平原；旷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211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New wo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533520"/>
            <a:ext cx="914400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hart  1)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海图；水路图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图；图表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---a weather 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vt. To make a chart of.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绘制…的图表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iscuit----n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饼干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小点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efend---vt. Protect—e.g:It’s our duty to defend our countr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eize-----vt. Catch sth tightly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捉，抓；掠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thief was seized by the pol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Venus---n.another planet of the sun.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罗神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维纳斯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, [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]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金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228600"/>
            <a:ext cx="7086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3 Reading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ithin 2-3 min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1523880"/>
            <a:ext cx="883908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swer the question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.In which war did Cook play an important par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.Why did Cook go on his journey to the Pacific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971800"/>
            <a:ext cx="815328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Seven Years War, and the battle of Quebec in Canada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04920" y="510552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o see Venus passing between the earth and the sun, and to look for a new continent in the India/Pacific Ocean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9a0972b96468347a98cbb25b88990e0d%5B1%5D" descr=""/>
          <p:cNvPicPr/>
          <p:nvPr/>
        </p:nvPicPr>
        <p:blipFill>
          <a:blip r:embed="rId1"/>
          <a:stretch/>
        </p:blipFill>
        <p:spPr>
          <a:xfrm>
            <a:off x="7543800" y="0"/>
            <a:ext cx="16002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0" y="304920"/>
            <a:ext cx="7315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tep 4 Reading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0" y="990720"/>
            <a:ext cx="845820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ad the text once again, and divide the text into several parts, summarizing the main idea for each par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2514600"/>
            <a:ext cx="23619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1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2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t3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19320" y="2496960"/>
            <a:ext cx="7924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(Para 1) A brief introduction about Captain Cook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657600"/>
            <a:ext cx="76201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para2)  The Seven Years War between Britain and France..(the French was defeated 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4876920"/>
            <a:ext cx="754380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(para3-6) The expedition to the South Pacific Ocean.(to watch a very unusual Event, the planet Venus passing between the earth and the su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10011a" descr=""/>
          <p:cNvPicPr/>
          <p:nvPr/>
        </p:nvPicPr>
        <p:blipFill>
          <a:blip r:embed="rId1"/>
          <a:stretch/>
        </p:blipFill>
        <p:spPr>
          <a:xfrm>
            <a:off x="8001000" y="0"/>
            <a:ext cx="1143000" cy="14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0" y="457200"/>
            <a:ext cx="72388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5  T or F ques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1371600"/>
            <a:ext cx="815328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.James cook was a great English scienti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Britain and France were in peace in 175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3.Cook went up and down the St Lawrence river in order to find a safe path for the warships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4.The </a:t>
            </a:r>
            <a:r>
              <a:rPr b="1" i="1" lang="zh-CN" sz="3200" spc="-1" strike="noStrike">
                <a:solidFill>
                  <a:srgbClr val="000000"/>
                </a:solidFill>
                <a:latin typeface="Times New Roman"/>
              </a:rPr>
              <a:t>Endeavoure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was a fast, strongly-built merchant shi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24680" y="1295280"/>
            <a:ext cx="1828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077320" y="20574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623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50292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F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10068a" descr=""/>
          <p:cNvPicPr/>
          <p:nvPr/>
        </p:nvPicPr>
        <p:blipFill>
          <a:blip r:embed="rId1"/>
          <a:stretch/>
        </p:blipFill>
        <p:spPr>
          <a:xfrm>
            <a:off x="3429000" y="5726160"/>
            <a:ext cx="285768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380880" y="533520"/>
            <a:ext cx="8763120" cy="60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In the text the author mainly talks about Captain Cook’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. contribution to English navy during the Seven Years W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Sailing to the east of Ame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Expedition to the South Pacific Oce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Both A and 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12" descr="12.gif (59147 bytes)"/>
          <p:cNvPicPr/>
          <p:nvPr/>
        </p:nvPicPr>
        <p:blipFill>
          <a:blip r:embed="rId1"/>
          <a:stretch/>
        </p:blipFill>
        <p:spPr>
          <a:xfrm>
            <a:off x="304920" y="449568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457200" y="380880"/>
            <a:ext cx="8686800" cy="65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The word “particularly” means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especially              B.exactly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partially                 D.practic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James Cook owed his education to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a stranger                B.a teacher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a landowner             D.his par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Cook joined a_____ at the age of  1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merchant ship               B. 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fishing ship                    D.bo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12" descr="12.gif (59147 bytes)"/>
          <p:cNvPicPr/>
          <p:nvPr/>
        </p:nvPicPr>
        <p:blipFill>
          <a:blip r:embed="rId1"/>
          <a:stretch/>
        </p:blipFill>
        <p:spPr>
          <a:xfrm>
            <a:off x="762120" y="1219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14" name="12" descr="12.gif (59147 bytes)"/>
          <p:cNvPicPr/>
          <p:nvPr/>
        </p:nvPicPr>
        <p:blipFill>
          <a:blip r:embed="rId2"/>
          <a:stretch/>
        </p:blipFill>
        <p:spPr>
          <a:xfrm>
            <a:off x="838080" y="411480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5" name="12" descr="12.gif (59147 bytes)"/>
          <p:cNvPicPr/>
          <p:nvPr/>
        </p:nvPicPr>
        <p:blipFill>
          <a:blip r:embed="rId3"/>
          <a:stretch/>
        </p:blipFill>
        <p:spPr>
          <a:xfrm>
            <a:off x="762120" y="5562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2280" y="457200"/>
            <a:ext cx="883944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What does the word “exist” mean in the t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ntinue to live        B.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have                           D. b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Paragraph 2 is mainly about______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even Years War between Britain and F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joining the nav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contribution to English navy during the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ook’s fighting in Cana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12" descr="12.gif (59147 bytes)"/>
          <p:cNvPicPr/>
          <p:nvPr/>
        </p:nvPicPr>
        <p:blipFill>
          <a:blip r:embed="rId1"/>
          <a:stretch/>
        </p:blipFill>
        <p:spPr>
          <a:xfrm>
            <a:off x="4038480" y="19051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118" name="12" descr="12.gif (59147 bytes)"/>
          <p:cNvPicPr/>
          <p:nvPr/>
        </p:nvPicPr>
        <p:blipFill>
          <a:blip r:embed="rId2"/>
          <a:stretch/>
        </p:blipFill>
        <p:spPr>
          <a:xfrm>
            <a:off x="76320" y="48769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304920" y="380880"/>
            <a:ext cx="88390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 Without Cook’s work of marking a path , perhaps English navy would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 great risks in their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not be on time on the la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e attacked by French Arm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ose their 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80880" y="4648320"/>
            <a:ext cx="87631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 A ship used for expedition usually should be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ast and strong               B. fast and sm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fast and spacious           D. strong and spacio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12" descr="12.gif (59147 bytes)"/>
          <p:cNvPicPr/>
          <p:nvPr/>
        </p:nvPicPr>
        <p:blipFill>
          <a:blip r:embed="rId1"/>
          <a:stretch/>
        </p:blipFill>
        <p:spPr>
          <a:xfrm>
            <a:off x="304920" y="16765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122" name="12" descr="12.gif (59147 bytes)"/>
          <p:cNvPicPr/>
          <p:nvPr/>
        </p:nvPicPr>
        <p:blipFill>
          <a:blip r:embed="rId2"/>
          <a:stretch/>
        </p:blipFill>
        <p:spPr>
          <a:xfrm>
            <a:off x="4724280" y="60958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914400"/>
            <a:ext cx="876312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The purpose of the expedition was to 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tch a very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 a new contin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ght against Australia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12" descr="12.gif (59147 bytes)"/>
          <p:cNvPicPr/>
          <p:nvPr/>
        </p:nvPicPr>
        <p:blipFill>
          <a:blip r:embed="rId1"/>
          <a:stretch/>
        </p:blipFill>
        <p:spPr>
          <a:xfrm>
            <a:off x="304920" y="388620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Times New Roman"/>
              </a:rPr>
              <a:t>Lesson 6  Captain Cook (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1   Revis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 action="ppaction://hlinksldjump"/>
              </a:rPr>
              <a:t>Word spel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Step 2    Discussion   (teamwork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o you know anything about Captain Cook?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When and where…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His interest? His schooling? His job? His life? His contribution/ success ?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3276720" y="5791320"/>
            <a:ext cx="761760" cy="7617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762120"/>
            <a:ext cx="8610480" cy="47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. The fifth paragraph shows us that Captain Cook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ed for his sailor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. knew something about fo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 knew something about medic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. knew something about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12" descr="12.gif (59147 bytes)"/>
          <p:cNvPicPr/>
          <p:nvPr/>
        </p:nvPicPr>
        <p:blipFill>
          <a:blip r:embed="rId1"/>
          <a:stretch/>
        </p:blipFill>
        <p:spPr>
          <a:xfrm>
            <a:off x="228600" y="213372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619280" y="538200"/>
            <a:ext cx="6480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ll in blanks     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高考完型填空的基础训练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2236680"/>
            <a:ext cx="7561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The local landowner paid for his ________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Cook learnt fast and quickly became a_________  seama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066320" y="2743200"/>
            <a:ext cx="221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chooling</a:t>
            </a:r>
            <a:r>
              <a:rPr b="1" lang="zh-CN" sz="3200" spc="-1" strike="noStrike">
                <a:solidFill>
                  <a:srgbClr val="cccc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753560" y="4191120"/>
            <a:ext cx="144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kill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332000" y="3573360"/>
            <a:ext cx="7416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152280"/>
            <a:ext cx="71629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ep 6 language poi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1066680"/>
            <a:ext cx="90676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ake/show/have a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= be/feel/become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teres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in…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opp:lose interest 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The lion showed a great interest in the leg of po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3581280"/>
            <a:ext cx="91440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take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…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吃惊，出其不意地进行突然袭击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) The Japanese planes took the island by surprise on a Sunday morning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)Their visit took me by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10011a" descr=""/>
          <p:cNvPicPr/>
          <p:nvPr/>
        </p:nvPicPr>
        <p:blipFill>
          <a:blip r:embed="rId1"/>
          <a:stretch/>
        </p:blipFill>
        <p:spPr>
          <a:xfrm>
            <a:off x="8381880" y="0"/>
            <a:ext cx="762120" cy="9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523880" y="457200"/>
            <a:ext cx="556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urprise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的其他用法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4479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)in surprise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惊奇地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looked at me in surpris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他吃惊地看着我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520" y="3733920"/>
            <a:ext cx="83055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2)to one's surprise/to the surprise of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使某人惊奇的是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o my surprise, the door was unlocke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使我吃惊的是，门没有锁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304920"/>
            <a:ext cx="9144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well, too, also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的用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s well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也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又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He knows English, and he knows French as well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To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用于肯定句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放在句尾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有时前有逗号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. I can swim, to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Also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多用于书面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出现在句中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I also w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0" y="541008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knows English, and he knows French as we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=He knows English as well as Fren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981080" y="228600"/>
            <a:ext cx="716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harge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的短语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990720"/>
            <a:ext cx="91440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e in charge of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某事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状态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ake charge of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负责管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表示动作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E.g:He began to take charge of the department three years ago.He has been in charge of it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4920" y="4327560"/>
            <a:ext cx="853416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n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 of sb./in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sb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‘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charge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由……管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epartment has been in his charge for three ye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80880" y="624852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free of charge 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免费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880" y="304920"/>
            <a:ext cx="8458200" cy="74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harge .n.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费用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价钱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The hotel paid the taxi driver and put the charge on their hotel bil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v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索取费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ow much do you charge for a roo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304920" y="182880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e was a strict but good captain,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n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who,unusually,took good care of the sailors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04920" y="3429000"/>
            <a:ext cx="807696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eeting my uncle after all these years was an unforgettable moment,_____I will always treas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.that   B one    C.it     D.  wh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3886200"/>
            <a:ext cx="762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990720" y="38088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Structure of sente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" name="flower6" descr=""/>
          <p:cNvPicPr/>
          <p:nvPr/>
        </p:nvPicPr>
        <p:blipFill>
          <a:blip r:embed="rId1"/>
          <a:stretch/>
        </p:blipFill>
        <p:spPr>
          <a:xfrm>
            <a:off x="6705720" y="5475240"/>
            <a:ext cx="243828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0" y="457200"/>
            <a:ext cx="91440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ize v. take hold of suddenly and by forc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抓住，夺取，占领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警察一把揪住小偷的衣领，把他扔进警车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oliceman seized the thief by the collar, and threw him into the police car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解放军突然夜袭，占领了那个城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PLA men ____________ in a sudden night attack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exist v. to be; to have life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存在，生存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别的星球上存在生命吗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362320" y="4343400"/>
            <a:ext cx="266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eized the 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380880"/>
            <a:ext cx="914400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es life exist on other planets?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不要相信他的话，这样的事根本不存在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't believe him. Such a thing doesn't exist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map v. to make a map of; show on a ma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绘制……的地图，勘测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库克是第一个把澳大利亚东岸地图绘制出来的人。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ook was the first to ________________ of Australia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探险家把他们发现的岛屿地图绘制出来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explorer __________________ they had discovered.</a:t>
            </a:r>
            <a:br>
              <a:rPr sz="3000"/>
            </a:b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0" y="6019920"/>
            <a:ext cx="3505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ped the islan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352680" y="434340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Exerci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7631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d________ yourself to something, you use that time for a particular purpo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something is e_______ , it seems as if you will never reach the end of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f you have the d___________ to do something , you have made up your mind to do i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You must save more money until your d______ is paid off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91440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vo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19810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352680" y="2971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62920" y="41148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304920"/>
            <a:ext cx="914400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ear v. to break by pulling apart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撕开，撕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马莉从邮递员手中一接过信，就把它撕开了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s soon as the postman passed her the letter, Mary _____________.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同义词辨析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与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ise;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raise v.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是个多义词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主要有：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lift up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举起，抬起，增加，提高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produce, or cause to grow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饲养，抚养，种植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04920" y="2286000"/>
            <a:ext cx="243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tore it op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304920"/>
            <a:ext cx="8839080" cy="676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经理说他要给你长工资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said he would _______________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他一手把孩子们抚养成人的。他妻子几年前就去世了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e _________________ by himself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his wife died years ago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rise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是不及物动词。作起身讲时是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get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stand up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的正式用语。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used to like seeing _____________.</a:t>
            </a:r>
            <a:br>
              <a:rPr sz="3000"/>
            </a:b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old man _________________.</a:t>
            </a:r>
            <a:br>
              <a:rPr sz="3000"/>
            </a:br>
            <a:br>
              <a:rPr sz="3000"/>
            </a:b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990720"/>
            <a:ext cx="2895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 your p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28195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aised the childr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5562720"/>
            <a:ext cx="22096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the sun 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6019920"/>
            <a:ext cx="3048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Times New Roman"/>
              </a:rPr>
              <a:t>rose from his se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2286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end 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意思是“以……告终，结果……”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talks between the two sides ended in failu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be to do sth.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指“计划、职责、义务、约定要做某事”，表示将来时态。例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re is to be a meeting on Saturday afterno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e were to meet at the school  gat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304920" y="457200"/>
            <a:ext cx="8305560" cy="57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ok knew that sailors often suffered fever while at sea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库克知道水手们在海上时常常会发烧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是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while they were at sea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的省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'm sorry  that I  missed seeing   you 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 Beij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 doing his homework whil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wa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stening to some musi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Language Focu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Take / show / find an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interest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in…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Pay for one’s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chooling / edu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Joi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a ship / a club / the navy 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t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Learn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f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Quickly / soon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become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killed / experienced / trained /advanced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Break out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3045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Take sb. / some plac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by surpris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defeat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seiz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Go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up and down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the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up home in…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With/ for  the purpose of 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Be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//    ( be in 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the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 charge of 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Load …with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Not only A …but also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B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…, as well as B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He, as well as I,</a:t>
            </a:r>
            <a:r>
              <a:rPr b="1" lang="zh-CN" sz="3000" spc="-1" strike="noStrike">
                <a:solidFill>
                  <a:srgbClr val="ff3300"/>
                </a:solidFill>
                <a:latin typeface="Times New Roman"/>
              </a:rPr>
              <a:t> is </a:t>
            </a: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League memb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Set out/off for…/ leave / start /head for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751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33cc"/>
                </a:solidFill>
                <a:latin typeface="Times New Roman"/>
              </a:rPr>
              <a:t>A total of…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Mark on a map the location of …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chart 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Great in size  or important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ajor   adj.(n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Something important that happened 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o live / be / continue liv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exist  v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Fight to protect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990720"/>
            <a:ext cx="7772400" cy="64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defend  v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ship for trading/ carrying goods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merchant 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kills of sailing at sea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seaman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Lo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Times New Roman"/>
              </a:rPr>
              <a:t>in leng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43020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3..In 1759 the French army was _________ the city of Quebec, which stood high on a rock ______ the St. Lawrence river. Cook went up and _____ the river in order to _____ all the dangerous rocks. Finally he was able to _____ a _____ for the warships to follow. He led the ships _____ the river to a place where the British army could ____ safely and take the enemy ___ surprise. After a short_____ , the French were ________ and the city of Quebec was ______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5880" y="3808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n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52280" y="140184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b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9144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943600" y="18288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231624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57200" y="2819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pa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43000" y="33526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733920" y="3809880"/>
            <a:ext cx="1447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434340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477120" y="434340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2590920" y="4800600"/>
            <a:ext cx="281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def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914400" y="533412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se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0"/>
            <a:ext cx="9144000" cy="71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ll in the blank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James Cook was born______________England in 1728. The_____land-owner took______________in him and paid for his ___________.At the age of_____,he joined a ship.Cook learnt fast and quickly became a _____seama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 1759 the French army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city of Quebec, which stood high on a rock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St.Lawrence river. Cook went ___________ the river in order to______ all the dangerous rocks. Finally he was able to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for the warships to follow. He led the ship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down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river to a place where the British army could______safely and take the enemy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. After a short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the French wer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___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and the city of Quebec was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______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81280" y="6094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the nor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62120" y="106668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c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038480" y="106668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n intere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66680" y="1523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choo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181480" y="16002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553080" y="1981080"/>
            <a:ext cx="14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kill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419720" y="251460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defen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29718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abo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34290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up and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ow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0" y="3048120"/>
            <a:ext cx="1066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ch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67280" y="380988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mark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a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41008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land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8148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y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surpri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5880" y="5105520"/>
            <a:ext cx="12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battle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981080" y="5486400"/>
            <a:ext cx="17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defea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72400" y="54864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3300"/>
                </a:solidFill>
                <a:uFillTx/>
                <a:latin typeface="Times New Roman"/>
              </a:rPr>
              <a:t>seiz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533520"/>
            <a:ext cx="9144000" cy="74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-What will you do after g__________ ?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-My parents suggest that I should go to university first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It is a d__________ not to be able to keep the balance of natur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The villagers will carry out their plan with d___________ that they would cover the desert nearby with green trees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With many factories Shenyang is the centre of i_________area in Liaoning Province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Jane said she would be w______ to help us with our English in any way she could.</a:t>
            </a:r>
            <a:br>
              <a:rPr sz="3200"/>
            </a:b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5680" y="5335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radu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1523880"/>
            <a:ext cx="2362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sadvantag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0880" y="29718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4419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ustria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72000" y="495288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ll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609480"/>
            <a:ext cx="9144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fter the war,Cook married and ________home.In1768 his big chance for a ________expedition came The navy was__________an expedition to the South Pacific Ocean_______the purpose of _________the planet Venus passing between the earth and the sun in 1769.Cook was to be__________   the expedition.He knew sailors often suffered fever and got sick because of the_______________fresh meat,fruit and vegetables.He therefore________the ship______litres of vinegar._____________the normal supplies,he took live animals. They_______________the Pacific in July1768.Cook’s diet of_______food kept most of the sailors health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15000" y="609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et 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0666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maj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13716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lan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990720" y="18288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495680" y="182880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atch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80880" y="274320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in charge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58128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ack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447920" y="403848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loa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1120" y="411480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52388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As well 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09680" y="4952880"/>
            <a:ext cx="26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set out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657600" y="52578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pro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/>
          </p:nvPr>
        </p:nvSpPr>
        <p:spPr>
          <a:xfrm>
            <a:off x="838080" y="380880"/>
            <a:ext cx="77724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he sound [v] does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A 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___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is a terrible accident such as  an earthquak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Two policemen 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in</a:t>
            </a:r>
            <a:r>
              <a:rPr b="0" lang="zh-CN" sz="3200" spc="-1" strike="noStrike">
                <a:solidFill>
                  <a:srgbClr val="cc3300"/>
                </a:solidFill>
                <a:latin typeface="Times New Roman"/>
              </a:rPr>
              <a:t>______</a:t>
            </a: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clothes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came to the village in search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我们的足球队打败了亚洲的一些主队，这不是一件奇怪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828800" y="334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mercha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724280" y="14479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exi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198108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isas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91120" y="3078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pla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7200" y="5410080"/>
            <a:ext cx="8458200" cy="171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It is not a surprise that our football team </a:t>
            </a:r>
            <a:r>
              <a:rPr b="0" lang="en-US" sz="3200" spc="-1" strike="noStrike">
                <a:solidFill>
                  <a:srgbClr val="cc3300"/>
                </a:solidFill>
                <a:latin typeface="Times New Roman"/>
              </a:rPr>
              <a:t>defeated some major</a:t>
            </a: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9144000" cy="79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6.Everyone was s______ by the sudden earthquake but nobody was killed with the help of the PLA men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7.The old man looked very pale, and seemed to have s_________ a great deal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8.The line of waiting people seemed to be e_________ before the ticket window and the Smiths had no choice but to stand in line patiently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9.“Why m_______ water is good for heath?” little Tom asked his mother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0.In China, many universities have i_________ of education.</a:t>
            </a: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oc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213372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uffer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162920" y="26668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dl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676520" y="48006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ine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2200" y="579132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nstitu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1" action="ppaction://hlinksldjump"/>
          </p:cNvPr>
          <p:cNvSpPr/>
          <p:nvPr/>
        </p:nvSpPr>
        <p:spPr>
          <a:xfrm>
            <a:off x="8534520" y="6248520"/>
            <a:ext cx="609480" cy="609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bgb3u21" descr=""/>
          <p:cNvPicPr/>
          <p:nvPr/>
        </p:nvPicPr>
        <p:blipFill>
          <a:blip r:embed="rId1"/>
          <a:stretch/>
        </p:blipFill>
        <p:spPr>
          <a:xfrm>
            <a:off x="0" y="0"/>
            <a:ext cx="2803680" cy="26877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971800" y="228600"/>
            <a:ext cx="6172200" cy="36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British explorer and navigator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James Cook</a:t>
            </a:r>
            <a:r>
              <a:rPr b="1" lang="en-US" sz="2600" spc="-1" strike="noStrike">
                <a:solidFill>
                  <a:srgbClr val="ff00ff"/>
                </a:solidFill>
                <a:latin typeface="宋体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sailed around the world twice, made three voyages to the Pacific Ocean, and became the first European to visit Hawaii. Cook sailed to </a:t>
            </a:r>
            <a:r>
              <a:rPr b="1" lang="en-US" sz="2600" spc="-1" strike="noStrike">
                <a:solidFill>
                  <a:srgbClr val="ff3300"/>
                </a:solidFill>
                <a:latin typeface="宋体"/>
              </a:rPr>
              <a:t>Tahiti, New Zealand, Australia, Vancouver Island, and the Hawaiian Islands,</a:t>
            </a:r>
            <a:r>
              <a:rPr b="1" lang="en-US" sz="2600" spc="-1" strike="noStrike">
                <a:solidFill>
                  <a:srgbClr val="000000"/>
                </a:solidFill>
                <a:latin typeface="宋体"/>
              </a:rPr>
              <a:t> where he was killed in a fight with islander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8600" y="289548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Captain C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gb3u22" descr=""/>
          <p:cNvPicPr/>
          <p:nvPr/>
        </p:nvPicPr>
        <p:blipFill>
          <a:blip r:embed="rId2"/>
          <a:stretch/>
        </p:blipFill>
        <p:spPr>
          <a:xfrm>
            <a:off x="0" y="4038480"/>
            <a:ext cx="2819520" cy="248472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3124080" y="3809880"/>
            <a:ext cx="60199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The fight took place on the Sandwich Islands (now Hawaii) when the explorers and the islanders argued over the theft of a boat. Cook landed on the islands in 1778. This painting is by English artist John Webber.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2971800" y="6202440"/>
            <a:ext cx="2590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jor (citi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248520" y="6126120"/>
            <a:ext cx="2209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in (foo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200016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30481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3124080"/>
            <a:ext cx="14479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scu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34120" y="3048120"/>
            <a:ext cx="29718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killed (worker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6049800"/>
            <a:ext cx="41911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nd (himself again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19720" y="6095880"/>
            <a:ext cx="16002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rsh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324480" y="6172200"/>
            <a:ext cx="236232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eat, bat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2819520"/>
            <a:ext cx="17524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lanet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809880" y="2895480"/>
            <a:ext cx="114300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477120" y="2819520"/>
            <a:ext cx="1066680" cy="5814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k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3T00:32:42Z</dcterms:created>
  <dc:creator>w</dc:creator>
  <dc:description/>
  <dc:language>en-US</dc:language>
  <cp:lastModifiedBy>w</cp:lastModifiedBy>
  <dcterms:modified xsi:type="dcterms:W3CDTF">2004-08-05T16:26:20Z</dcterms:modified>
  <cp:revision>51</cp:revision>
  <dc:subject/>
  <dc:title>PowerPoint 演示文稿</dc:title>
</cp:coreProperties>
</file>