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27.gif" ContentType="image/gif"/>
  <Override PartName="/ppt/media/image7.png" ContentType="image/png"/>
  <Override PartName="/ppt/media/image12.png" ContentType="image/png"/>
  <Override PartName="/ppt/media/image28.gif" ContentType="image/gif"/>
  <Override PartName="/ppt/media/image8.png" ContentType="image/png"/>
  <Override PartName="/ppt/media/image9.png" ContentType="image/png"/>
  <Override PartName="/ppt/media/image16.jpeg" ContentType="image/jpeg"/>
  <Override PartName="/ppt/media/image13.gif" ContentType="image/gif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14.png" ContentType="image/png"/>
  <Override PartName="/ppt/media/image29.gif" ContentType="image/gif"/>
  <Override PartName="/ppt/media/image15.jpeg" ContentType="image/jpe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30.gif" ContentType="image/gif"/>
  <Override PartName="/ppt/media/image23.png" ContentType="image/pn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6429-6671-4A4F-999D-C0F0CAFCA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1A4E6-6EAD-43E0-959E-CED7F64D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79E3-974A-427F-AE84-0D345766C6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3984-5029-48F2-93DD-598763991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5CE6F-FCB4-46A6-8A70-5A6425697F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59357-7B23-46A3-8441-57304FE99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DA956-6F3A-4764-8128-C81142F77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6393-FFD0-486A-A2FD-4CEF4BAD9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A4F4C-33B6-4663-957E-13FDF4B21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87ED9-C7BF-4924-8F4D-F9D363684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CAABF-2070-413B-9375-F5135820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9A9A-3068-45F7-BC18-F17F4BF2E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5D768-2DFB-4432-B252-153FBDAE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E420E-A72D-4C5D-880B-493254B4B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6759-AE5B-44DB-956E-D46AD9407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ACC3C-3698-4835-B58D-C814F9188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0DF4AA-B756-42ED-BD72-6A7FE12AF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4CE55-F2E5-4EF2-B20B-93FDBB921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5579-178B-4A95-905C-33E65EFA3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BF624-A354-4719-9447-070406176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A412-3259-4174-9ABE-4460FDC62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5064-0C87-4180-A4CF-5E933610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74F5B-E9DF-4F17-A098-C26A190C0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A3E9-885D-48C0-8C20-0FCE298EE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7E5E3-9083-493B-95E1-6176D3AD9A0B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7BBC-D312-401B-ACD1-8C3C465B301F}" type="slidenum">
              <a:rPr b="0" lang="zh-CN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image" Target="../media/image27.gif"/><Relationship Id="rId6" Type="http://schemas.openxmlformats.org/officeDocument/2006/relationships/image" Target="../media/image26.jpeg"/><Relationship Id="rId7" Type="http://schemas.openxmlformats.org/officeDocument/2006/relationships/image" Target="../media/image28.gif"/><Relationship Id="rId8" Type="http://schemas.openxmlformats.org/officeDocument/2006/relationships/image" Target="../media/image27.gif"/><Relationship Id="rId9" Type="http://schemas.openxmlformats.org/officeDocument/2006/relationships/image" Target="../media/image29.gif"/><Relationship Id="rId10" Type="http://schemas.openxmlformats.org/officeDocument/2006/relationships/image" Target="../media/image30.gi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819520" y="2590920"/>
            <a:ext cx="4800600" cy="167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64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9933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Lesson 7</a:t>
            </a:r>
            <a:endParaRPr b="0" lang="en-US" sz="2400" spc="1" strike="noStrike">
              <a:ln w="9360">
                <a:solidFill>
                  <a:srgbClr val="9933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6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observe (a day or event) with ceremonies of respect, festivity, or rejoicing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720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elebrat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7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hape, outline, or boundary of a coas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oastline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1252440" y="1766880"/>
          <a:ext cx="738684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2440" y="1766880"/>
                    <a:ext cx="738684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1371600" y="380880"/>
            <a:ext cx="6934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First Voyage(1768-1771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Second Voyage(1772-1775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378080" y="1766880"/>
          <a:ext cx="7137360" cy="41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78080" y="1766880"/>
                    <a:ext cx="7137360" cy="41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Third Voyage(1776-1779)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graphicFrame>
        <p:nvGraphicFramePr>
          <p:cNvPr id="136" name=""/>
          <p:cNvGraphicFramePr/>
          <p:nvPr/>
        </p:nvGraphicFramePr>
        <p:xfrm>
          <a:off x="838080" y="1828800"/>
          <a:ext cx="7620120" cy="466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8080" y="1828800"/>
                    <a:ext cx="7620120" cy="466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838080" y="228600"/>
            <a:ext cx="8001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Rea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838080"/>
            <a:ext cx="815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Read the passage ,then fill in the form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09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59092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029200" y="2209680"/>
            <a:ext cx="0" cy="4648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62120" y="2666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38080" y="2209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Pl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590920" y="2209680"/>
            <a:ext cx="236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Time for sta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05520" y="220968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What they did or happen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2120" y="28195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ahi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590920" y="274320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Three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105520" y="274320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Watch the planet Venus crossing in front of th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2120" y="3733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14400" y="44956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120" y="52578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62120" y="60958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62120" y="3733920"/>
            <a:ext cx="1752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New Zealand   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62120" y="4648320"/>
            <a:ext cx="175248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Australia                      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838080" y="6095880"/>
            <a:ext cx="16002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99"/>
                </a:solidFill>
                <a:latin typeface="Times New Roman"/>
              </a:rPr>
              <a:t>island of Java                                  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38080" y="5334120"/>
            <a:ext cx="175284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Great Barrier Reef</a:t>
            </a:r>
            <a:r>
              <a:rPr b="0" lang="zh-CN" sz="2400" spc="-1" strike="noStrike">
                <a:solidFill>
                  <a:srgbClr val="000099"/>
                </a:solidFill>
                <a:latin typeface="Times New Roman"/>
              </a:rPr>
              <a:t>　　　　　　         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90920" y="38098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6 mont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105520" y="3657600"/>
            <a:ext cx="40384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charted the coasts of the 2 isla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105520" y="44956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 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mapped the east coast/ landed in Botany B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105520" y="5478480"/>
            <a:ext cx="4038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257800"/>
            <a:ext cx="4038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struck a coral bed, not died/saved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29200" y="617220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passed close by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762120" y="762120"/>
            <a:ext cx="8381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Times New Roman"/>
              </a:rPr>
              <a:t>Listen and follow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1600200"/>
            <a:ext cx="8381880" cy="50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 or F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Tahiti is separated by Cook Strait from New Zealan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.Other sailors had already charted the east coast of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.They found a lot of strange animals in Austral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.A disaster happened when they passed by the island of Jav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.They returned to England by way of Afri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0" y="27432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365760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505320" y="4724280"/>
            <a:ext cx="457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81080" y="54100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l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199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r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304920"/>
            <a:ext cx="784872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expedition at last succeeded in achieving its purpose of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ing a new land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B. watching an unusual ev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charting the coasts of the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D. both A and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. Cook charted the ______coast of Austral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west      B. north      C. east      D. sou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RW_002" descr=""/>
          <p:cNvPicPr/>
          <p:nvPr/>
        </p:nvPicPr>
        <p:blipFill>
          <a:blip r:embed="rId2"/>
          <a:stretch/>
        </p:blipFill>
        <p:spPr>
          <a:xfrm>
            <a:off x="685800" y="373392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4" name="RW_002" descr=""/>
          <p:cNvPicPr/>
          <p:nvPr/>
        </p:nvPicPr>
        <p:blipFill>
          <a:blip r:embed="rId3"/>
          <a:stretch/>
        </p:blipFill>
        <p:spPr>
          <a:xfrm>
            <a:off x="4419720" y="5867280"/>
            <a:ext cx="76176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838080" y="380880"/>
            <a:ext cx="8001000" cy="57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 Captain Cook and his sailors found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. New Zealand            B.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Tasmania                   D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 What is not popular in Australi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. Red soil              B. Climbing tree b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. Kangaroo            D. Pa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RW_002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762120" cy="609480"/>
          </a:xfrm>
          <a:prstGeom prst="rect">
            <a:avLst/>
          </a:prstGeom>
          <a:ln w="0">
            <a:noFill/>
          </a:ln>
        </p:spPr>
      </p:pic>
      <p:pic>
        <p:nvPicPr>
          <p:cNvPr id="177" name="RW_002" descr=""/>
          <p:cNvPicPr/>
          <p:nvPr/>
        </p:nvPicPr>
        <p:blipFill>
          <a:blip r:embed="rId3"/>
          <a:stretch/>
        </p:blipFill>
        <p:spPr>
          <a:xfrm>
            <a:off x="3886200" y="47242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990720" y="914400"/>
            <a:ext cx="853416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5. Paragraph 3 shows us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danger of sail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our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clever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Captain Cook’s deter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" name="RW_00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76212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14400" y="0"/>
            <a:ext cx="79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Revi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62120" y="706320"/>
            <a:ext cx="8381880" cy="506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Transl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老板坚持要我把报告再检查一遍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2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有人建议我们免费给老人们提供热水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我对谁将负责这项工程不感兴趣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4.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那些水手熟练地把货物装到船上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198108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752480"/>
            <a:ext cx="830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e boss insisted that I (should)go over the report agai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97180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Someone suggests us providing the elderly with hot wa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4343400"/>
            <a:ext cx="8458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I take no interest in who will take charge of the projec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90720" y="57913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00"/>
                </a:solidFill>
                <a:latin typeface="Times New Roman"/>
              </a:rPr>
              <a:t>Those seamen loaded the goods  onto the ship skillfull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824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On the island of Tahiti in the Pacific Ocean, Cook’s expedition 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pent a period of six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spent three hard month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watched the planet Venus passing between the earth and the su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nd a new 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6858000" y="49528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ahoma"/>
              </a:rPr>
              <a:t>C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ahoma"/>
              <a:ea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2. New Zealand is separated from the other island by 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Cook Stra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Botany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island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Great Barrier Re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010280" y="3276720"/>
            <a:ext cx="513000" cy="58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800080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Verdana"/>
              </a:rPr>
              <a:t>A</a:t>
            </a:r>
            <a:endParaRPr b="1" lang="en-US" sz="2400" spc="1" strike="noStrike">
              <a:ln w="12600">
                <a:solidFill>
                  <a:srgbClr val="800080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Verdana"/>
              <a:ea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3. Cook was the first to ______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sail to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map the coasts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make Australia the foreign sett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chart the east coast of Austral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523880" y="4952880"/>
            <a:ext cx="362160" cy="51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Garamond"/>
              </a:rPr>
              <a:t>D</a:t>
            </a:r>
            <a:endParaRPr b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Garamond"/>
              <a:ea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4. The expedition passed ____ oceans in the worl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tw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on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fou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334120" y="3048120"/>
            <a:ext cx="622080" cy="66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Impact"/>
              </a:rPr>
              <a:t>A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Reading comprehens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5. Which of the following you can’t see except in Australia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. The coral b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B. A beautiful b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. The bears which can climb tre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. The birds that can ru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7924680" y="4648320"/>
            <a:ext cx="3812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Century Gothic"/>
              </a:rPr>
              <a:t>C</a:t>
            </a:r>
            <a:endParaRPr b="1" i="1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Century Gothic"/>
              <a:ea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761760" y="188640"/>
            <a:ext cx="8381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In July they </a:t>
            </a: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set sail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again and headed south and west in search of a new land.</a:t>
            </a:r>
            <a:br>
              <a:rPr sz="2800"/>
            </a:b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七月，他们两度启航，向南然后向西行驶，以寻找新的陆地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133720"/>
            <a:ext cx="8001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buClr>
                <a:srgbClr val="000099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sail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启航，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= sail, </a:t>
            </a:r>
            <a:r>
              <a:rPr b="1" lang="zh-CN" sz="3000" spc="-1" strike="noStrike">
                <a:solidFill>
                  <a:srgbClr val="000099"/>
                </a:solidFill>
                <a:latin typeface="Times New Roman"/>
              </a:rPr>
              <a:t>begin to sail 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set up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建立，竖起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up home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安家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out for sp. =  set off for sp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出发去某地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 clock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对表</a:t>
            </a:r>
            <a:br>
              <a:rPr sz="3200"/>
            </a:b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set about doing sth.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</a:rPr>
              <a:t>开始做…着手做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143000" y="5410080"/>
            <a:ext cx="8001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hip set sail for Afric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arly in the morning, they set sail southwar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diamond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685800" y="33336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head  vi---advance;progress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朝向，走向，驶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114300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 hurried off and headed north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他匆忙离开朝北走了。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head south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南走（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uth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等表方向的词，跟在动词后副词用，若作名词须加介词和冠词）如：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alk to the ea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朝东走去 ； 后面还可接介词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or /tow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71600" y="4419720"/>
            <a:ext cx="6119640" cy="245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 ship </a:t>
            </a: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is heading fo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/ toward Tianjin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船正驶往天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The train is heading </a:t>
            </a:r>
            <a:r>
              <a:rPr b="1" lang="zh-CN" sz="3000" spc="-1" strike="noStrike">
                <a:solidFill>
                  <a:srgbClr val="cc0000"/>
                </a:solidFill>
                <a:latin typeface="Times New Roman"/>
              </a:rPr>
              <a:t>for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 Foshan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plus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1218960" y="380520"/>
            <a:ext cx="767052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 search of = looking for 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寻找，搜寻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= in one's search for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523880" y="1905120"/>
            <a:ext cx="6705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sb./sth.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查（身、屋等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earch for sb./sth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搜索、寻找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=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066680" y="4267080"/>
            <a:ext cx="708660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 went to many places in search of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He searched many places for a doctor who could cure his dise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85800" y="3581280"/>
            <a:ext cx="8610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1) </a:t>
            </a: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他跑了很多地方，力求找到一个能为他治好病的医生。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914400" y="1143000"/>
            <a:ext cx="82296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couple went to town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in search of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earched every bookstore in the town for</a:t>
            </a:r>
            <a:r>
              <a:rPr b="1" lang="en-US" sz="32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books their son need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2484360" y="188640"/>
            <a:ext cx="616104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d… to be…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发现…是…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时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o be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以省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Alice found the place to be a new and strange place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爱丽丝发现那个地方是一个新奇的地方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Finally, it was found to be a chea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最后才发现那是一个骗局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843280" y="4076640"/>
            <a:ext cx="5257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it + adj. +to do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sth +adj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find + that-clause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9242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533520" y="6095880"/>
            <a:ext cx="21333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rait , b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29000" y="6095880"/>
            <a:ext cx="14479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ota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95880" y="6019920"/>
            <a:ext cx="19814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tonish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2514240" y="1173240"/>
            <a:ext cx="6305400" cy="22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pass close by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紧靠…经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e.g Don’t pass close by the fire. It will burn your clothes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不要紧靠火堆走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火会烧着你的衣服的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826920" y="11592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cc"/>
                </a:solidFill>
                <a:latin typeface="Times New Roman"/>
              </a:rPr>
              <a:t>Language study</a:t>
            </a:r>
            <a:r>
              <a:rPr b="0" lang="zh-CN" sz="3200" spc="-1" strike="noStrike">
                <a:solidFill>
                  <a:srgbClr val="6600cc"/>
                </a:solidFill>
                <a:latin typeface="Times New Roman"/>
              </a:rPr>
              <a:t> ------  the –ing form as objec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685800"/>
            <a:ext cx="8229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下面动词只能接动名词做宾语（不可接不定式）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042920" y="1341360"/>
            <a:ext cx="7632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dmit, avoid, appreciate, delay, deny, dislike, enjoy, excuse, escape, complete, finish, consider, imagine, keep, mind, miss, pardon, postpone, risk, suggest, fancy, understand, practise, forgive, disc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4038480"/>
            <a:ext cx="8305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1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allow sb to do sth  (permit, advise, consider, forbid, can’t help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62120" y="510552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2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 how/what…to do sth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791320"/>
            <a:ext cx="8076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66"/>
                </a:solidFill>
                <a:latin typeface="Times New Roman"/>
              </a:rPr>
              <a:t>(3)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consider/ think/ find/ feel/ make + it +adj. to do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762120" y="228600"/>
            <a:ext cx="8001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oceaniabora32sm" descr=""/>
          <p:cNvPicPr/>
          <p:nvPr/>
        </p:nvPicPr>
        <p:blipFill>
          <a:blip r:embed="rId2"/>
          <a:stretch/>
        </p:blipFill>
        <p:spPr>
          <a:xfrm>
            <a:off x="0" y="0"/>
            <a:ext cx="5029200" cy="3409920"/>
          </a:xfrm>
          <a:prstGeom prst="rect">
            <a:avLst/>
          </a:prstGeom>
          <a:ln w="0">
            <a:noFill/>
          </a:ln>
        </p:spPr>
      </p:pic>
      <p:pic>
        <p:nvPicPr>
          <p:cNvPr id="217" name="oceaniamoorea21sm" descr=""/>
          <p:cNvPicPr/>
          <p:nvPr/>
        </p:nvPicPr>
        <p:blipFill>
          <a:blip r:embed="rId3"/>
          <a:stretch/>
        </p:blipFill>
        <p:spPr>
          <a:xfrm>
            <a:off x="4648320" y="-19080"/>
            <a:ext cx="4495680" cy="3448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5105520" y="4800600"/>
            <a:ext cx="723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Sceneries of Tahi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9" name="Poit%20dume%20after%20storm" descr=""/>
          <p:cNvPicPr/>
          <p:nvPr/>
        </p:nvPicPr>
        <p:blipFill>
          <a:blip r:embed="rId4"/>
          <a:stretch/>
        </p:blipFill>
        <p:spPr>
          <a:xfrm>
            <a:off x="0" y="3386160"/>
            <a:ext cx="4648320" cy="34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wineglass%20Tasmania" descr=""/>
          <p:cNvPicPr/>
          <p:nvPr/>
        </p:nvPicPr>
        <p:blipFill>
          <a:blip r:embed="rId2"/>
          <a:stretch/>
        </p:blipFill>
        <p:spPr>
          <a:xfrm>
            <a:off x="1828800" y="0"/>
            <a:ext cx="5273640" cy="685800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7162920" y="236232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Tasman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flower6" descr=""/>
          <p:cNvPicPr/>
          <p:nvPr/>
        </p:nvPicPr>
        <p:blipFill>
          <a:blip r:embed="rId3"/>
          <a:stretch/>
        </p:blipFill>
        <p:spPr>
          <a:xfrm>
            <a:off x="7924680" y="6118200"/>
            <a:ext cx="1219320" cy="73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482400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James Cook was a very skilled seaman. He was famous for making an ___________ to the South Pacific Ocean. In July 1768, Cook and his sailors took an old but strong _______ named </a:t>
            </a:r>
            <a:r>
              <a:rPr b="0" i="1" lang="zh-CN" sz="3200" spc="-1" strike="noStrike">
                <a:solidFill>
                  <a:srgbClr val="000000"/>
                </a:solidFill>
                <a:latin typeface="Tahoma"/>
              </a:rPr>
              <a:t>Endeavou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to _______ out for the Pacific in _________ to find a new continent. The ship carried a total of 94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47920" y="2666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010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41911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343400" y="46483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r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eople, ___________ scientists. It wa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ally a very hard journey for the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__ the expedition, 38 peop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ed ______ diseases. In April 1769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t the beautiful island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ahiti in the Pacific Ocean. They 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for three months. And then they se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again an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590920" y="18288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clud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066680" y="2895480"/>
            <a:ext cx="19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Dur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133720" y="34290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990720" y="396252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rri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81680" y="449568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tay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556272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i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807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eaded south and west _____ search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new land. They finally reached New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Zealand ______ spent six months the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ter that they sailed west to _____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________ the east coast of Australia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found Australia to be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stonishing country. Next they sailed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______ coas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7150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6880" y="281952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400800" y="335268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ustra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28800" y="388620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mapp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19920" y="44197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a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828800" y="54864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e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/>
          </p:nvPr>
        </p:nvSpPr>
        <p:spPr>
          <a:xfrm>
            <a:off x="990360" y="17521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the expedition nearly ended i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saster. The ship struck a coral b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ich _______ a large hole in the sid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hip. But Cook’s quick thinking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________ the expedition. Then the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assed close ______ the island of Jav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returned by the southern point ____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frica. In July 1771 they successfu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86000" y="2743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1066680" y="38098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sav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733920" y="4343400"/>
            <a:ext cx="99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b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620120" y="48769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rived back _____ England. The whol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ntry celebrated their _________ fro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South Pacific. So James Cook becam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hero of the na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657600" y="175248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791320" y="228600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ahoma"/>
              </a:rPr>
              <a:t>retur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0"/>
            <a:ext cx="9144000" cy="81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ome of the __________ on the ship had special jobs.The captain of the boat had a lot of ________. He could order sailors to be kept in chains or _________ if they did not _______ his orders. The master’s job was to set the ________ for the ship by the sun and the stars. There was a doctor on board who _________ the men’s illnesses and wounds . the gunner looked after the guns and the iron balls for the guns. A wood worker stopped any _______ in the sides of the ship and carried out any necessary ________ to the woodwork , the sailmaker repaired sails and made new sails when necessary. Another sailor was in ________ of the ship’s stores and gave the sailors their orders. The _______ did the cooking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743200" y="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ailo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53352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power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990720"/>
            <a:ext cx="1905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beaten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0" y="144792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obey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133720" y="19810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urs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324480" y="2438280"/>
            <a:ext cx="198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treated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3886200"/>
            <a:ext cx="1600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hole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24280" y="4419720"/>
            <a:ext cx="221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repairs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086600" y="5410080"/>
            <a:ext cx="1828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harge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6248520"/>
            <a:ext cx="175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ook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9080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3520" y="2666880"/>
            <a:ext cx="19810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in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429000" y="2819520"/>
            <a:ext cx="23623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ir (disas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629400" y="266688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lebr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5973840"/>
            <a:ext cx="16765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ast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86200" y="5943600"/>
            <a:ext cx="99072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29400" y="5943600"/>
            <a:ext cx="160020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re they enjoyed a happy stay of three month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90720" y="411480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re they spent three happy month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ntinued their journe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raveled in a southerly dir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o look 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243828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set sail ag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143000" y="3581280"/>
            <a:ext cx="441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eaded sou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143000" y="48769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n search o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had already made maps of the coa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make a map of the east coa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066680" y="2438280"/>
            <a:ext cx="6782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had already charted parts of the ….   coas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143000" y="434340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p the east coa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oala bears spend most of their lives in eucalyptus trees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桉树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kangaro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066680" y="31240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bears climbed tre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19320" y="49528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rge animals … stomach pocke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longest coral reef in the world, off the Northeast coast of Australia. It is 2, 000 km lo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o that the boat would float higher in the w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143000" y="342900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 Great Barrier Ree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219320" y="5029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o raise the boat in the wa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pulled the boat up onto the sh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ook’s quick de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26668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they beached the ship on the sh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143000" y="449568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ook’s quick thin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Explain the phrases or sentences: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sailed close to the island of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nd then returned to England by passing the southern point of Af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143000" y="2590920"/>
            <a:ext cx="716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passed close by the island of Jav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114300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n returned by the southern point of Afr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__ is an organized journey with a particular purpose such as exploration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探险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Do you know the time when the national flag will b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tomorrow morn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have 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, your body temperature is higher than usu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2286000" y="16765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pedi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81280" y="365760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is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038480" y="46483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v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 is a person who buys and sells goods for making mo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f you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someone or something, you try to protect them against dan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w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is a ship with guns and other equipment needed for fighting in wa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sound [v] doesn’t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 in Chine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17524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rcha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819520" y="2895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n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133720" y="40384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arshi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51814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xis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is a terrible accident such as an earthquake or an air crash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飞机失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t was not a surprise that our football team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 some major teams in Asi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day when Hong Kong returned to China is worth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133720" y="1752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as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666880" y="358128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feat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19720" y="50292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lebrat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1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 narrow channel joining two larger bodies of wate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3733920"/>
            <a:ext cx="3200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strait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ocabulary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he noun form of sick is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wo policemen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 clothes came to the village in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 of the lost gir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At tea time in the afternoon, you can drink tea and eat some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943600" y="175248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ck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2438280"/>
            <a:ext cx="1447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lai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9720" y="297180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earc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791320" y="4038480"/>
            <a:ext cx="1676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iscui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938240" y="17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62485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380880" y="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tep3 :Retell the whole story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38240" y="1728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152280" y="457200"/>
            <a:ext cx="899172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228600" y="380880"/>
            <a:ext cx="8458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938240" y="1704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0" y="228600"/>
            <a:ext cx="883908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938240" y="1690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938240" y="17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fire0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6" name="7" descr="7.gif (17053 字节)"/>
          <p:cNvPicPr/>
          <p:nvPr/>
        </p:nvPicPr>
        <p:blipFill>
          <a:blip r:embed="rId3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7" name="7" descr="7.gif (17053 字节)"/>
          <p:cNvPicPr/>
          <p:nvPr/>
        </p:nvPicPr>
        <p:blipFill>
          <a:blip r:embed="rId4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8" name="7" descr="7.gif (17053 字节)"/>
          <p:cNvPicPr/>
          <p:nvPr/>
        </p:nvPicPr>
        <p:blipFill>
          <a:blip r:embed="rId5"/>
          <a:stretch/>
        </p:blipFill>
        <p:spPr>
          <a:xfrm>
            <a:off x="3886200" y="2749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29" name="fire06" descr=""/>
          <p:cNvPicPr/>
          <p:nvPr/>
        </p:nvPicPr>
        <p:blipFill>
          <a:blip r:embed="rId6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30" name="2" descr="2.gif (8966 字节)"/>
          <p:cNvPicPr/>
          <p:nvPr/>
        </p:nvPicPr>
        <p:blipFill>
          <a:blip r:embed="rId7"/>
          <a:stretch/>
        </p:blipFill>
        <p:spPr>
          <a:xfrm>
            <a:off x="3962520" y="2971800"/>
            <a:ext cx="1143000" cy="971640"/>
          </a:xfrm>
          <a:prstGeom prst="rect">
            <a:avLst/>
          </a:prstGeom>
          <a:ln w="0">
            <a:noFill/>
          </a:ln>
        </p:spPr>
      </p:pic>
      <p:pic>
        <p:nvPicPr>
          <p:cNvPr id="331" name="7" descr="7.gif (17053 字节)"/>
          <p:cNvPicPr/>
          <p:nvPr/>
        </p:nvPicPr>
        <p:blipFill>
          <a:blip r:embed="rId8"/>
          <a:stretch/>
        </p:blipFill>
        <p:spPr>
          <a:xfrm>
            <a:off x="1295280" y="3352680"/>
            <a:ext cx="1371600" cy="1360440"/>
          </a:xfrm>
          <a:prstGeom prst="rect">
            <a:avLst/>
          </a:prstGeom>
          <a:ln w="0">
            <a:noFill/>
          </a:ln>
        </p:spPr>
      </p:pic>
      <p:pic>
        <p:nvPicPr>
          <p:cNvPr id="332" name="6" descr="6.gif (22983 字节)"/>
          <p:cNvPicPr/>
          <p:nvPr/>
        </p:nvPicPr>
        <p:blipFill>
          <a:blip r:embed="rId9"/>
          <a:stretch/>
        </p:blipFill>
        <p:spPr>
          <a:xfrm>
            <a:off x="7467480" y="3505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333" name="3" descr="3.gif (41629 字节)"/>
          <p:cNvPicPr/>
          <p:nvPr/>
        </p:nvPicPr>
        <p:blipFill>
          <a:blip r:embed="rId10"/>
          <a:stretch/>
        </p:blipFill>
        <p:spPr>
          <a:xfrm>
            <a:off x="228600" y="304920"/>
            <a:ext cx="1828800" cy="137160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 txBox="1"/>
          <p:nvPr/>
        </p:nvSpPr>
        <p:spPr>
          <a:xfrm>
            <a:off x="3124080" y="4114800"/>
            <a:ext cx="2971800" cy="82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62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Good Bye</a:t>
            </a:r>
            <a:endParaRPr b="1" lang="en-US" sz="4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2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he science or study of plant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219320" y="3809880"/>
            <a:ext cx="350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botan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3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To fill with sudden wonder or amazement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3809880"/>
            <a:ext cx="35812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astonish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4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n occurrence causing widespread destruction and distress; a catastrophe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295280" y="457200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disaste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Definition 5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ll personnel operating or serving aboard a ship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3886200"/>
            <a:ext cx="3429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crew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9:35:31Z</dcterms:created>
  <dc:creator>Benny Lee</dc:creator>
  <dc:description/>
  <dc:language>en-US</dc:language>
  <cp:lastModifiedBy>w</cp:lastModifiedBy>
  <dcterms:modified xsi:type="dcterms:W3CDTF">2004-08-12T08:15:54Z</dcterms:modified>
  <cp:revision>39</cp:revision>
  <dc:subject/>
  <dc:title>PowerPoint 演示文稿</dc:title>
</cp:coreProperties>
</file>