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amera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AE27-7A1C-49B4-8848-87DAD105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42F-0646-4A77-8BF7-6A22E41D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8AD0-C187-43C7-A977-4D654345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E2DD-5ECF-442E-8AE8-952FDEB1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3300-6936-4154-AAC9-157ED6B5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1FF-4457-464B-879B-2EBE5E67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DD9B-EBF3-4E7A-AFAF-039D0163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21EC-0AE3-4B6B-A765-A2357C0D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8F5-D1B2-4752-877D-C412BA6B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CBB-B0CE-430C-8C88-0A9BE48B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8D0B-8A18-4831-80B8-D0F444CE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D53-EE6B-4E8E-BA47-6FE387A3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8AE0-09BD-4E20-9D40-954077BF07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C:\Documents and Settings\Owner\My Documents\writing\juzi.exe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C:\Documents and Settings\Owner\My Documents\writing\thanks.exe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334_hello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7924680" cy="148608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2"/>
          </p:cNvPr>
          <p:cNvSpPr/>
          <p:nvPr/>
        </p:nvSpPr>
        <p:spPr>
          <a:xfrm>
            <a:off x="1143000" y="7621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301"/>
                </a:moveTo>
                <a:lnTo>
                  <a:pt x="10103" y="7301"/>
                </a:lnTo>
                <a:lnTo>
                  <a:pt x="10486" y="7667"/>
                </a:lnTo>
                <a:lnTo>
                  <a:pt x="19695" y="7667"/>
                </a:lnTo>
                <a:lnTo>
                  <a:pt x="20252" y="8224"/>
                </a:lnTo>
                <a:lnTo>
                  <a:pt x="20252" y="8772"/>
                </a:lnTo>
                <a:lnTo>
                  <a:pt x="22097" y="8772"/>
                </a:lnTo>
                <a:lnTo>
                  <a:pt x="22462" y="8224"/>
                </a:lnTo>
                <a:lnTo>
                  <a:pt x="23202" y="8224"/>
                </a:lnTo>
                <a:lnTo>
                  <a:pt x="23202" y="13376"/>
                </a:lnTo>
                <a:lnTo>
                  <a:pt x="22462" y="13376"/>
                </a:lnTo>
                <a:lnTo>
                  <a:pt x="22097" y="12828"/>
                </a:lnTo>
                <a:lnTo>
                  <a:pt x="20252" y="12828"/>
                </a:lnTo>
                <a:lnTo>
                  <a:pt x="20252" y="14107"/>
                </a:lnTo>
                <a:lnTo>
                  <a:pt x="10669" y="14107"/>
                </a:lnTo>
                <a:lnTo>
                  <a:pt x="10669" y="9877"/>
                </a:lnTo>
                <a:lnTo>
                  <a:pt x="10486" y="9877"/>
                </a:lnTo>
                <a:lnTo>
                  <a:pt x="10103" y="10243"/>
                </a:lnTo>
                <a:lnTo>
                  <a:pt x="9189" y="1024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99"/>
                </a:solidFill>
                <a:latin typeface="Times New Roman"/>
              </a:rPr>
              <a:t>常用并列连词</a:t>
            </a:r>
            <a:br>
              <a:rPr sz="4800"/>
            </a:br>
            <a:r>
              <a:rPr b="1" lang="zh-CN" sz="4800" spc="-1" strike="noStrike">
                <a:solidFill>
                  <a:srgbClr val="00ff99"/>
                </a:solidFill>
                <a:latin typeface="Times New Roman"/>
              </a:rPr>
              <a:t>coordinating conj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733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平行并列连词</a:t>
            </a: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转折并列连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因果并列连词</a:t>
            </a: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选择并列连词</a:t>
            </a: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/>
          </p:cNvPr>
          <p:cNvSpPr/>
          <p:nvPr/>
        </p:nvSpPr>
        <p:spPr>
          <a:xfrm>
            <a:off x="3733920" y="2209680"/>
            <a:ext cx="50292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and,both…and,   not only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but also, neither…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3657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but,however,while,y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44956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for,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0" y="5638680"/>
            <a:ext cx="24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or,either…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04560" y="3049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请用合适的</a:t>
            </a:r>
            <a:r>
              <a:rPr b="0" lang="zh-CN" sz="4400" spc="-1" strike="noStrike">
                <a:solidFill>
                  <a:srgbClr val="ffff66"/>
                </a:solidFill>
                <a:latin typeface="Times New Roman"/>
              </a:rPr>
              <a:t>并列连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把每组句子合并为一个并列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1.He was tire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went to be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2.The child hid behind his mother'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skirt.   He was afraid of the do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7760" y="3048120"/>
            <a:ext cx="6683760" cy="7034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 was tired, 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s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e went to b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257800"/>
            <a:ext cx="7620120" cy="131292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hild hid behind his mother's skirt,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fo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e was afraid of the do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77400" y="682560"/>
            <a:ext cx="779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made a promise.He didn’t keep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1676520"/>
            <a:ext cx="7804080" cy="1312920"/>
          </a:xfrm>
          <a:prstGeom prst="rect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made a promise,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bu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He didn’t keep i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20040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y is opening the do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is greeting her gues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391520" y="5643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724280"/>
            <a:ext cx="8001000" cy="1312920"/>
          </a:xfrm>
          <a:prstGeom prst="rect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y is opening the door,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and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is greeting her gues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1447920"/>
            <a:ext cx="8077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复合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句是一个完整的句子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independent sentence)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它可以独立存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从句是一个不完整的句子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它必须和一个主句连用，不能独立存在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80600">
            <a:off x="2819160" y="4038480"/>
            <a:ext cx="1981080" cy="1524240"/>
          </a:xfrm>
          <a:prstGeom prst="irregularSeal2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80600">
            <a:off x="2742840" y="1905120"/>
            <a:ext cx="1917720" cy="1317600"/>
          </a:xfrm>
          <a:prstGeom prst="irregularSeal2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2819520"/>
            <a:ext cx="5410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By the time he arrived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3399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we had already lef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3399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144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请指出该复合句的主句和从句部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2286000"/>
            <a:ext cx="1523880" cy="838080"/>
          </a:xfrm>
          <a:prstGeom prst="wedgeRoundRectCallout">
            <a:avLst>
              <a:gd name="adj1" fmla="val -82916"/>
              <a:gd name="adj2" fmla="val 6344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从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809880"/>
            <a:ext cx="1447920" cy="838440"/>
          </a:xfrm>
          <a:prstGeom prst="wedgeRoundRectCallout">
            <a:avLst>
              <a:gd name="adj1" fmla="val -93532"/>
              <a:gd name="adj2" fmla="val 500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主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44720" y="1319040"/>
            <a:ext cx="5543280" cy="37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在复合句中，主要包含以下类型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语从句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表语从句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同位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762120"/>
            <a:ext cx="53337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中学生英文写作中经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使用的从句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2666880"/>
            <a:ext cx="3352680" cy="34290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指出下列各从句的类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hop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hat everything is all r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was reading the newspaper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hen I came i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is the girl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ho sings best of 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1828800"/>
            <a:ext cx="3200400" cy="914400"/>
          </a:xfrm>
          <a:prstGeom prst="cloudCallout">
            <a:avLst>
              <a:gd name="adj1" fmla="val -60365"/>
              <a:gd name="adj2" fmla="val 46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3048120"/>
            <a:ext cx="3276720" cy="1066680"/>
          </a:xfrm>
          <a:prstGeom prst="cloudCallout">
            <a:avLst>
              <a:gd name="adj1" fmla="val -52083"/>
              <a:gd name="adj2" fmla="val 31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419720"/>
            <a:ext cx="3048120" cy="990360"/>
          </a:xfrm>
          <a:prstGeom prst="cloudCallout">
            <a:avLst>
              <a:gd name="adj1" fmla="val -62189"/>
              <a:gd name="adj2" fmla="val 16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90720" y="220968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has found out .She was late.(wh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09480"/>
            <a:ext cx="73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请用括号中所给的词把每组句子连接为一个复合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9625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still remember the day .I first came to Beijing on that day.(wh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52360" y="5257800"/>
            <a:ext cx="6880680" cy="119124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still remember the day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e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 fir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me to Beij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124080"/>
            <a:ext cx="6705720" cy="642600"/>
          </a:xfrm>
          <a:prstGeom prst="rect">
            <a:avLst/>
          </a:prstGeom>
          <a:noFill/>
          <a:ln w="284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has found out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he was l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8839080" cy="71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请把每组句子连接为一个含有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状语从句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复合句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give the letter to him .I see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时间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didn’t come yesterday .He was i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原因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is such a big box .Nobody can move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结果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’ll go to the great wall .It’s fi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omorrow.  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条件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 should not go there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place is quite pleasant.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让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英语句子的种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160" y="190512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简单句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simple sent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0481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并列句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compound  sent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114800"/>
            <a:ext cx="6705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复合句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complex  sent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533520" y="20574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533520" y="312408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533520" y="419112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29528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give the letter to him when I see hi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didn’t come yesterday because he was i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is such a big box that nobody can move i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’ll go to the great wall if it’s fine tomorrow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lthough the place is quite pleasant, we should not go there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1828800"/>
            <a:ext cx="76212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2438280"/>
            <a:ext cx="144756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4648320"/>
            <a:ext cx="22860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5715000"/>
            <a:ext cx="182880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0"/>
            <a:ext cx="6035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有下划线的词叫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从属连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(subordinating conjun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143000"/>
            <a:ext cx="8305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请用所学知识改正下列病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My roommate was sleep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e didn’t want to wake her u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 went to bed.Because I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137160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y roommate was sleeping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We  didn’t want to wake her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y roommate was sleeping,  s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we didn’t want to wake her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I went to bed  because I w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315200" y="1752480"/>
            <a:ext cx="380880" cy="38124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2819520"/>
            <a:ext cx="761760" cy="6858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4114800"/>
            <a:ext cx="1981440" cy="6858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/>
          </p:cNvPr>
          <p:cNvSpPr/>
          <p:nvPr/>
        </p:nvSpPr>
        <p:spPr>
          <a:xfrm>
            <a:off x="457200" y="6858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7301"/>
                </a:moveTo>
                <a:lnTo>
                  <a:pt x="14156" y="7301"/>
                </a:lnTo>
                <a:lnTo>
                  <a:pt x="14539" y="7667"/>
                </a:lnTo>
                <a:lnTo>
                  <a:pt x="23747" y="7667"/>
                </a:lnTo>
                <a:lnTo>
                  <a:pt x="24304" y="8224"/>
                </a:lnTo>
                <a:lnTo>
                  <a:pt x="24304" y="8772"/>
                </a:lnTo>
                <a:lnTo>
                  <a:pt x="26150" y="8772"/>
                </a:lnTo>
                <a:lnTo>
                  <a:pt x="26515" y="8224"/>
                </a:lnTo>
                <a:lnTo>
                  <a:pt x="27255" y="8224"/>
                </a:lnTo>
                <a:lnTo>
                  <a:pt x="27255" y="13376"/>
                </a:lnTo>
                <a:lnTo>
                  <a:pt x="26515" y="13376"/>
                </a:lnTo>
                <a:lnTo>
                  <a:pt x="26150" y="12828"/>
                </a:lnTo>
                <a:lnTo>
                  <a:pt x="24304" y="12828"/>
                </a:lnTo>
                <a:lnTo>
                  <a:pt x="24304" y="14107"/>
                </a:lnTo>
                <a:lnTo>
                  <a:pt x="14722" y="14107"/>
                </a:lnTo>
                <a:lnTo>
                  <a:pt x="14722" y="9877"/>
                </a:lnTo>
                <a:lnTo>
                  <a:pt x="14539" y="9877"/>
                </a:lnTo>
                <a:lnTo>
                  <a:pt x="14156" y="10243"/>
                </a:lnTo>
                <a:lnTo>
                  <a:pt x="13242" y="1024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6933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简单句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(simple sentenc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8560" y="2859120"/>
            <a:ext cx="677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1600200"/>
            <a:ext cx="52498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只包含一个主谓结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r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ene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两个主语和一个谓语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ev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his frien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are coming to dinn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一个主语和两个谓语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Mary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ene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e door and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greete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e guests.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2437920"/>
            <a:ext cx="67053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简单句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五种基本句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304560"/>
            <a:ext cx="78483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连系动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表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S+V+P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The weather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is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very c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不及物动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S+Vi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laughed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及物动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S+V+O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like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Chinese food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1828800"/>
            <a:ext cx="266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P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57400" y="4038480"/>
            <a:ext cx="5335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Vi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66680" y="6095880"/>
            <a:ext cx="5335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Vt</a:t>
            </a:r>
            <a:endParaRPr b="1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971800" y="6095880"/>
            <a:ext cx="2667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O</a:t>
            </a:r>
            <a:endParaRPr b="1" lang="en-US" sz="40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  <p:sndAc>
      <p:stSnd>
        <p:snd r:embed="rId9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990720"/>
            <a:ext cx="8305920" cy="52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4)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及物动词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间接宾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直接宾语    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S+V+IO+D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She taught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them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physic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及物动词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补足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S+V+O+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We must keep the room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warm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24080" y="3200400"/>
            <a:ext cx="533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IO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24280" y="3200400"/>
            <a:ext cx="533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DO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19920" y="6095880"/>
            <a:ext cx="2667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C</a:t>
            </a:r>
            <a:endParaRPr b="1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  <p:sndAc>
      <p:stSnd>
        <p:snd r:embed="rId7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请说出下列句子类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5639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.Summer is com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They won’t let me 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He showed me a new TV s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.She knows what to 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.The weather is very c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7320" y="1523880"/>
            <a:ext cx="115308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6600" y="2286000"/>
            <a:ext cx="161784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6600" y="3048120"/>
            <a:ext cx="276696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IO+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5560" y="4343400"/>
            <a:ext cx="164232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5560" y="5029200"/>
            <a:ext cx="156600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057400"/>
            <a:ext cx="268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P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i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O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IO+DO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O+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7620120" y="5715000"/>
            <a:ext cx="733320" cy="762120"/>
          </a:xfrm>
          <a:custGeom>
            <a:avLst/>
            <a:gdLst>
              <a:gd name="textAreaLeft" fmla="*/ 98280 w 733320"/>
              <a:gd name="textAreaRight" fmla="*/ 635040 w 733320"/>
              <a:gd name="textAreaTop" fmla="*/ 131760 h 762120"/>
              <a:gd name="textAreaBottom" fmla="*/ 56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67" stAng="-5400000" swAng="5400000"/>
                <a:lnTo>
                  <a:pt x="21600" y="12199"/>
                </a:lnTo>
                <a:arcTo wR="21600" hR="7467" stAng="0" swAng="1039604"/>
                <a:lnTo>
                  <a:pt x="16035" y="19136"/>
                </a:lnTo>
                <a:lnTo>
                  <a:pt x="0" y="17299"/>
                </a:lnTo>
                <a:lnTo>
                  <a:pt x="16035" y="10534"/>
                </a:lnTo>
                <a:lnTo>
                  <a:pt x="16035" y="12469"/>
                </a:lnTo>
                <a:arcTo wR="21600" hR="7467" stAng="1039604" swAng="-644334"/>
                <a:lnTo>
                  <a:pt x="20487" y="9833"/>
                </a:lnTo>
                <a:arcTo wR="21600" hR="7467" stAng="-395270" swAng="-5004730"/>
                <a:close/>
              </a:path>
              <a:path fill="darkenLess" w="21600" h="21600">
                <a:moveTo>
                  <a:pt x="0" y="0"/>
                </a:moveTo>
                <a:arcTo wR="21600" hR="7467" stAng="-5400000" swAng="5400000"/>
                <a:lnTo>
                  <a:pt x="21600" y="12199"/>
                </a:lnTo>
                <a:arcTo wR="21600" hR="7467" stAng="0" swAng="-395270"/>
                <a:lnTo>
                  <a:pt x="20487" y="9833"/>
                </a:lnTo>
                <a:arcTo wR="21600" hR="7467" stAng="-395270" swAng="-500473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2240" y="1471680"/>
            <a:ext cx="748368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并列句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(compound sentence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把两个或几个简单句用</a:t>
            </a:r>
            <a:r>
              <a:rPr b="0" lang="zh-CN" sz="6600" spc="-1" strike="noStrike">
                <a:solidFill>
                  <a:srgbClr val="ffff66"/>
                </a:solidFill>
                <a:latin typeface="Times New Roman"/>
              </a:rPr>
              <a:t>并列连词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连接起来，则成为一个并列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1680"/>
            <a:ext cx="914400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turned on the TV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watched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I turned on the TV  </a:t>
            </a:r>
            <a:r>
              <a:rPr b="1" i="1" lang="zh-CN" sz="4800" spc="-1" strike="noStrike">
                <a:solidFill>
                  <a:srgbClr val="66ff33"/>
                </a:solidFill>
                <a:latin typeface="Times New Roman"/>
              </a:rPr>
              <a:t>and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watched it.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bought my sister a   pres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She didn’t  like it.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I bought my sister a  present,</a:t>
            </a:r>
            <a:r>
              <a:rPr b="1" i="1" lang="zh-CN" sz="4800" spc="-1" strike="noStrike">
                <a:solidFill>
                  <a:srgbClr val="66ff33"/>
                </a:solidFill>
                <a:latin typeface="Times New Roman"/>
              </a:rPr>
              <a:t>but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she didn’t  like it.</a:t>
            </a:r>
            <a:r>
              <a:rPr b="0" i="1" lang="zh-CN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676520"/>
            <a:ext cx="2286000" cy="685800"/>
          </a:xfrm>
          <a:prstGeom prst="wedgeEllipseCallout">
            <a:avLst>
              <a:gd name="adj1" fmla="val -82152"/>
              <a:gd name="adj2" fmla="val 84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4648320"/>
            <a:ext cx="2286000" cy="685800"/>
          </a:xfrm>
          <a:prstGeom prst="wedgeEllipseCallout">
            <a:avLst>
              <a:gd name="adj1" fmla="val -58680"/>
              <a:gd name="adj2" fmla="val 993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21:59:21Z</dcterms:created>
  <dc:creator>Legend User</dc:creator>
  <dc:description/>
  <dc:language>en-US</dc:language>
  <cp:lastModifiedBy>Legend User</cp:lastModifiedBy>
  <dcterms:modified xsi:type="dcterms:W3CDTF">2002-05-23T22:26:18Z</dcterms:modified>
  <cp:revision>69</cp:revision>
  <dc:subject/>
  <dc:title>PowerPoint 演示文稿</dc:title>
</cp:coreProperties>
</file>