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C20-9628-4C97-B782-6E8E6BD5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668-B6B9-480D-866F-443DD39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1BB-BF23-4103-B3AA-393F110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2C6-E625-4538-8BA3-66724C35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377-75BA-4E4F-8136-E2D6B2D4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6976-CBC3-4AB1-B0D8-0E4B2000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FD8-9654-4E45-8CA0-2C17439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D237-C0D5-49E1-B77D-B33E5A61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41E-E512-41AD-90E3-2BD3B117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AB98-3BCD-47AA-B6C5-990AA45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8028-58E1-42EB-860B-91467A3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65F-99ED-4A48-92F8-A41FF9E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34C5-F0EE-4906-813D-0F0587E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03F-B1F2-4BFE-95C5-A9D4BD0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89BF-0B6D-4F60-9282-B93E760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3D29-C266-4CCB-B757-1B80680F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E45-04DA-4BFE-A1C9-23F6F050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F92-FF60-4911-B909-1EAE513C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FED-8CA1-4DC7-A9DC-935CE4E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015-B823-4E87-9C74-3A810F9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4E4-7CBB-44DF-A75F-008B9590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056-9A8F-4E39-868D-08CE7A3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233-8F96-4F42-82A0-FBE5B2C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78E-79DF-47A9-8CBD-3D74377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F5A0-39AF-43A2-80CB-01AFA327D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42E-C64C-490B-A11C-DDA74BD60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高三英语</a:t>
            </a:r>
            <a:br>
              <a:rPr sz="4800"/>
            </a:b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（一）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主讲：毕勤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听力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单项选择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完形填空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阅读理解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短文改错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书面表达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总计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考试时间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近几年高考难度系数在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0.5~0.5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之间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学生应具备的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项能力要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应会识别词义、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发音，了解词义，注意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会分析句子的基本结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句子的大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理解句子的深层含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句子的用语的了解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词汇在不同情景下的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一词多义，一词多种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情景下使用不同词汇、句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句型的变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⑥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用英语的思维进行思考，表达自己一定的情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⑦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把语言的使用与情景、人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人的社会身份相结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⑧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东西方文化差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⑨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使用工具书（字典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⑩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自己学习英语，安排自己的学习内容和时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备战高考时，首先要了解高考命题思路和命题原则，以及备战高考时的方法及策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英语产生兴趣，培养自己的自信心，对自己的目标确定合适，切实可行，掌握方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如听，找对材料有意识地听，无意识地听结合起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备战高考的方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汇表，带着一定的句子去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句型、常见试题，注意错题的积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范文、小短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使用好的句式进行书面表达，如新概念第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册中小短文，写作答案等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能力（听、读方面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针对自己的问题针对性地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不求第一次都对都会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但求第二次不错。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愈到考试时，降低难度，英语学习以练为主，以模仿为主，以理解为辅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高考的题型特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高考命题原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认真学习考纲，以课本为依据，不拘泥于课本，明确了解大纲说明，注重能力培养，明确对题型分值要求的注释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词汇表为主，对短语词汇有基本了解，参考教材，作为阅读材料、复习知识点的依据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题属于中等难题和容易题，按照自己水平安排复习思路和重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中淡化语法知识，重在交际，对各部分考试有所了解，复习时既要重视语法又不能完全陷入语法框架中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单项填空四个考查要点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基本语法知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惯用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词语辨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情景交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侧重能力的考核：思维能力、阅读能力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试卷比较稳定，有些变化，北京市命题，听力记入总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2:42:52Z</dcterms:created>
  <dc:creator>shihui</dc:creator>
  <dc:description/>
  <dc:language>en-US</dc:language>
  <cp:lastModifiedBy>aoxiao33</cp:lastModifiedBy>
  <dcterms:modified xsi:type="dcterms:W3CDTF">2002-07-02T01:37:18Z</dcterms:modified>
  <cp:revision>150</cp:revision>
  <dc:subject/>
  <dc:title>高一化学</dc:title>
</cp:coreProperties>
</file>