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6.gif" ContentType="image/gif"/>
  <Override PartName="/ppt/media/image12.png" ContentType="image/png"/>
  <Override PartName="/ppt/media/image3.gif" ContentType="image/gif"/>
  <Override PartName="/ppt/media/image11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applause.wav" ContentType="audio/x-wav"/>
  <Override PartName="/ppt/media/image8.gif" ContentType="image/gif"/>
  <Override PartName="/ppt/media/image13.gif" ContentType="image/gif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3D1-90AA-49AD-9651-45271225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10E-F14C-44D0-8494-C3289ED7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D316-22B2-45D4-B33F-CAC0098D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0DF-88FA-4156-8B43-F5035E5C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4116-94F3-4C44-A501-F6EDF909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7AD-3A4F-4619-B052-6419D260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450-7257-4A2D-BE1D-EDEB99CE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CFD-30FB-4A58-95CD-FE3283B5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D3D-8CE6-48A1-9277-9942F073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181A-D738-4E4B-8C9E-60591C0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48F-7655-4026-8B51-775CFF6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33D-DE17-48AE-9ED3-4075373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612-BC45-4596-9261-17A1BA274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714240"/>
            <a:ext cx="7162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方正舒体"/>
                <a:ea typeface="方正舒体"/>
              </a:rPr>
              <a:t>Unit 11  Planting Tre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7560" y="2173320"/>
            <a:ext cx="31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99ff"/>
                </a:solidFill>
                <a:latin typeface="Arial"/>
              </a:rPr>
              <a:t>Lesson 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10160" y="5516640"/>
            <a:ext cx="3670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初三英语备课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      </a:t>
            </a: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华文行楷"/>
              </a:rPr>
              <a:t>Oct.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541520" cy="158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15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99ff"/>
                </a:solidFill>
                <a:latin typeface="Times New Roman"/>
              </a:rPr>
              <a:t>Hi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5030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30200" y="4527720"/>
            <a:ext cx="63374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th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be fou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341360"/>
            <a:ext cx="7345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带情态动词的被动语态的构成形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01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情态动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544500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an, may, must, could, should have to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692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被动语态的构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4560" y="692280"/>
            <a:ext cx="1873080" cy="64260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066760"/>
            <a:ext cx="417672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情态动词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幼圆"/>
              </a:rPr>
              <a:t>+ be + 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212760" cy="21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5229360"/>
            <a:ext cx="231840" cy="23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39640" y="1608120"/>
            <a:ext cx="233640" cy="236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16000" y="2873520"/>
            <a:ext cx="73087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否定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在情态动词后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+ not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疑问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将情态动词调至主语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2924280"/>
            <a:ext cx="216000" cy="64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98560" y="3951360"/>
            <a:ext cx="576108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must fi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out the tru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446040"/>
            <a:ext cx="802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小树应每天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你的自行车需好好修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书不能带出阅览室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这水能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05876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These young tree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hould be water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357984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ook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be take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out of the reading-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24987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Your bike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s to be mended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508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the wate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be drunk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977080" y="4149720"/>
            <a:ext cx="2915640" cy="1922760"/>
            <a:chOff x="5977080" y="4149720"/>
            <a:chExt cx="2915640" cy="1922760"/>
          </a:xfrm>
        </p:grpSpPr>
        <p:sp>
          <p:nvSpPr>
            <p:cNvPr id="101" name=""/>
            <p:cNvSpPr/>
            <p:nvPr/>
          </p:nvSpPr>
          <p:spPr>
            <a:xfrm>
              <a:off x="7499880" y="4149720"/>
              <a:ext cx="1392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3300"/>
                  </a:solidFill>
                  <a:latin typeface="宋体"/>
                </a:rPr>
                <a:t>OK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977080" y="4278600"/>
              <a:ext cx="1529640" cy="1742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heel spokes="3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1280" y="115920"/>
            <a:ext cx="889344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</a:rPr>
              <a:t>Rewrite these sentenc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Students should correct their mistak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e must type the letter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They must clean their classroom e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Students should speak English in and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60" y="1125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mistak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correct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206064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letter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typ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 this afterno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360" y="3645000"/>
            <a:ext cx="867564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ir classroom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clean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th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00" y="5553000"/>
            <a:ext cx="89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English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hould be spoken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students in and out of cla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360" y="-27000"/>
            <a:ext cx="9144000" cy="61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You should hand in your composition the da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ter tomorr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6.We should knock a long stick into the earth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ext to the ho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7.We should tie the tree to the top of the stic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8.We must water the trees well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360" y="1305000"/>
            <a:ext cx="882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Your composition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hand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 by you the day after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280" y="3249720"/>
            <a:ext cx="8317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A long stick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knock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into the earth next to the hole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4784760"/>
            <a:ext cx="867564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should be ti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o the top of the stic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080" y="5873760"/>
            <a:ext cx="75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The tre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must be watered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</a:rPr>
              <a:t>well b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187280" cy="1528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584360"/>
            <a:ext cx="9144000" cy="3177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表示一个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动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带表语的结构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主语的特点或所处的</a:t>
            </a:r>
            <a:r>
              <a:rPr b="1" lang="zh-CN" sz="3600" spc="-1" strike="noStrike">
                <a:solidFill>
                  <a:srgbClr val="ff3399"/>
                </a:solidFill>
                <a:latin typeface="华文新魏"/>
                <a:ea typeface="华文新魏"/>
              </a:rPr>
              <a:t>状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如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e library is now closed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It is usually closed at 6 .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结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760"/>
            <a:ext cx="7488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146480"/>
            <a:ext cx="9144000" cy="27068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后面可带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y +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施动作者，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一般没有。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The glass is broken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系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It was broken by my sister . (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动结构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被动语态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 + PP (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表语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146160"/>
            <a:ext cx="7056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981000"/>
            <a:ext cx="9144000" cy="30873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③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”中的过去分词可以被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ll , ver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副词修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“被动结构”中的过去分词则一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能如此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book is well written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The book is written by Li Ming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076640"/>
            <a:ext cx="9144000" cy="27741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结构可以用于各种时态，而系表结构只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一般现在时和一般过去时这两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being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动语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work is done .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表结构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8000" y="1413000"/>
            <a:ext cx="8964720" cy="4157640"/>
          </a:xfrm>
          <a:prstGeom prst="rect">
            <a:avLst/>
          </a:prstGeom>
          <a:noFill/>
          <a:ln w="3816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系表结构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主动意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被动结构只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被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被动结构的句子往往有表示动作的时间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点、方式、目的等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状语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系表结构一般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这样的状语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The photo was taken last month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动语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br>
              <a:rPr sz="3600"/>
            </a:b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The photo was well taken .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系表结构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90520"/>
            <a:ext cx="7488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被动语态与系表结构的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76360" y="1197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251400" y="3789360"/>
            <a:ext cx="20656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51400" y="3573360"/>
            <a:ext cx="1138320" cy="995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4237200"/>
            <a:ext cx="5435640" cy="1096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505320" y="5248440"/>
            <a:ext cx="5333760" cy="1076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578560" y="4952880"/>
            <a:ext cx="533376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911320" cy="2427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2819520"/>
            <a:ext cx="4495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Thank you !</a:t>
            </a:r>
            <a:endParaRPr b="1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6640" y="914400"/>
            <a:ext cx="1600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Bye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9370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68768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im 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Teaching aims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692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303ff"/>
                </a:solidFill>
                <a:latin typeface="Times New Roman"/>
              </a:rPr>
              <a:t>Retell the Great Green Wal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700280"/>
            <a:ext cx="7543800" cy="43315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keep…from…,  wash…away,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ay in one place,  pr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cross,  is…long and …wid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stop…from, save, needed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Times New Roman"/>
              </a:rPr>
              <a:t>all over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257800"/>
            <a:ext cx="7925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19700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ustralia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ousands of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awa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20667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r Bell is nearly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o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ta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2673360"/>
            <a:ext cx="8280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The river near here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573360"/>
            <a:ext cx="896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Our classroom is abou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welve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eight 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360" y="450864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The Yellow River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5,464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lo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5013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The hole must be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lf a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dee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5661000"/>
            <a:ext cx="817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Mount Emei is ove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ree thous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hig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592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The Great Green Wall is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etween 400 an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1,700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kilomet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wid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1484280"/>
            <a:ext cx="9109080" cy="15080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metre(s) / kilometer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幼圆"/>
              </a:rPr>
              <a:t>long/ wide/ high/ tall/ deep/thick/lo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69228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计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3284640"/>
            <a:ext cx="3672000" cy="764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彩云"/>
              </a:rPr>
              <a:t>重量的表达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280" y="4005360"/>
            <a:ext cx="8964720" cy="1630440"/>
          </a:xfrm>
          <a:prstGeom prst="rect">
            <a:avLst/>
          </a:prstGeom>
          <a:solidFill>
            <a:srgbClr val="cc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幼圆"/>
              </a:rPr>
              <a:t>数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+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幼圆"/>
              </a:rPr>
              <a:t>kilo(s) +hea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000" y="1484280"/>
            <a:ext cx="9036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1.A: Can I skate on the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B: Of course. The ice in the river 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over on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met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______. It’s stro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幼圆"/>
              </a:rPr>
              <a:t>eno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The Great Wall is more than 6,0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kilometres _____,and 5 met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 enough for five horse or ten 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walk side by side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并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 along the to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84720" y="234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thi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71640" y="4148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9592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w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190440"/>
            <a:ext cx="78501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Fill in the blanks wi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 </a:t>
            </a: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幼圆"/>
              </a:rPr>
              <a:t>high, tall, deep, thick, long, or wid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365120"/>
            <a:ext cx="903600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A: How ______is the Baikal Lake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贝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尔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, do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It’s 1,620 metres _____, I think. It is th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epest lake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A: I’ve never climbed such a 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unt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: Oh, have ypu? It’s about 2,400 me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11970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3280" y="249228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860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5823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t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184464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A: Michael Jordan is a fantastic basketball play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 Yes, you know, he’s about 2 metre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6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 rot="21408600">
            <a:off x="1770120" y="1480680"/>
            <a:ext cx="5608440" cy="22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Watch and listen carefully!</a:t>
            </a:r>
            <a:endParaRPr b="1" lang="en-US" sz="32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7:53:05Z</dcterms:created>
  <dc:creator>user</dc:creator>
  <dc:description/>
  <dc:language>en-US</dc:language>
  <cp:lastModifiedBy>mmh</cp:lastModifiedBy>
  <dcterms:modified xsi:type="dcterms:W3CDTF">2004-10-17T00:54:31Z</dcterms:modified>
  <cp:revision>16</cp:revision>
  <dc:subject/>
  <dc:title>幻灯片 1</dc:title>
</cp:coreProperties>
</file>