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C46-7940-451B-9BAF-69980DB9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94C-1444-42D2-BE29-71D88E47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7C5-2C1A-4CD4-96F5-A7555311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AA4-6911-4447-BDD8-0EF27655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684-6295-418E-8799-E225F8EA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A00-C8C6-4A52-A895-0269823E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D62-DA60-4079-9574-FF0D00D3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101-DF61-4D22-89D4-DFF8A62F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AE9-7E99-412A-9311-04215B7F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EF8-5FF3-4FDC-8DE8-A86F2F8B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1F2-10AA-4B9D-96C4-3A942430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817-32E7-498B-BEB7-76A54018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888D-500F-4E5C-B34F-AFB0A069A8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3623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临 江 中 学       江 建 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gy</cp:lastModifiedBy>
  <dcterms:modified xsi:type="dcterms:W3CDTF">2004-12-20T13:29:55Z</dcterms:modified>
  <cp:revision>25</cp:revision>
  <dc:subject/>
  <dc:title>PowerPoint Presentation</dc:title>
</cp:coreProperties>
</file>