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81CE-360D-4937-BDBD-427F09FB5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FA28-654B-402B-A2C9-82041D9FB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FF40-685F-4E9C-B2EF-48C7704BE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34A0-EE96-4524-B9E2-CCC2079FE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8AE5-4D8F-4BC7-95CA-C1D680E61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0C36-18C8-40C6-B1F4-69D260B73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0947-9FE5-4F6D-93CE-9E966B9E7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BDFF-1298-4C34-AD7B-6CAF8F93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E6C5-682D-41F2-B25F-84401863F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3984-93DD-4CB4-BD8F-B2B66C9C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6B8B-F880-4223-80BD-8862A32A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A38F-A37B-41E1-98B0-595134DA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859E3-16AC-45BA-8980-EC34FD4AC9D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45640" y="171360"/>
            <a:ext cx="425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Unit      8     first   aid</a:t>
            </a: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37120" y="525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94520" y="838080"/>
            <a:ext cx="58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教学目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了解在各种意外的紧急情况下的急救知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30200" y="1447920"/>
            <a:ext cx="445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练习用英语知识表达应该做和不应该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48440" y="1981080"/>
            <a:ext cx="32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)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继续学习并运用虚拟语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06560" y="24638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93320" y="2529000"/>
            <a:ext cx="70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写一篇有关顺序表达方式的短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50040" y="3048120"/>
            <a:ext cx="12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教材分析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3809880"/>
            <a:ext cx="8397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本单元的中心话题是意外情况下的急救知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语言技能和语言知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至要围绕急救这一中心话题进行设计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热身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warming  up 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部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通过六幅图片导入新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让学生针对这些图片思考一些问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你会怎么办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该怎么办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5638680"/>
            <a:ext cx="38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586728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267080" y="358128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76600" y="371520"/>
            <a:ext cx="5374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谈论这些问题的情况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你会想到那些生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激发学生的学习兴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听力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listening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提供发生在医院里的情况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个男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腿部受伤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另一个小女孩误喝了墨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教材设计了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笔记形式的问题填空和填缺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目的是训练学生通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听获取急救方面的信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33240" y="3343320"/>
            <a:ext cx="556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口语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peaking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部分继续围绕在家里如何确保家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安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应该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应该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训练学生听的能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学生说出更多的句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引发真实性的交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753920" y="485640"/>
            <a:ext cx="5955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读前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pre-read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设立了三个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line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供学生讨论选择哪种提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学生可以各自表达自己的看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下面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ad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打下伏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99240" y="2711520"/>
            <a:ext cx="492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阅读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reading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救主要介绍一些常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   ABC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利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人们记住这方面的知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24200" y="3809880"/>
            <a:ext cx="5295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读后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post-read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呈现三幅图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用 课文所学的知识说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图中的人物正在如何运用急救知识救助伤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24360" y="5334120"/>
            <a:ext cx="401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个问题是复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   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1011240"/>
            <a:ext cx="24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91000" y="533520"/>
            <a:ext cx="6136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语言学习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Language  study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词汇和语汇两部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词汇部分设计了五个情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帮助学生加深对新词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理解和记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时指导学生养成通过语境记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词语的方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题是一个故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通过上下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语境内容选择所给的词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加深所学知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49800" y="2971800"/>
            <a:ext cx="6807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语法部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虚拟语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学生掌握对将来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现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过去   这三种情况的假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还有虚拟语气在宾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从句的用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ggest,recommen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里有三大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一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据语境填上合适的虚拟语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虚拟语气连接句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三题改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63680" y="609480"/>
            <a:ext cx="54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些练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利于学生从理论到实践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循序渐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利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学生比较牢固地掌握这部分的语法内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88920" y="1735200"/>
            <a:ext cx="6362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综合技能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Integrating   skills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阅读部分谈如何处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ima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it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t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isoning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如何进行急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时进行分组活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最后写作部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学生运用所学知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写出表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顺序的短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280" y="466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481120" y="4311720"/>
            <a:ext cx="50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学习建议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Tips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提供如何做一个急救箱的内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本单元的话题服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95360" y="5454720"/>
            <a:ext cx="57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复习要点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checkpoin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复习虚拟语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学生造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句型转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625480" y="8683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课时安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26800" y="1924200"/>
            <a:ext cx="16408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80520" y="1917720"/>
            <a:ext cx="58392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Warming-up and list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pea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Reading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Reading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Word and gramma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ntegrating skills 1 and 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ntegrating skills 2 and exerci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ckal</cp:lastModifiedBy>
  <dcterms:modified xsi:type="dcterms:W3CDTF">2001-05-30T16:07:53Z</dcterms:modified>
  <cp:revision>12</cp:revision>
  <dc:subject/>
  <dc:title>PowerPoint Presentation</dc:title>
</cp:coreProperties>
</file>