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image3.png" ContentType="image/png"/>
  <Override PartName="/ppt/media/DRIVEBY.WAV" ContentType="audio/x-wav"/>
  <Override PartName="/ppt/media/image6.png" ContentType="image/png"/>
  <Override PartName="/ppt/media/ALTOSAX.WAV" ContentType="audio/x-wav"/>
  <Override PartName="/ppt/media/PROJCTOR.WAV" ContentType="audio/x-wav"/>
  <Override PartName="/ppt/media/EXPLODE.WAV" ContentType="audio/x-wav"/>
  <Override PartName="/ppt/media/image4.png" ContentType="image/png"/>
  <Override PartName="/ppt/media/TYPE.WAV" ContentType="audio/x-wav"/>
  <Override PartName="/ppt/media/image2.png" ContentType="image/png"/>
  <Override PartName="/ppt/media/DRUMROLL.WAV" ContentType="audio/x-wav"/>
  <Override PartName="/ppt/media/DIDJERID.WAV" ContentType="audio/x-wav"/>
  <Override PartName="/ppt/media/image5.png" ContentType="image/png"/>
  <Override PartName="/ppt/media/image10.jpeg" ContentType="image/jpeg"/>
  <Override PartName="/ppt/media/image16.png" ContentType="image/png"/>
  <Override PartName="/ppt/media/HARP.WAV" ContentType="audio/x-wav"/>
  <Override PartName="/ppt/media/image14.png" ContentType="image/png"/>
  <Override PartName="/ppt/media/image15.png" ContentType="image/png"/>
  <Override PartName="/ppt/media/GUITELEC.WAV" ContentType="audio/x-wav"/>
  <Override PartName="/ppt/media/MARIMBA.WAV" ContentType="audio/x-wav"/>
  <Override PartName="/ppt/media/image13.png" ContentType="image/png"/>
  <Override PartName="/ppt/media/image12.png" ContentType="image/png"/>
  <Override PartName="/ppt/media/image8.png" ContentType="image/png"/>
  <Override PartName="/ppt/media/OBO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7.png" ContentType="image/png"/>
  <Override PartName="/ppt/media/LUT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513-C153-4C2C-BD1A-81B13BB8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6F0-1281-4115-B127-F26D5B5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B27-BA31-41A8-AF35-9258E315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BEF-0691-4F7C-A56F-9BED8B8A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810F-0B48-4F73-BC01-38F83AAB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0EFE-E296-447F-A303-40FD59D6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E696-E77B-4146-B913-DB1C5E7B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3D72-E5D7-45B6-B17D-2420EBD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9315-62AB-44ED-A8E2-2C916FF4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A351-80F2-4580-BD7F-9DB11601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F5FF-866C-474C-8035-D8247E6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686-F935-48F6-966B-DC72A833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D18E-AF85-492F-AD3D-F68501E4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E6A2-18DF-48C6-BEF9-AC63125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EA46-6E81-4CB4-8798-A6647A8D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51DA-9EF9-4F13-B169-C5038A01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F84A-BBC4-4A59-B91C-38A95C09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203-5681-4F8D-B23A-CFC8842A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211-0B8D-43B9-A976-DD2D526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822-3B30-4A13-84AA-A6A911CB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BC5-829A-4459-9623-C1CFA51B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FCA-E9B7-4F50-A9F0-FEEDA3FE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EED-C879-4201-8FD1-C9F3FB77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788-774F-4882-82A0-A090F1A4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18CF-A31C-403A-8E17-C640D75D5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826E-895D-4F1B-8EAC-87B4479EE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UT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OBO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MARIMB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UITELEC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HARP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ALTOSAX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ustralia_sm99" descr=""/>
          <p:cNvPicPr/>
          <p:nvPr/>
        </p:nvPicPr>
        <p:blipFill>
          <a:blip r:embed="rId1"/>
          <a:stretch/>
        </p:blipFill>
        <p:spPr>
          <a:xfrm>
            <a:off x="0" y="0"/>
            <a:ext cx="72756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3623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3366cc"/>
                </a:solidFill>
                <a:latin typeface="Times New Roman"/>
              </a:rPr>
              <a:t>Australia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762120"/>
            <a:ext cx="3886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50960" indent="-750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DIDJERI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1371600"/>
            <a:ext cx="716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 Australian aboriginal artist works on a sheet of bark.  Such paintings are traditional throughout Oce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581120" y="380880"/>
          <a:ext cx="588636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380880"/>
                    <a:ext cx="58863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IDJERI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51120" y="1523880"/>
            <a:ext cx="675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boriginal cave paintings are a native Australian art fo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600200" y="457200"/>
          <a:ext cx="60199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6019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436680"/>
            <a:ext cx="73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dgeridoo - The didgeridoo (pronounced didg-er-ee-doo) is an unusual trumpet played by the Aborigines of northern Australia to accompany dance and song. It is constructed of a large tube of Eucalyptus wood or bamboo. One end rests on the ground, while the player simultaneously blows and sings into the other end of the instrument, producing a deep, buzzing drone and more subtle effects: high partials, rhythmic articulations, and changes of tone color. To create this sound requires circular breathing, a difficult technique of taking in air through the nose while simultaneously blowing air out through the mo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7-1-3933_digeridoo" descr=""/>
          <p:cNvPicPr/>
          <p:nvPr/>
        </p:nvPicPr>
        <p:blipFill>
          <a:blip r:embed="rId1"/>
          <a:stretch/>
        </p:blipFill>
        <p:spPr>
          <a:xfrm>
            <a:off x="2200320" y="0"/>
            <a:ext cx="47451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162920" y="4440240"/>
            <a:ext cx="16761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日，国际奥委会主席萨马兰奇在当地土著居民的陪同下，参观了当地土著人居住的地方。图为萨马兰奇试着演奏土著人的传统乐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7-1-4171_au0912111szy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45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6324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澳大利亚土著艺术家十二日在悉尼歌剧院前吹奏传统乐器，为即将开幕的奥运会助兴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-9360"/>
          <a:ext cx="9144000" cy="68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IVEB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1219320"/>
            <a:ext cx="73152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cc"/>
                </a:solidFill>
                <a:latin typeface="Times New Roman"/>
              </a:rPr>
              <a:t>Banner-carrying aborigines march in 1980 in protest against government plans to begin oil drilling on sacred aboriginal sit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733920" y="41148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5490a8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Aborigines</a:t>
            </a:r>
            <a:endParaRPr b="0" i="1" lang="en-US" sz="2400" spc="1" strike="noStrike">
              <a:ln cap="sq" w="9360">
                <a:solidFill>
                  <a:srgbClr val="5490a8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362320" y="160020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People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Weather and Lan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LUT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219320" y="291960"/>
          <a:ext cx="678168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1960"/>
                    <a:ext cx="67816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OBO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91440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ustralia has many varied features. In the center are dry riverbeds, like the one winding through the Macdonnell Rang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828800" y="228600"/>
          <a:ext cx="54100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"/>
                    <a:ext cx="54100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MARIMB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33720" y="1600200"/>
            <a:ext cx="5715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In Queensland there are sugarcane field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5120" y="15235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Sports and Game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GUITELEC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739880" y="457200"/>
          <a:ext cx="57164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457200"/>
                    <a:ext cx="57164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HARP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00200" y="990720"/>
            <a:ext cx="6705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Sailing is popular among Australians. In Melbourne, children learn to handle small boats on the Yarra Riv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79480" y="304920"/>
          <a:ext cx="53834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304920"/>
                    <a:ext cx="53834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62320" y="167652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Football is a popular sport in Australi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0" y="304920"/>
          <a:ext cx="4505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4920"/>
                    <a:ext cx="4505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66680" y="609480"/>
          <a:ext cx="7162920" cy="51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16292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800" y="28191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33480" y="838080"/>
            <a:ext cx="631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n aboriginal man of South Australia wears a cap of plaited straw and carries a decorated woomera, a stick used to cradle a spear and give added leverage in throwing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514440" y="762120"/>
          <a:ext cx="8020080" cy="55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762120"/>
                    <a:ext cx="802008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ALTOSAX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17524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boriginal family is at home in South Australia; the woman is spinning w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85800" y="268200"/>
          <a:ext cx="76960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8200"/>
                    <a:ext cx="76960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6019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es work in a lumber forest on Melville Island off the coast near Darw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49600" y="380880"/>
          <a:ext cx="5565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380880"/>
                    <a:ext cx="5565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01:33:48Z</dcterms:created>
  <dc:creator>home</dc:creator>
  <dc:description/>
  <dc:language>en-US</dc:language>
  <cp:lastModifiedBy>home</cp:lastModifiedBy>
  <dcterms:modified xsi:type="dcterms:W3CDTF">2000-10-12T21:12:49Z</dcterms:modified>
  <cp:revision>13</cp:revision>
  <dc:subject/>
  <dc:title>Australia</dc:title>
</cp:coreProperties>
</file>