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hc_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990720" y="2590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Lesson17 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667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5  Practice 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3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6   Ex 1  Work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764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mework: 1.Finish off the wb exerci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Prepare Lesson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ep 1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" y="12952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ere can you find advertisemen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33520" y="281952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Why do companies advertis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419112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Do you watch advertisements on TV?  Which are your favorite advertisement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000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2.Read the dialogue an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621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is the advertisement for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 camera  B. a computer  C. a typewriter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hat will the ad be like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humorous  B. serious  C.exciting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767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hat suggestion seems to be the final decisio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1484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b’s suggestion: Put comments of the customers’ at the top of the ad in big print and bring in some humo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676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3  Find out the sentences in the dialogue used to express agreement and dis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0164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greemen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60164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isagreemen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5884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I agree with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258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That’s true/ righ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040280"/>
            <a:ext cx="426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Good idea!/ That’s great!/ Why not!/ Exact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057400"/>
            <a:ext cx="525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I’m afraid I can’t agree with you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048120"/>
            <a:ext cx="4419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Sorry, I don’t think s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005360"/>
            <a:ext cx="4191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Do you (really ) think so?/ Do you think…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194440"/>
            <a:ext cx="4038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I don’t agree (with …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956200"/>
            <a:ext cx="4648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I don’t think you are righ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183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I think 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4.language po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advertise:   to make sth known to the public.(v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4792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ertising(n): the business which concerns itself with making known to the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909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ertisement(n)=ad: a notice for something for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8915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make the product known to people,you can advertise it on TV or newspa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find much advertising on newspap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newspapers,and you can find a lot of advertisements 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have comments from----listen to the views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opinions of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听取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的意见／评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”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comment----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1444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d better have  comments from your teachers and classmate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你最好听听你的老师和同学们的意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5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no comment on th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956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用作动词，表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批评，评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意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9290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ment 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出评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625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critics commented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vorab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on his new book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论家们对于他的新书给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60556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另外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对别人的提问、询问不想回答、不愿回答时，通常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No comment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无可奉告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01480"/>
            <a:ext cx="8763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bring in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意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介绍，引进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相当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ntroduce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ring in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可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搬进，收获，挣得，逮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之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56852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ring in the washing ; it looks like rain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洗好的衣服收进来，好像要下雨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71152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brings in an extra hundred dollars a month from his new j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他的新工作使他每个月多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美元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2354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farmers are bringing in apples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农民正在收苹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07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7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who went abroad brought in a lot of new ideas when they came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express one's satisfaction with</a:t>
            </a:r>
            <a:r>
              <a:rPr b="1" lang="zh-CN" sz="3200" spc="-1" strike="noStrike">
                <a:solidFill>
                  <a:srgbClr val="000000"/>
                </a:solidFill>
                <a:latin typeface=" 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意为“对……表示满意”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atisfaction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由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atisfy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（使感到满意）派生而来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arents expressed their satisfaction with their son's performances in the concert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1168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way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y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。常见词组有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y to do sth.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doing sth.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sth.  in a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y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sth.in this way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t   way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。例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85800"/>
            <a:ext cx="9144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ur chemistry teacher had a funny way of making</a:t>
            </a:r>
            <a:r>
              <a:rPr b="0" lang="zh-CN" sz="3200" spc="-1" strike="noStrike">
                <a:solidFill>
                  <a:srgbClr val="000000"/>
                </a:solidFill>
                <a:latin typeface=" 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make his classes lively and interes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on't like the way he spoke to his teach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ly in this way can you solve the math  proble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2:52:55Z</dcterms:created>
  <dc:creator>Benny Lee</dc:creator>
  <dc:description/>
  <dc:language>en-US</dc:language>
  <cp:lastModifiedBy>w</cp:lastModifiedBy>
  <dcterms:modified xsi:type="dcterms:W3CDTF">2004-08-23T15:44:14Z</dcterms:modified>
  <cp:revision>25</cp:revision>
  <dc:subject/>
  <dc:title>PowerPoint 演示文稿</dc:title>
</cp:coreProperties>
</file>