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0A7-CBA6-4EB2-AD40-409A243D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405-DC31-461C-90C4-CD71A5D0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1FC-436D-42CE-A6AD-5AFA14E3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9C6-EC2A-4352-9A32-10F5F8C2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39D9-C09E-4884-A0D9-28342AA9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6FF8-FB89-48D7-95D1-BD73A86E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F1F5-FBCB-46D2-8209-702E910A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79F3-4FB0-4B3F-919A-D75BCC13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C613-0F43-41A0-9C7F-F344727E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A5D0-A7ED-44FB-9BB5-E2727E08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573-4E4A-468F-BF12-CD1AC1C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6C3-6090-4D58-A367-7488A175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7057-74C6-4267-9E62-9B552EBC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B6C6-13FE-4327-AAD2-A68EA2C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C713-1923-464F-9B12-5209716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0B6A-6463-4907-AADC-BD476040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4BB0-1F8F-437D-85CC-C6DC8C4B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8EC-1667-4630-BA48-3B88B261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760-E13C-4FA8-9680-EFDA6498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BE4-9F5B-4829-B1C2-FA8D0BA9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19F-2EFA-4B85-98B5-EC81B016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E31-0469-4CAA-8D58-5C89120A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842-615C-40C0-AFEB-BE9B24B9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C66-A50A-4E5B-B7AA-FEEF436C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EEBA-2448-4CC0-9BD8-DFCCE15E28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D1A6-6C3B-4BF3-97B9-5525E4EA3A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高三英语</a:t>
            </a:r>
            <a:br>
              <a:rPr sz="4800"/>
            </a:b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（一）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主讲：毕勤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听力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单项选择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完形填空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阅读理解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短文改错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书面表达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总计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考试时间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近几年高考难度系数在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0.5~0.5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之间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学生应具备的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项能力要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应会识别词义、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发音，了解词义，注意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会分析句子的基本结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句子的大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理解句子的深层含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句子的用语的了解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词汇在不同情景下的变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一词多义，一词多种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情景下使用不同词汇、句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句型的变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⑥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用英语的思维进行思考，表达自己一定的情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⑦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把语言的使用与情景、人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人的社会身份相结合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⑧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东西方文化差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⑨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使用工具书（字典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⑩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自己学习英语，安排自己的学习内容和时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备战高考时，首先要了解高考命题思路和命题原则，以及备战高考时的方法及策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英语产生兴趣，培养自己的自信心，对自己的目标确定合适，切实可行，掌握方法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如听，找对材料有意识地听，无意识地听结合起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备战高考的方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词汇表，带着一定的句子去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句型、常见试题，注意错题的积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范文、小短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使用好的句式进行书面表达，如新概念第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册中小短文，写作答案等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能力（听、读方面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针对自己的问题针对性地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不求第一次都对都会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但求第二次不错。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愈到考试时，降低难度，英语学习以练为主，以模仿为主，以理解为辅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高考的题型特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高考命题原则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认真学习考纲，以课本为依据，不拘泥于课本，明确了解大纲说明，注重能力培养，明确对题型分值要求的注释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以词汇表为主，对短语词汇有基本了解，参考教材，作为阅读材料、复习知识点的依据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/3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题属于中等难题和容易题，按照自己水平安排复习思路和重点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中淡化语法知识，重在交际，对各部分考试有所了解，复习时既要重视语法又不能完全陷入语法框架中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单项填空四个考查要点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基本语法知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惯用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词语辨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情景交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侧重能力的考核：思维能力、阅读能力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试卷比较稳定，有些变化，北京市命题，听力记入总分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2:42:52Z</dcterms:created>
  <dc:creator>shihui</dc:creator>
  <dc:description/>
  <dc:language>en-US</dc:language>
  <cp:lastModifiedBy>aoxiao33</cp:lastModifiedBy>
  <dcterms:modified xsi:type="dcterms:W3CDTF">2002-07-02T01:37:18Z</dcterms:modified>
  <cp:revision>150</cp:revision>
  <dc:subject/>
  <dc:title>高一化学</dc:title>
</cp:coreProperties>
</file>