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39E-27EA-499A-A662-9558BB2A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84F-15F5-4E8B-8673-372639AA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864-2C48-4A85-9CDF-24EBB0ED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3BE-E0DF-408C-8EA4-1C9522B1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5AE-A86E-44AC-9BA6-D58D488D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7DF-0D36-4AD8-90E0-D29784DB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E5D-16AA-434F-BC4C-26AA6CCB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A38-93CB-4126-B02C-6CA2350D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8F8-B55A-449D-B9C7-B899149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DE6-943F-484D-934D-C4E6D34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505-4E06-4ED3-8110-AC393EB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C8F-DA12-4566-BAA5-E1E6D3EA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B0E4-151A-4FB0-881C-72F8CD78E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1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5715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533520"/>
            <a:ext cx="7620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 you arrive to your work pla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Pray to God and ask his guida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ngel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10516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95680" y="42670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tolera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3808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Understand that not everybody is at your leve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ngel1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57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71800" y="6094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ceive praise with reticen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0" y="3504960"/>
            <a:ext cx="411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humility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7621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vantGarde Bk BT"/>
              </a:rPr>
              <a:t>God is with yo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Bookman Old Style"/>
              </a:rPr>
              <a:t>That is called LOV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gel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81480" y="2286000"/>
            <a:ext cx="3733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0" y="53316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eet your colleagu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47960" y="4419720"/>
            <a:ext cx="5105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friendship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ngel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205740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ive to everybody the best of yoursel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sincerity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ngel5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81480" y="990720"/>
            <a:ext cx="39625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gram and organize your da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4647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reflection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685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0492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ngel6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64832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4724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taking action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457200"/>
            <a:ext cx="3886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w that you have planned everything begin to wor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ngel7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4647960" cy="6400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52880" y="1905120"/>
            <a:ext cx="419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rust that everything will be O.K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526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 faith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ngel2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8676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480060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enthusiasm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990720"/>
            <a:ext cx="3429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Work with happine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135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ngel12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548640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2057400" y="4952880"/>
            <a:ext cx="8229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excelle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2895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ive the best of yoursel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ngel14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64796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Help those with more difficulties than yo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914760" y="4495680"/>
            <a:ext cx="6095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compass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uannell Owens</cp:lastModifiedBy>
  <dcterms:modified xsi:type="dcterms:W3CDTF">2000-03-04T01:13:17Z</dcterms:modified>
  <cp:revision>14</cp:revision>
  <dc:subject/>
  <dc:title>Slide sem título </dc:title>
</cp:coreProperties>
</file>