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93B-C8DD-42A4-8BCA-38E00259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FBEF-2179-421D-9467-6AEEB911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1A65-7B38-4B42-8475-7804B6FB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FED-1706-4AA4-8971-0754208A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9103-8ABF-4006-B1D2-6AD18B27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D6B-DC2C-4CE5-A74A-81448666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1BD-C831-48D3-8C78-BE484BF3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071E-D9B7-4B02-B5A2-6108BCA1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B59-FF19-43F9-AC5E-6848D164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300-8EAA-44A7-9E89-A1CA85B6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563-A75A-4917-8E04-449108BC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431-33D2-4B55-B9B9-B0CAE64D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B626-FC73-4C42-B48D-5F94EDF2B2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39240" y="152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一）情态动词专项训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86266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go out for a walk,_______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all we   B.  don’t you    C. will you     D. do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He _______ his parents about his failure in the ex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ares not tell          B. dares not to t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are not tell            D. dare not t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--- would you like to have a cup of t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s, I’ll like to           B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s, I’d like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, I wouldn’t         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, I don’t like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______ give him a message when you see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please                 B. Would you li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ld you mind            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you p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You must have gone to see Bill yesterday, ______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ustn’t      B. needn’t     C. didn’t     D. hav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77440" y="47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3424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33880" y="3038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720" y="433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49240" y="5629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5280" y="66600"/>
            <a:ext cx="8684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you suggesting that I _____ too inexperienc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he jo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No, I only suggest that you _____ more car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 be, should have been     B. am, should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should be, be       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been, should have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______ out of season, I would have ordered some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ruit st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oranges would have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oranges have not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d oranges not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uld oranges not have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---- Why didn’t you help 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I would have _______ I didn’t have th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till       B but          C. otherwise               D.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67440" y="-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704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1280" y="5172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3800" y="254160"/>
            <a:ext cx="8741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 insisted what he said _____ true and we 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he ______ and have a loo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; should go       B. should be; would 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as ; go                D. would 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He ______ Shanghai, for I saw him talking with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dmaster a moment ago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must have gone to                 B. can’t have gon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mustn’t have been to            D. can’t have been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My English- Chinese dictionary has disappea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 _______ have taken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ould   B. must   C. could   D. w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---- I don’t mind telling you what I k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You _______ . I’m not asking you fo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ustn’t   B. may not   C. can’t   D. nee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6324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86160" y="1895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6740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0920" y="5324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8480" y="371520"/>
            <a:ext cx="8896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too slow. She _____ pass the test, but she 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o litt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ould; knew                B. will;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ould; knows              D. will; k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The fire spread through the hotel very quickly b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one ______ ge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had to      B. would        C. could         D. was abl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----- Do you dare to go home al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- ___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Yes, I dare       B. No, I da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Yes, I do           D. No, I dare not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On Sundays when I was a child, Father and I 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up early and go fis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uld          B. would         C. might           D. sh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4884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09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43720" y="37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10640" y="501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160" y="152280"/>
            <a:ext cx="880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-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’d better keep quiet in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Sometimes I  _____ . Yesterday, I was very qui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ring my English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ould           B. do            C. did          D.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---- They haven’t finished the work up to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Well, they 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ould    B. should have   C. would    D. must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----_______ he come to see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Of course, please.And I’d rather he ______m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u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ll;inform                   B. Shall; tol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; will say              D. Can; sp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Jenny _____ come with us tonight, but she isn’t 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e y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ll            B. may          C. can               D.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91280" y="523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38640" y="2200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86160" y="3038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67040" y="5248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3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800" y="228600"/>
            <a:ext cx="9262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is actually quite simple,but the way how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molecule is formed gives water its uniqu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is a liquid at room temperature and h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ly high frozen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trients in whatever falling into the ocean w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ly become available to other living cr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nsity of pure water is 1 000 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meaning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cubic metre of water weighs for one thousand kil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 capacity is the amount of energy that take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se the temperature of a substance one degree centig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0"/>
            <a:ext cx="30456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53800" y="1004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1066680"/>
            <a:ext cx="76212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2362320"/>
            <a:ext cx="914400" cy="7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15160" y="189540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ree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3276720"/>
            <a:ext cx="99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57280" y="31910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4572000"/>
            <a:ext cx="5335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7800" y="48672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4952880"/>
            <a:ext cx="45720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400800" y="5714640"/>
            <a:ext cx="38088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715000"/>
            <a:ext cx="53352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45240" y="62485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6640" y="177840"/>
            <a:ext cx="8704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ter in the ocean also keeps the temperatur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arth steadily by absorbing and releasing h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reatures on the ocean floor manage to surv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nlight and getting energy from other 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ixing of fresh and salt water creates a un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 is filled with life of all ki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,animals can enjoy all the benefits of the oc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having to face much of its dang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estuaries protect animals and plant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 erosion , protect them is very impor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11430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66880" y="82872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e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236232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67080" y="22766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27672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19560" y="319104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3276720"/>
            <a:ext cx="8380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495288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72560" y="44863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971800" y="6172200"/>
            <a:ext cx="1066680" cy="76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67440" y="616284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t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3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444680" y="905040"/>
            <a:ext cx="3345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翻转，倒过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提出，想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记录，记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获益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范围从…，一直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也就是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毁坏，出毛病，受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;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效，有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利用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起作用，生效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反应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各种各样的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贡献，有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1480" y="82872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urn…upside dow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7840" y="128592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come up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9040" y="166680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make note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6240" y="213372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nefit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41720" y="2590920"/>
            <a:ext cx="47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range from… all the way 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8320" y="304812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hat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52640" y="3352680"/>
            <a:ext cx="198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reak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3600" y="3962520"/>
            <a:ext cx="31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come availabl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9000" y="4334040"/>
            <a:ext cx="28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ake advantag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91360" y="471492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do the work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8840" y="517212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 sensitiv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60240" y="55530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 variet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85200" y="601020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contribut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04920" y="304920"/>
            <a:ext cx="1380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3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-504360" y="939960"/>
            <a:ext cx="1013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 will certainly be surprised if he_______to tell th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at he kn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dare          B. dared           C. will dare          D. d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When I was at college I ________three foreign languag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ut I ________all except a few words of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spoke;had forgotten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. spoke; have forgo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had spoken; had forgotten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. had spoken; have forgo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----We could have walked to the station. It was so n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Yes, a taxi _______at all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asn’t                          B. hadn’t been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ouldn’t be                   D. won’t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01320" y="828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05680" y="2124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0584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320" y="304920"/>
            <a:ext cx="89222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 We________each other the best of luck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oped        B. wanted         C. expected       D. w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Nobody noticed the thief slip into the house beca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ghts happened to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put out     B. give in       C. be turned on    D. go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. ----How  did you find your visit to the museu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-I thoroughly enjoyed it . It was _________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 exp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far more interesting           B. even much interes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so more interesting            D. a lot much inter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34240" y="22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43920" y="2452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63440" y="41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5720" y="177840"/>
            <a:ext cx="8722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----Alice, why didn’t you come yester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I _______, but I had an unexpected visi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ad          B. would        C. was going to       D.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. ----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 usually go there by t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Why not _________by boat for a chan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try going                B. trying to go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o try and go              D. try 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. Charles Babbage is generally considered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first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have invented               B. inventing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o invent                           D. having inv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0. When I got back home I saw a message pinned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oor_____   “Sorry to miss you, I will call lat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ead          B. reads        C. to read         D. 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865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344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3012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284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200" y="142920"/>
            <a:ext cx="9044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1. I told Sally how to get here, but perhaps I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r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ad to write it out             B. must have written i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should have written it out      D. ought to write i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2. --Your phone number again?  I ________quite catch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It’s 956844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didn’t        B. couldn’t        C. don’t       D. ca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3. Johnny, you________play with the knife, you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urt your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on’t ;can’t                     B. mustn’t ;may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shouldn’t ; must              D. can’t ; shoul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7784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5760" y="222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34080" y="4052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00" y="339840"/>
            <a:ext cx="8992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4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he is _______newcomer to _______Chemistry but s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s  already made some important discov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he; the           B. the; /        C. a; /          D. a ;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5. -----Have you finished your report y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No, I’ll finish in _________ten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nother        B. other        C. more          D.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6. I’ll look into the matter as soon as possible. Just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little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ait         B. time          C. patience          D. 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7. After the new technique was introduced, the 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ed________cars in 1988 as the year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s twice many             B. as many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wice as many             D. twice many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9144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72520" y="20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67400" y="326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24600" y="456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895480"/>
            <a:ext cx="73152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语法专项练习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8T07:40:05Z</dcterms:modified>
  <cp:revision>14</cp:revision>
  <dc:subject/>
  <dc:title>PowerPoint Presentation</dc:title>
</cp:coreProperties>
</file>