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195B-2E6F-49D4-8E5B-A88ACBDCC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184A-45C9-4B6C-96E5-3D494C6D4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5404-457D-4D4D-B1E9-65FA5C4BA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08FC-1450-4D0E-AECF-42764A233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6F68-9337-4FC1-9A5C-312326390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8B86-FE84-49A6-8F2D-167EF4E35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8620-B080-4B2E-B868-3D396EC43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0E30-E0EC-413C-8FF0-E31D255A8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EAA7-5124-42F9-B9F4-9B18E8AAE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C863-A619-4970-A866-0FBED2DD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5AC2-C921-4018-998D-F98C8F4FA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9540-757C-4F59-AFAF-52235547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78AAF-9A56-4105-B8CE-01A6844AD93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76520" y="3276720"/>
            <a:ext cx="487656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短语集萃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94120" y="447840"/>
            <a:ext cx="8651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19.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ll the leading newspapers _______the trade tal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etween China and the United St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. reported                 B. printed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. anounced                 D. publis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0. The train leaves at 6:00 pm.     So I have to be at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tation_________5:40 pm at the lat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. until        B. after           C. by           D. ar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20440" y="4478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48640" y="2505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85800" y="2895480"/>
            <a:ext cx="7315200" cy="123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新魏"/>
              </a:rPr>
              <a:t>语法专项练习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</p:spTree>
  </p:cSld>
  <p:transition spd="slow"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081800" y="19692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二）被动语态专项训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-317880" y="1108080"/>
            <a:ext cx="98182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If city noises ____ from increas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ople ____ shou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be heard even at dinner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．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are not kept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ll have to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are not kept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v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do not keep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ll have to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do not keep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ve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The fifth generation computers, with artific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lligence, ________and perfected now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developed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have develop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are being develop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will have been develop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29520" y="1057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958120" y="4029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040" y="152280"/>
            <a:ext cx="91004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  --- _______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sports meet might be put off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 Yes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 all depends on the weather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．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've been told              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've tol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C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'm told                       D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 tol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I need one more stamp before my collection ________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A. has completed                     B. complete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C. has been completed            D. is complet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 Rainforests _____ and burned at such a speed that th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ll disappear from the earth in the near future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A. cut                            B. are cu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C. are being cut             D. had been cut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new suspension bridge ___ by the end of last month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A. has been designed           B. had been design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C. was designed                   D. would be desig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10200" y="66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53800" y="1743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424600" y="3114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34280" y="47912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8120" y="142920"/>
            <a:ext cx="89208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n a pencil is partly in a glass of water, it looks 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it _______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A. breaks                    B. has broke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C. were broken          D. had been broke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. Great changes ___ in the city, and a lot of factories ___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A. have been taken place; have been set up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B. have taken place; have been set up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C. have taken place; have set up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D. were taken place; were set up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. That suit _______ over 60 dollars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A. had costed    B. costed         C. is costed       D. cos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. --- Look! Everything here is under construction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--- What’s the pretty small house that _______ for?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A. is being built              B. has been buil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C. is built                        D. is buil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10200" y="523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81440" y="17431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24600" y="38768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44320" y="52484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1720" y="147600"/>
            <a:ext cx="86396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1.--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 you like the material?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--- Yes, it ______ very soft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A. is feeling    B. felt           C. feels       D. is fel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. It is difficult for a foreigner _______ Chines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．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rite       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write      C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o be written   D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ritte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. I have no more letters _______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．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type       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yping       C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be typed      D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yp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4. Take care! Don’t drop the ink on your shirt, for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 easily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A. won’t wash out              B. won’t be washed ou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C.isn’t washed out              D. isn’t washing out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5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body noticed the thief slip into the house becau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lights happened to _________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A. be put up                   B. give i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C. be turned on              D. go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48640" y="4478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43760" y="12859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06040" y="2276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81600" y="3495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634640" y="5172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0800" y="0"/>
            <a:ext cx="885384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6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computers on the table ______ Professor Smith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A. belongs               B. are belonged to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C. belongs to            D. belong to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.  --- What do you think of the book?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---Oh, excellent. It’s worth ______ a second time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A. to read     B. to be read      C. reading  D. being rea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. The squirrel was lucky that it just missed 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catching                  B. to be caugh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C. being caught           D. to catch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. This page needed _________ again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A. being checked             B. check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C. to check                       D. to be checked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0. ______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ny times, the boy still didn’t know how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 the exercise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A. Having taught           B. Having been taugh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C. taught                         D. Teac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167800" y="-856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244120" y="1666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301520" y="2505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72520" y="3800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00360" y="50198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2338560" y="2581200"/>
            <a:ext cx="4466880" cy="16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4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pull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27680" y="219240"/>
            <a:ext cx="82915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that time black people had no rights to voting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outhern states of Amer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believed that he could achieve to that goal b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aceful actions,not by viol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e refused to standing up for a white man and w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ested by the pol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using conditions for blacks were bad and the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re little jobs to employ blac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1963 he gave the speech“I have a dream”,whic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s inspired people to fight for equa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162920" y="685800"/>
            <a:ext cx="8380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95680" y="676440"/>
            <a:ext cx="8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v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1600200"/>
            <a:ext cx="533520" cy="457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95680" y="197172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34120" y="2057400"/>
            <a:ext cx="609480" cy="380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971800" y="3276720"/>
            <a:ext cx="12193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329000" y="3191040"/>
            <a:ext cx="101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t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19320" y="4952880"/>
            <a:ext cx="6858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25360" y="4562640"/>
            <a:ext cx="71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5867280"/>
            <a:ext cx="533520" cy="3812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0" y="5857920"/>
            <a:ext cx="75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0" y="5867280"/>
            <a:ext cx="685800" cy="5335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16000" y="152280"/>
            <a:ext cx="86770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on after his death,black people started enjoying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s they waited and fought for so lo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ople struggled for the right to be free in their cho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which god to belie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ack people had to fight to be giving the rights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te,choose where to live,study and 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ll these groups have in common is that the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k to be treated with resp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already people wonder whether to f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the rights of robots and machi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523880" y="914040"/>
            <a:ext cx="457200" cy="3049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05120" y="914400"/>
            <a:ext cx="457200" cy="3049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43960" y="67644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h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657600" y="2057400"/>
            <a:ext cx="380880" cy="380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38480" y="2057400"/>
            <a:ext cx="304920" cy="380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14800" y="18954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4120" y="3200400"/>
            <a:ext cx="9903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66920" y="303840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i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4419720"/>
            <a:ext cx="8380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091840" y="441000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5791320"/>
            <a:ext cx="11430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463080" y="5781600"/>
            <a:ext cx="18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ond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500"/>
                            </p:stCondLst>
                            <p:childTnLst>
                              <p:par>
                                <p:cTn id="41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380880" y="304920"/>
            <a:ext cx="128592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4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1150920" y="914400"/>
            <a:ext cx="26665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把某人关进监狱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发表演说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把…当作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被法律所禁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为…而战，而奋斗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为…树立榜样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把…分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使某人受到全国的注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诺贝尔和平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0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各个时代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信仰、信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以…开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表明，吐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62200" y="828720"/>
            <a:ext cx="267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put…in  priso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41800" y="1285920"/>
            <a:ext cx="224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give a speec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352960" y="1743120"/>
            <a:ext cx="202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treat…as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66840" y="2200320"/>
            <a:ext cx="321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be forbidden by la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56480" y="2581200"/>
            <a:ext cx="161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fight for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370680" y="3038400"/>
            <a:ext cx="279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set an example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09280" y="3419640"/>
            <a:ext cx="292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separate…from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740840" y="3876840"/>
            <a:ext cx="409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give sb. national atten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372120" y="4334040"/>
            <a:ext cx="289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Nobel Peace Pr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41360" y="4714920"/>
            <a:ext cx="184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of all ti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65040" y="5172120"/>
            <a:ext cx="161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believe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61200" y="5553000"/>
            <a:ext cx="165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start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93280" y="60102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give a voice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829440" y="804960"/>
            <a:ext cx="24177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携手；联手；合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获得自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6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抵制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7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住房条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8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从那时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9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理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0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乍一看；初见之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00400" y="752400"/>
            <a:ext cx="177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join h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77600" y="1209600"/>
            <a:ext cx="171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e set f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348280" y="1590840"/>
            <a:ext cx="240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 boycott of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99120" y="2048040"/>
            <a:ext cx="302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housing cond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35360" y="3352680"/>
            <a:ext cx="258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t the first s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118600" y="2886120"/>
            <a:ext cx="212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regardless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17840" y="2514600"/>
            <a:ext cx="215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rom then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685800" y="2743200"/>
            <a:ext cx="7153200" cy="289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Multiple choices 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380880" y="504720"/>
            <a:ext cx="13813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4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7" name=""/>
          <p:cNvSpPr/>
          <p:nvPr/>
        </p:nvSpPr>
        <p:spPr>
          <a:xfrm>
            <a:off x="-315360" y="1428840"/>
            <a:ext cx="98672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. The new secretary is supposed to report to the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s soon as she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. will arrive                     B. arr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. is going to arrive          D. is arri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. The police found that the house________ and a lot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ings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. has broken into ; has been sto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. had broken into; had been sto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. has been broken into; sto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. had been broken into ; sto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62680" y="18954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01320" y="3114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17080" y="219240"/>
            <a:ext cx="88812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3. -----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Have you moved into the new hous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----Not yet. The rooms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. are being painted            B. are pain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. are painted                      D. are being pain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4. The students________ busily when Miss Brown w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o get a book she _________in the off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. had written; left             B. were writing ; has le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. had written ; had left     D. were writing ; had le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5. When and where to build the new factory ________y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. is not decided                 B. are not deci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. has not decided              D. have not deci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6. ---Do you know our town at all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----No , this is the first time I ____________he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. was         B. have been       C. came      D. am co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329720" y="600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34440" y="18954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453800" y="3648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700960" y="5400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25720" y="371520"/>
            <a:ext cx="89938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7.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e murderer was brought in, with his hands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ehind his bac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. being tied               B. having ti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. to be tied                D. t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8. I can hardly imagine Zhang Jian ________across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English Channel on his ow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. swim    B. to swim     C. swimming    D. to have sw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9. John was made _______the truck for a week as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punish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. to wash     B. washing     C. wash    D. to be was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0. “ Can’t you read?” Mary said_________to the not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. angrily pointing         B. and point angr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. angrily pointed           D. and angrily poin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835040" y="371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82200" y="1971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415320" y="3343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929920" y="4638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80280" y="295200"/>
            <a:ext cx="89805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11.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Jumping out of ________ airplane at ten thousand fe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is quite _______exciting experi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. /; the        B. /; an       C. an; an          D. the ;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2. ----How was your recent visit to Qingda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----It was great. We visited some friends, and spent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__________days at the seasi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. few last sunny              B. last few sun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. last sunny few                D. few sunny l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3. I don’t think I’ll need any money but I’ll bring s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. at last       B. in case         C. once again     D. in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4. We’ll have to finish the job, 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. long it takes however     B. it takes however lo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. long however it takes     D. however long it tak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415320" y="142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738440" y="23526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357560" y="40291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549040" y="50198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6680" y="528480"/>
            <a:ext cx="88797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15.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You should make it a rule to leave things________y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an find them ag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. when         B. where       C. then           D. t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6. Someone called me up in the middle of the night, b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he hung up ________I could answer the ph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. as         B. since          C. before        D. unt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7. Can the WTO live up to its name__________it do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not include a country that is home to one fifth of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whole population of the world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. as long as       B. while        C. if        D. even th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8. The captain_________ an apology to the passeng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or the delay caused by bad wea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. made          B. said            C. put        D. pa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301160" y="4478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53200" y="2276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234840" y="30384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10400" y="4791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s</cp:lastModifiedBy>
  <dcterms:modified xsi:type="dcterms:W3CDTF">2005-06-18T07:40:41Z</dcterms:modified>
  <cp:revision>8</cp:revision>
  <dc:subject/>
  <dc:title>PowerPoint Presentation</dc:title>
</cp:coreProperties>
</file>