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9F1-9989-45EC-8D09-F8ED800B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B42-D93F-4AB7-8A72-C35364CF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ADC-2D33-4477-84C1-ED629012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00C-7842-46F3-BED3-B6B4B6DC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E08-6EFF-40FB-B6DA-104E7B8C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35E-6E45-4DE7-8229-8BAB2F29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0F7-F9F4-4742-B18E-B94ECE0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DA0-C24A-4103-B507-40182428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4FD-795F-456F-A662-0524C3F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7EA-1D1B-43A5-BB84-7BC4E2A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9B0-8393-426C-A18F-8C46A54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FE3-181F-48D2-BA07-2F09975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245E-FCD6-4C03-94DF-32AA941A3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54680" y="228600"/>
            <a:ext cx="100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It’s nice to hear from her again.   _______,   we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 more than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’s more               B. That’s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In other words            D. Believe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. The Foreign Minister said, “________ our hope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wo sides will work towards pe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t is          B. This is          C. There is       D.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 new manager __________all the payments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the meeting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towards             B. put off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put through             D. 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8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304812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单句改错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3400" y="228600"/>
            <a:ext cx="855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is home for the Chinese Academ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s and some other famous univer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number of overseas Chinese has graspe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to develop their ideas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ang Yufang is one of those who have return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ina after studying and working ab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made possible for him to follow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ams and help the country he 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ever felt real comfortable abroad,and I mis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858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600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10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1971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81952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96252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62520" y="403812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868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791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080" y="5781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9760" y="31910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2767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0880" y="76320"/>
            <a:ext cx="8506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ouldn’t find a company which I could use wha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lear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runs a small company basing in Zhongguanc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gether with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can only reach the top if they are ready t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nd learn from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ese history is filling with great achievemen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 and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ckets have been used to sending satellites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and to prepare for the nation’s first 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f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9880" y="523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8288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5520" y="17431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124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4800" y="31147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4197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240" y="43340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6386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6880" y="6086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800" y="459000"/>
            <a:ext cx="890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films               misleading               childr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论发生了什么，你都不要改变主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ppens, don’t 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今晚他很有可能给我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ring me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说清楚了，他将不接受我们的邀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he would not accept our inv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的所有梦想都已实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 his dreams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我的两妹妹最了解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y two sister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knew her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160" y="19162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1800" y="90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5440" y="9079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000" y="2852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s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3860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de it clea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360" y="48690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come true/have been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" y="5805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573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7600" y="985680"/>
            <a:ext cx="289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共同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要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即将到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是…的所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始创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年代初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成为现实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踏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公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恢复生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活跃起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（主意、计划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是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97320" y="914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…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640" y="1371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… in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4680" y="18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hom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200" y="220968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et 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0360" y="2681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the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0" y="31147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tr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6000" y="34956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t foo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160" y="397656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u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8320" y="43340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(an) effect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47149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l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7320" y="51195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520" y="555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2920" y="603396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im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8720" y="380880"/>
            <a:ext cx="221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特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外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着机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…作安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教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感到激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作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国十个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200" y="29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t is likely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7524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special economic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2096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verseas 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6880" y="15908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sp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20480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evelop th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7400" y="24289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rang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160" y="28954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880" y="33433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arn fro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720" y="37242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e excited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1800" y="41814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6386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en bases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6360" y="50958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fill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70080" y="1244520"/>
            <a:ext cx="988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He has already __________ his suggestions abou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rked  out                B. mapped ou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und out                    D. ma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new government _________ its polic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quested     B. arranged    C. boomed   D.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I can see the bright future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store    B. in the store    C. set store      D. set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is beautiful house is _________to Crazy English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ot of ________speeches have been give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 home; inspired                   B. home; 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a home; inspiring                 D. home; 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45720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62680" y="113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774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5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60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0" y="228600"/>
            <a:ext cx="9189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s a young man in modern society, I should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ry opportunity and try best to _______my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grasp; form                   B. seize; m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grasp; develop               D. catch;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The two countries decided to __________ with e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______this 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cooperate; in              B. deal; o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deal; at                        D. cooperate;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We must aim_________ ex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increase                B. at increa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r increasing           D. a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The ________of the language center is open your mouth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 the chance and surpris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sign         B. motto           C. theme           D.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380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5840" y="357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160" y="4943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8560" y="295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_________its new conductor, the band achieved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c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B.  By         C. For         D.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I ________you , I _______call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m;will                    B. was;would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ere; would            D. am;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When this book was published, he_______the ro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et foot                             B. set his foo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as on his foot                D. stood on his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It is generally considered unwise to give a child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or she w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wever  B. whatever     C. whichever    D.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652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6960" y="44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49640" y="228600"/>
            <a:ext cx="97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Stand over there_______you’ll be able to see it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or          B. while         C. but               D.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t was evening ________we reached the small t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this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at          B. until          C. since      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ic zone was _______by these fore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juvenated             B. boo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ransported              D. 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________the exhibition, you’ll really feast your ey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 the  fantastic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          B. At              C. On              D.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This guy is ________to tell a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robably        B. possible       C. likely      D. se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53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304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200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6680" y="410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95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1:29Z</dcterms:modified>
  <cp:revision>89</cp:revision>
  <dc:subject/>
  <dc:title>PowerPoint Presentation</dc:title>
</cp:coreProperties>
</file>