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5BA6-4C34-487A-AAF1-1296796E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32EF-B3F7-4526-BA38-C4638801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2476-6F94-4740-812C-F3480E1F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D167-13EA-4089-A15F-4BD83218F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C9F7-7EF5-429A-9399-6F65EAD5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7F74-219E-4CE7-8A4E-A1DC2196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8093-8439-4E2C-A2BD-4F741840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B4D9-CC23-4C11-BDB2-C347D491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56E8-EC57-4643-B365-F83E989F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76CC-9E6B-4973-BFD8-0C31B0D2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DD1E-6A13-404E-BC41-C64FE69E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0E7B-3BBD-498C-8000-21167FC4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7BB7-853D-4DD8-90AA-1482EC5163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003-10-09-04-00-4048972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0000"/>
                </a:solidFill>
                <a:latin typeface="Times New Roman"/>
              </a:rPr>
              <a:t>Welcome to my clas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40480" y="4540320"/>
            <a:ext cx="485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----By Wang Y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enior Class2, Grade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ank for one’s hel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s for all your hel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’s very kind of you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 you from the bottom of my he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ny thank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s a lo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fuse hel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,thank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can manage it myself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nk all the sa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nk you any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t out the following situa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4200" y="838080"/>
            <a:ext cx="655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tudents’ activities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EN00500_" descr=""/>
          <p:cNvPicPr/>
          <p:nvPr/>
        </p:nvPicPr>
        <p:blipFill>
          <a:blip r:embed="rId1"/>
          <a:stretch/>
        </p:blipFill>
        <p:spPr>
          <a:xfrm>
            <a:off x="5029200" y="3389400"/>
            <a:ext cx="36734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ituation1: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An old man is carrying a very heavy suitcase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老人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609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62520" y="251424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ituation2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mebody is late for a flight and wants to go ahead of the que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排队" descr=""/>
          <p:cNvPicPr/>
          <p:nvPr/>
        </p:nvPicPr>
        <p:blipFill>
          <a:blip r:embed="rId1"/>
          <a:stretch/>
        </p:blipFill>
        <p:spPr>
          <a:xfrm>
            <a:off x="0" y="2286000"/>
            <a:ext cx="3657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ituation3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 old and sick person is on a crowded bus and wants to sit d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it" descr=""/>
          <p:cNvPicPr/>
          <p:nvPr/>
        </p:nvPicPr>
        <p:blipFill>
          <a:blip r:embed="rId1"/>
          <a:stretch/>
        </p:blipFill>
        <p:spPr>
          <a:xfrm>
            <a:off x="2971800" y="3657600"/>
            <a:ext cx="4648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Key words to remember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unfair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(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u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fai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dj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公平的，不公正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fair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cision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不公正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决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air and squar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光明正大地， 公正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air  play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公平竞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g: This is a good game and they beat us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fai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d squar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Key words to rememb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anage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管理，经营（尤指商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处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manag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a hote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营一家餐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e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manag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the money very well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她很善于理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manage to d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成功地应付（问题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box is heavy, but I can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nage to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rr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anag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过去时通常指尝试去做并且成功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he ________ to see him in prison and gave him the mess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he _________ to see him in prison, but fai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6840" y="4854600"/>
            <a:ext cx="165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na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2360" y="571500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ri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9" descr=""/>
          <p:cNvPicPr/>
          <p:nvPr/>
        </p:nvPicPr>
        <p:blipFill>
          <a:blip r:embed="rId1"/>
          <a:stretch/>
        </p:blipFill>
        <p:spPr>
          <a:xfrm>
            <a:off x="-685800" y="-1676520"/>
            <a:ext cx="10366200" cy="10366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49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66"/>
                </a:solidFill>
                <a:latin typeface="Lucida Console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4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1879560" cy="5378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62520" y="121932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Unit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2987640"/>
            <a:ext cx="541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mpact"/>
              </a:rPr>
              <a:t>BODY LANGUAG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ody" descr=""/>
          <p:cNvPicPr/>
          <p:nvPr/>
        </p:nvPicPr>
        <p:blipFill>
          <a:blip r:embed="rId1"/>
          <a:stretch/>
        </p:blipFill>
        <p:spPr>
          <a:xfrm>
            <a:off x="3809880" y="2370240"/>
            <a:ext cx="5334120" cy="44877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Warming up:</a:t>
            </a:r>
            <a:br>
              <a:rPr sz="4400"/>
            </a:b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What is body languag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way to communicat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ithout word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t sometimes more than wor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an you understand the meaning of the following  gestu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victory2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429000" cy="2590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73400" y="5486400"/>
            <a:ext cx="289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ictory/W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4680" y="5486400"/>
            <a:ext cx="311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aise/Grea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great2" descr=""/>
          <p:cNvPicPr/>
          <p:nvPr/>
        </p:nvPicPr>
        <p:blipFill>
          <a:blip r:embed="rId2"/>
          <a:stretch/>
        </p:blipFill>
        <p:spPr>
          <a:xfrm>
            <a:off x="4267080" y="2438280"/>
            <a:ext cx="36324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handshake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64796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promise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3886200" cy="342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600" y="4800600"/>
            <a:ext cx="489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andshak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riend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480060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ake a prom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ow do you use body language to express the following situa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hen you are walking in a street alone,suddenly you find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something terribl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maybe it’s a piece of human skin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’re watching a film in the cinema. You enjoy the film very much, but the man sitting in front of you is talking all the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ow do you use body language to express the following situa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You want to hear somebody more clearl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n the English class, you want to sleep very much, but you don’t want your teacher to know that you are sleep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8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offer hel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y I help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can I do for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uld you like some hel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there anything I can do for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uld you let me give you a ha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uld you like me to help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all I help you with that?  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k for hel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cuse me, could you help me with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there anyone who can help m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give me a hand, plea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uld you help me plea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4T14:12:47Z</dcterms:created>
  <dc:creator>myth</dc:creator>
  <dc:description/>
  <dc:language>en-US</dc:language>
  <cp:lastModifiedBy>myth</cp:lastModifiedBy>
  <dcterms:modified xsi:type="dcterms:W3CDTF">2004-06-06T14:55:48Z</dcterms:modified>
  <cp:revision>15</cp:revision>
  <dc:subject/>
  <dc:title>Welcome to my class!</dc:title>
</cp:coreProperties>
</file>