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21.jpeg" ContentType="image/jpeg"/>
  <Override PartName="/ppt/media/camera.wav" ContentType="audio/x-wav"/>
  <Override PartName="/ppt/media/image19.jpeg" ContentType="image/jpeg"/>
  <Override PartName="/ppt/media/image11.png" ContentType="image/pn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8.gif" ContentType="image/gif"/>
  <Override PartName="/ppt/media/image8.gif" ContentType="image/gif"/>
  <Override PartName="/ppt/media/image18.jpeg" ContentType="image/jpeg"/>
  <Override PartName="/ppt/media/image4.jpeg" ContentType="image/jpeg"/>
  <Override PartName="/ppt/media/image40.png" ContentType="image/pn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635-975A-4E18-845A-C7AA94BC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0EB-BAC3-4EA2-B592-EC4538EC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02C-2372-4A48-B3A8-AF258D61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7A2A-E4F3-4AF4-851C-6E0E5268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07CF-F363-4525-8098-801F99CF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6267-C923-480F-9D44-5A216143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3233-FA77-4B37-B1C9-397FD5ED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B914-13CA-4F60-A56C-E8E34935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352-9EAF-49B4-8185-7D4F8588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63A0-1096-4DAC-B2BA-0DEE1C2C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2D1-C619-41C3-9922-A748319E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43AD-7D45-4179-99EE-13426676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683A-7402-4AAA-883B-74E615F128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hyperlink" Target="http://image.baidu.com/ir?u=http://www.policemuseum.com.cn/cnnav/news/hryy/item/images/451892_0.jpg&amp;f=http://www.policemuseum.com.cn/cnnav/news/hryy/item/2001_02/451892.shtml&amp;c=baidu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.baidu.com/ir?u=http://www.tysy.com.cn/news/2001cjwh/tpzl01.jpg&amp;f=http://www.tysy.com.cn/news/2001cjwh/2001_tpzl_01.html&amp;c=baidu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.baidu.com/ir?u=http://www.xiangsheng.com.cn/houbaolin/images/hui18.jpg&amp;f=http://www.xiangsheng.com.cn/houbaolin/yanchu.htm&amp;c=baidu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www.etvnet.net/19&apos;,&apos;80&apos;,&apos;1" TargetMode="External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png"/><Relationship Id="rId14" Type="http://schemas.openxmlformats.org/officeDocument/2006/relationships/image" Target="../media/image25.jpeg"/><Relationship Id="rId15" Type="http://schemas.openxmlformats.org/officeDocument/2006/relationships/image" Target="../media/image26.jpeg"/><Relationship Id="rId16" Type="http://schemas.openxmlformats.org/officeDocument/2006/relationships/image" Target="../media/image27.jpeg"/><Relationship Id="rId17" Type="http://schemas.openxmlformats.org/officeDocument/2006/relationships/image" Target="../media/image28.jpeg"/><Relationship Id="rId18" Type="http://schemas.openxmlformats.org/officeDocument/2006/relationships/image" Target="../media/image29.jpeg"/><Relationship Id="rId19" Type="http://schemas.openxmlformats.org/officeDocument/2006/relationships/image" Target="../media/image30.jpeg"/><Relationship Id="rId20" Type="http://schemas.openxmlformats.org/officeDocument/2006/relationships/image" Target="../media/image31.jpeg"/><Relationship Id="rId2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www.imdb.com/name/nm0000163/photogallery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http://www.chez.com/alaincine8/HoffmanAgr01.htm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835280" cy="685800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733320"/>
            <a:ext cx="46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ff00"/>
                </a:solidFill>
                <a:latin typeface="Century Gothic"/>
                <a:ea typeface="바탕"/>
              </a:rPr>
              <a:t>Unit 20 Humou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0480" y="6165720"/>
            <a:ext cx="78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00"/>
                </a:solidFill>
                <a:latin typeface="Century Gothic"/>
              </a:rPr>
              <a:t>Comedian Comedian Comedian Comedian Comedian</a:t>
            </a:r>
            <a:r>
              <a:rPr b="0" lang="en-US" sz="1800" spc="-1" strike="noStrike">
                <a:solidFill>
                  <a:srgbClr val="02626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95640" y="1700280"/>
            <a:ext cx="41814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4935600"/>
            <a:ext cx="85690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 J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s a well-known artist of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rosstalk show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n China.  His crosstalk shows always make his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audienc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out with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laugh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4920" y="44280"/>
            <a:ext cx="3600360" cy="4762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708360" y="44280"/>
            <a:ext cx="5410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43280" y="3444840"/>
            <a:ext cx="4465800" cy="3224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0" y="44280"/>
            <a:ext cx="4537080" cy="3394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3280" y="44280"/>
            <a:ext cx="4465800" cy="338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920" y="3451320"/>
            <a:ext cx="4537080" cy="321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剧照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0" y="44280"/>
            <a:ext cx="4537080" cy="3384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4643280" y="3500280"/>
            <a:ext cx="4465800" cy="316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2"/>
          <a:stretch/>
        </p:blipFill>
        <p:spPr>
          <a:xfrm>
            <a:off x="34920" y="3502080"/>
            <a:ext cx="4537080" cy="316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3"/>
          <a:stretch/>
        </p:blipFill>
        <p:spPr>
          <a:xfrm>
            <a:off x="4643280" y="44280"/>
            <a:ext cx="4465800" cy="3384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4"/>
          <a:stretch/>
        </p:blipFill>
        <p:spPr>
          <a:xfrm>
            <a:off x="34920" y="44280"/>
            <a:ext cx="4537080" cy="3384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5"/>
          <a:stretch/>
        </p:blipFill>
        <p:spPr>
          <a:xfrm>
            <a:off x="4653000" y="3500280"/>
            <a:ext cx="4383000" cy="3170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6"/>
          <a:stretch/>
        </p:blipFill>
        <p:spPr>
          <a:xfrm>
            <a:off x="25560" y="3454560"/>
            <a:ext cx="4546440" cy="3214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7"/>
          <a:stretch/>
        </p:blipFill>
        <p:spPr>
          <a:xfrm>
            <a:off x="4643280" y="44280"/>
            <a:ext cx="4465800" cy="3384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8"/>
          <a:stretch/>
        </p:blipFill>
        <p:spPr>
          <a:xfrm>
            <a:off x="34920" y="44280"/>
            <a:ext cx="4537080" cy="3384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9"/>
          <a:stretch/>
        </p:blipFill>
        <p:spPr>
          <a:xfrm>
            <a:off x="34920" y="44280"/>
            <a:ext cx="4554720" cy="496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0"/>
          <a:stretch/>
        </p:blipFill>
        <p:spPr>
          <a:xfrm>
            <a:off x="4649760" y="44280"/>
            <a:ext cx="4416480" cy="4969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5373720"/>
            <a:ext cx="784836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Some other famous </a:t>
            </a:r>
            <a:r>
              <a:rPr b="1" lang="en-US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comedians</a:t>
            </a:r>
            <a:r>
              <a:rPr b="1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in Ch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033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5715000" cy="4206960"/>
          </a:xfrm>
          <a:prstGeom prst="rect">
            <a:avLst/>
          </a:prstGeom>
          <a:ln w="0">
            <a:noFill/>
          </a:ln>
        </p:spPr>
      </p:pic>
      <p:pic>
        <p:nvPicPr>
          <p:cNvPr id="97" name="hbl01" descr=""/>
          <p:cNvPicPr/>
          <p:nvPr/>
        </p:nvPicPr>
        <p:blipFill>
          <a:blip r:embed="rId3"/>
          <a:stretch/>
        </p:blipFill>
        <p:spPr>
          <a:xfrm>
            <a:off x="304920" y="762120"/>
            <a:ext cx="251460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038480" y="1143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Comic Sans MS"/>
              </a:rPr>
              <a:t>Crosstal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9082080" cy="6697800"/>
            <a:chOff x="0" y="0"/>
            <a:chExt cx="9082080" cy="669780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5867280" y="3141720"/>
              <a:ext cx="244656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4952880" y="398520"/>
              <a:ext cx="24624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3048120" y="2608200"/>
              <a:ext cx="24462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797040" y="627120"/>
              <a:ext cx="2579400" cy="38862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</p:grpSp>
      <p:sp>
        <p:nvSpPr>
          <p:cNvPr id="105" name=""/>
          <p:cNvSpPr/>
          <p:nvPr/>
        </p:nvSpPr>
        <p:spPr>
          <a:xfrm>
            <a:off x="828720" y="4678200"/>
            <a:ext cx="12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马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5805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巩汉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242100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陈佩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5589720"/>
            <a:ext cx="20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赵本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00160" cy="2419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68360" y="1268280"/>
            <a:ext cx="662472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imes New Roman"/>
              </a:rPr>
              <a:t>Do they share something in common?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3745080"/>
            <a:ext cx="47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They all can make us laug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27200" y="2286000"/>
            <a:ext cx="5608800" cy="3484440"/>
          </a:xfrm>
          <a:prstGeom prst="rect">
            <a:avLst/>
          </a:prstGeom>
          <a:gradFill rotWithShape="0">
            <a:gsLst>
              <a:gs pos="0">
                <a:srgbClr val="ffcc99">
                  <a:alpha val="50196"/>
                </a:srgbClr>
              </a:gs>
              <a:gs pos="100000">
                <a:srgbClr val="fef3e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四  是  四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十  是  十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  </a:t>
            </a: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十  四  是  十  四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四  十  是  四  十</a:t>
            </a: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55840" y="1268280"/>
            <a:ext cx="1963800" cy="703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f7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绕口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16" name=""/>
            <p:cNvSpPr/>
            <p:nvPr/>
          </p:nvSpPr>
          <p:spPr>
            <a:xfrm>
              <a:off x="0" y="2619360"/>
              <a:ext cx="9143640" cy="2388600"/>
            </a:xfrm>
            <a:prstGeom prst="rect">
              <a:avLst/>
            </a:prstGeom>
            <a:solidFill>
              <a:srgbClr val="fee0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0"/>
              <a:ext cx="9143640" cy="92448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924480"/>
              <a:ext cx="9143640" cy="169488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5008320"/>
              <a:ext cx="9143640" cy="184932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61960" y="182520"/>
            <a:ext cx="77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tongue twister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compet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1066680"/>
            <a:ext cx="8599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y bought some butter, but the butter was bitter, so she bought some better butter to make the bitter butter be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wish to wish the wish you wish to wish, but if you wish the wish the witch wishes, I won’t wish the wish you wish to w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f  white chalk chalks white on a black blackboard, will black chalk chalk black on a white whiteboard t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609588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921800" y="5905440"/>
            <a:ext cx="1187280" cy="9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609480"/>
            <a:ext cx="8381880" cy="71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Comic Sans MS"/>
              </a:rPr>
              <a:t>1.I scream, you scream, we all scream for ice-cream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When you write copy you have the right to copyright the copy you write.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3.A big black bug bit a big black dog on his big black nos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Comic Sans MS"/>
              </a:rPr>
              <a:t>4.How much pot, could a pot roast roast, if a pot roast could roast po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152280"/>
            <a:ext cx="876312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词汇：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practise, humour, comedian, intend, bitter, marry, audience, mos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短语：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would like(=would love/should like) to do…, have…in mind, in the middle of, think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句式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:  (1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ke +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宾语＋宾语补足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I (We) don’t think (suppose, believe, guess…)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0030" descr=""/>
          <p:cNvPicPr/>
          <p:nvPr/>
        </p:nvPicPr>
        <p:blipFill>
          <a:blip r:embed="rId2"/>
          <a:stretch/>
        </p:blipFill>
        <p:spPr>
          <a:xfrm>
            <a:off x="7315200" y="5745240"/>
            <a:ext cx="156672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2025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f course, I would like to reach a wide audience, though I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hav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adults </a:t>
            </a:r>
            <a:r>
              <a:rPr b="1" i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in mind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mostly  adv.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主要地，通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314440"/>
            <a:ext cx="853416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大部分都相当年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hey are ~ fairly you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的假日多半在家里度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I spent my holidays ~ at h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有时也会晚起床，但通常早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He gets up late sometimes, but ~ he gets up ear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7921440" cy="4537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587700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en there is only one man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380880"/>
            <a:ext cx="228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ly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96252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pleases his parents _______ is that he has made great progr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visitors to the exhibition are ______ stud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304920"/>
            <a:ext cx="72388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主要地，大部分地，通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多数的，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ost 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adv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构成最高级）“最……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most successful wo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45720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1447920"/>
            <a:ext cx="457200" cy="1752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39625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52578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ve … in mind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在想，记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230480"/>
            <a:ext cx="7010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把心中所想的告诉了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he told me what she had in min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记住这些规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Please have these rules in mi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304920"/>
            <a:ext cx="822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…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, German for example, always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ork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230480"/>
            <a:ext cx="83822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ork 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表示“产生预期的结果或作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e.g.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tories always work with childr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he rules work and few books are stolen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733920"/>
            <a:ext cx="754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孩子而言，故事总是管用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1268280"/>
            <a:ext cx="8229600" cy="147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It’s a bitter sweet so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那是一支又苦涩又甜蜜的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280" y="190440"/>
            <a:ext cx="9144000" cy="66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tend 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打算，想要，有……意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e.g.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tend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打算在东莞长住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Do you intend to make a long stay in Donggu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. intend sb. to do sth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打算要他们接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We intend them to take ov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. intend that -claus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We intend tah these plans (should) be carried ou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11280" y="1125360"/>
            <a:ext cx="7921440" cy="4608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24360" y="5877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onotype Corsiva"/>
                <a:ea typeface="隶书"/>
              </a:rPr>
              <a:t>“ </a:t>
            </a:r>
            <a:r>
              <a:rPr b="1" lang="zh-CN" sz="3200" spc="-1" strike="noStrike">
                <a:solidFill>
                  <a:srgbClr val="ff0000"/>
                </a:solidFill>
                <a:latin typeface="Monotype Corsiva"/>
                <a:ea typeface="隶书"/>
              </a:rPr>
              <a:t>特困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84360" y="1197000"/>
            <a:ext cx="3809880" cy="4464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272268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e is good at  Chinese Kongf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0"/>
            <a:ext cx="8991360" cy="6781680"/>
            <a:chOff x="0" y="0"/>
            <a:chExt cx="8991360" cy="6781680"/>
          </a:xfrm>
        </p:grpSpPr>
        <p:sp>
          <p:nvSpPr>
            <p:cNvPr id="55" name=""/>
            <p:cNvSpPr/>
            <p:nvPr/>
          </p:nvSpPr>
          <p:spPr>
            <a:xfrm>
              <a:off x="0" y="2590560"/>
              <a:ext cx="8991360" cy="2362320"/>
            </a:xfrm>
            <a:prstGeom prst="rect">
              <a:avLst/>
            </a:prstGeom>
            <a:solidFill>
              <a:srgbClr val="fee0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0"/>
              <a:ext cx="8991360" cy="914400"/>
            </a:xfrm>
            <a:prstGeom prst="rect">
              <a:avLst/>
            </a:prstGeom>
            <a:solidFill>
              <a:srgbClr val="a369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914400"/>
              <a:ext cx="8991360" cy="167616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4952880"/>
              <a:ext cx="8991360" cy="182880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4032000" cy="4972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27640" y="2921040"/>
            <a:ext cx="40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 do know my   l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361800"/>
            <a:ext cx="8280360" cy="3643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5640" y="4149720"/>
            <a:ext cx="7634160" cy="22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e comic du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1930s “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aurel and Hard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.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ne is called Stan Laurel, th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st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Oliver Hardy. They are funny because they are each other’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ppos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on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f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on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 one is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lev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one is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sil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58920" y="33336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409840"/>
            <a:ext cx="71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60" y="2874960"/>
          <a:ext cx="1113120" cy="1535040"/>
        </p:xfrm>
        <a:graphic>
          <a:graphicData uri="http://schemas.openxmlformats.org/drawingml/2006/table">
            <a:tbl>
              <a:tblPr/>
              <a:tblGrid>
                <a:gridCol w="842760"/>
                <a:gridCol w="270360"/>
              </a:tblGrid>
              <a:tr h="15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Mr Bean"/>
          <p:cNvPicPr/>
          <p:nvPr/>
        </p:nvPicPr>
        <p:blipFill>
          <a:blip r:embed="rId2"/>
          <a:stretch/>
        </p:blipFill>
        <p:spPr>
          <a:xfrm>
            <a:off x="468360" y="506520"/>
            <a:ext cx="8143920" cy="2778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6560" y="3929040"/>
            <a:ext cx="835344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lthough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Mr. Rowan Atkins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cts different comic characters he is most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famou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round the world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as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Mr. Be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 Mr.  Bean  is funny  because  he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makes  funny fac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he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acts sill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he seems  to be  quite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stup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and the things he does are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stran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54280" y="44280"/>
            <a:ext cx="3178440" cy="460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Headsho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000" y="44280"/>
            <a:ext cx="3438360" cy="4608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948360" y="260280"/>
            <a:ext cx="194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Dustin Hoffman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in the film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ootsie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(1982).     In this film Hoffman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acts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role of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woman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, and 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501336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ree that his performance wa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o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you often can’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 the differe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And in the film of course there are all kind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ny mome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HPortrIntro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2593800" cy="1896840"/>
          </a:xfrm>
          <a:prstGeom prst="rect">
            <a:avLst/>
          </a:prstGeom>
          <a:ln w="0">
            <a:noFill/>
          </a:ln>
        </p:spPr>
      </p:pic>
      <p:pic>
        <p:nvPicPr>
          <p:cNvPr id="73" name="DH82Tootsie02p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9360" y="1295280"/>
            <a:ext cx="2306520" cy="3105360"/>
          </a:xfrm>
          <a:prstGeom prst="rect">
            <a:avLst/>
          </a:prstGeom>
          <a:ln w="0">
            <a:noFill/>
          </a:ln>
        </p:spPr>
      </p:pic>
      <p:pic>
        <p:nvPicPr>
          <p:cNvPr id="74" name="DH82Tootsie01" descr=""/>
          <p:cNvPicPr/>
          <p:nvPr/>
        </p:nvPicPr>
        <p:blipFill>
          <a:blip r:embed="rId5"/>
          <a:stretch/>
        </p:blipFill>
        <p:spPr>
          <a:xfrm>
            <a:off x="6095880" y="1295280"/>
            <a:ext cx="2438640" cy="3124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3429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otsie (19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47242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2b56"/>
                </a:solidFill>
                <a:latin typeface="Times New Roman"/>
              </a:rPr>
              <a:t>In the film, he acts the role of a woman, and many people agree that his performance was so good that you often can’t tell the dif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0T14:12:08Z</dcterms:created>
  <dc:creator>雷安梅</dc:creator>
  <dc:description/>
  <dc:language>en-US</dc:language>
  <cp:lastModifiedBy>雷安梅</cp:lastModifiedBy>
  <dcterms:modified xsi:type="dcterms:W3CDTF">2004-05-31T05:17:45Z</dcterms:modified>
  <cp:revision>15</cp:revision>
  <dc:subject/>
  <dc:title>PowerPoint 演示文稿</dc:title>
</cp:coreProperties>
</file>