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wind.wav" ContentType="audio/x-wav"/>
  <Override PartName="/ppt/media/typ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7D8-D8FD-4555-8357-5331E37A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3CB-DEA3-4E2B-AC73-8F13C5C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654-B2B5-4E4F-88F1-15C1F008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4F6-29B6-43B3-8279-BE247BC5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147D-BAB6-4D06-B434-3714CAC6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B871-61C7-4503-BABB-0A2138F6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AB27-721B-4270-B944-D7EC4ED1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61D8-5107-4C4A-97D5-59326319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DAD3-DB8D-48B1-BBB5-90DCD9BB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5E2-9CCB-46B2-8F38-02011C68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7946-CCC4-4D17-958F-A06A8FB7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8AC-CD2E-499F-9AB8-8CADAD11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44F0-27BD-43A4-8AF6-ECC7FFF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8F0-EE11-4A15-BD12-384769E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8AE8-2159-43C9-A312-3397389B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2292-7C1C-4BCA-BD75-FC8ADFAF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3EE5-050A-400B-97EA-E00F265E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69CE-4AF1-485C-9BB5-DF1F2DB9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E412-4CCD-4ADA-8E82-1EA68CB0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5E2C-5DC6-4050-8975-0907ED0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DE6B-20C7-426D-89E5-310AEC00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1552-EE9E-41D5-905D-C10E8961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5AC-E98F-4847-8CCE-05A9AE72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D9F1-2167-4FB1-AF2B-FEF653C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B468-DDAA-40CC-A2F9-06A4F55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060E-3AC1-473F-901B-C5FB0476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7517-C534-4574-8061-2DAFE84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12B8-91BF-4F5B-ABFF-674EB1D1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2299-93F9-4304-8CF8-98DB8AF2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D40A-A87D-4998-BA5A-31A9C936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CF3F-3B8D-406E-B869-74FAC53E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AE81-3D83-41ED-9142-0DBFFD85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423C-1DA4-421B-991D-352C0C9D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D11-3293-4818-844D-60CFE16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B243-24CC-426B-B596-338D59D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B190-D61F-44C0-A974-0C2DFB75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548E-A86D-4D69-AA2E-FC11E99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2326-C141-411C-A075-2A2AD9ED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DB7D-B651-4D86-8334-474986A7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7C5D-1ED5-46AD-AD6D-D0565C6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C57A-2447-46B4-852D-ED251278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8A3E-6096-4ACD-BB27-DB7A4B00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CA8C-BD9F-479A-954D-00B9BE3E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742D1-D92E-48C3-8AA8-3A7F1DFB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839-D4DC-4525-A6A3-E8FAFB1B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C7F4-8FAC-4682-A142-E245AE1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4825-6BEF-431F-9814-827412D4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AF14-9F6B-4F26-918C-36027B49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55DCE-931B-495F-B9AA-B8DFA392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190A-37AC-48A6-A4DD-641AFC86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78002-82A6-4980-95A6-BA457397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418C1-BC7C-4A77-A9D0-E110A38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E3D94-197C-4277-A12E-5E973DB9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E10E3-3C67-440C-91C5-DD3AD70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12A2B-45F9-41A5-8EF1-57E7908A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38B-7622-4E6D-AB05-AF37B763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F585-F1EB-48C8-A210-02FC8E47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0BD26-4FB8-4F82-BF09-035585F2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5520-1C5F-410B-8371-DCB769B2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556BC-B5F0-4983-9248-7002476E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D87C-FD25-499D-8DAE-443AEDC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2DE4-4094-49C2-9790-8649622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596A8-BA53-4BCA-8B10-4CFEDAD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0E9D-9E15-4953-84AB-10B7A94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C47A-D03D-47AC-A4E7-66365C69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C6FE6-231B-4647-93F4-112FD190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99B-7419-419C-9D60-5CA0819B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8CBE-0998-4423-9776-1B72945E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A636-4FFE-47CF-9C33-5B282331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3EE47-26BF-49F9-961A-EE185EBA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E11-DF68-4CDF-86AE-8BB430DD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7EB-5D0B-42FA-93AA-1634082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5925-3B1A-45C9-9562-9471F4321E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9F8-B5C2-4DAF-A0F6-D039BF04C5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1CC2-1CC5-41D2-B75D-1B0E7A1303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F0CF-CF21-4033-95FA-2AF0D61F11C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38E-326B-4D92-B799-A55682BEDAE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D9D-0639-4A34-986C-A75F8480C67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复合句中，修饰某个名词或代词的从句称为定语从句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Attributive Clause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定语从句所修饰的名词或代词叫先行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ntecedent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The Attributive Clause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57360" y="1947960"/>
            <a:ext cx="773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</a:rPr>
              <a:t>先行词和关系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0840" y="4076640"/>
            <a:ext cx="23875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4149720"/>
            <a:ext cx="2236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at 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952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5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5520" y="1989000"/>
            <a:ext cx="7607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260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368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引导定语从句的关系代词有：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ho , whom , whose , that , whic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系代词的作用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定语从句的主句和从句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指代先行词 ，并在从句中充当主语、宾语或定语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" y="1989000"/>
            <a:ext cx="8192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that / who we saw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420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984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42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71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48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112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40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528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392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501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1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5149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0240" y="623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时可以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68280" y="106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400" y="1844640"/>
            <a:ext cx="909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were not fresh. I bought them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The friend was not hungry. He came to supper las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He prefers the cheese. It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The noodles were delicious. You cook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I don’t like the people. They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1760" y="22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bought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not fres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" y="3137040"/>
            <a:ext cx="104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rie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/ 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ame to supper last night was not hung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8480" y="3989520"/>
            <a:ext cx="104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prefers the chee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ich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600" y="4869000"/>
            <a:ext cx="90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oodl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which/ that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coo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delic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0" y="5657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don’t like the peopl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o the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349360"/>
            <a:ext cx="8636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284640"/>
            <a:ext cx="43164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076640"/>
            <a:ext cx="4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941720"/>
            <a:ext cx="79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73408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31000" y="1063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副词和先行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5000" y="2133720"/>
            <a:ext cx="913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still rememb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d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came 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hou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ive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man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like trave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don’t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w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p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50360" y="256536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d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6640" y="3429000"/>
            <a:ext cx="37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house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800" y="429264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reasons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3320" y="522936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w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副词实际上是介词＋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先行词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uation, case, point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, using w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think of a situation where you can use the wo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5640" y="1700280"/>
            <a:ext cx="9850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ll never forget the days___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I’ll never forget the days 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 went to the place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I went to the place _____________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i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This is the reason _____________________ he was 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87960" y="1628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60120" y="2565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95960" y="33577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0800" y="42782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1880" y="50706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0160" y="5934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几种易混的情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152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55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. His English is 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933720"/>
            <a:ext cx="90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glish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3920" y="4724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tuden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30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际上是先行词的所有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56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is mine. The window of the house is bro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" y="3573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 is broken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3000" y="4133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=the house’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                                                  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4941720"/>
            <a:ext cx="432000" cy="1079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0" y="4700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window of whic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0360" y="573408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which the windo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否省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visited our school yesterday is Mr Br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went to school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1692360" y="6021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插入成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11880" y="514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修饰限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2560" y="607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补充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360" y="609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8640" y="508464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5289840" y="4292640"/>
            <a:ext cx="1034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388360" y="6435720"/>
            <a:ext cx="433440" cy="422280"/>
          </a:xfrm>
          <a:custGeom>
            <a:avLst/>
            <a:gdLst>
              <a:gd name="textAreaLeft" fmla="*/ 27360 w 433440"/>
              <a:gd name="textAreaRight" fmla="*/ 406080 w 4334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170" h="21600">
                <a:moveTo>
                  <a:pt x="0" y="0"/>
                </a:moveTo>
                <a:lnTo>
                  <a:pt x="22170" y="0"/>
                </a:lnTo>
                <a:lnTo>
                  <a:pt x="22170" y="21600"/>
                </a:lnTo>
                <a:lnTo>
                  <a:pt x="0" y="21600"/>
                </a:lnTo>
                <a:close/>
              </a:path>
              <a:path fill="lightenLess" w="22170" h="21600">
                <a:moveTo>
                  <a:pt x="0" y="0"/>
                </a:moveTo>
                <a:lnTo>
                  <a:pt x="22170" y="0"/>
                </a:lnTo>
                <a:lnTo>
                  <a:pt x="20770" y="1400"/>
                </a:lnTo>
                <a:lnTo>
                  <a:pt x="1400" y="1400"/>
                </a:lnTo>
                <a:close/>
              </a:path>
              <a:path fill="darken" w="22170" h="21600">
                <a:moveTo>
                  <a:pt x="22170" y="0"/>
                </a:moveTo>
                <a:lnTo>
                  <a:pt x="22170" y="21600"/>
                </a:lnTo>
                <a:lnTo>
                  <a:pt x="20770" y="20200"/>
                </a:lnTo>
                <a:lnTo>
                  <a:pt x="20770" y="1400"/>
                </a:lnTo>
                <a:close/>
              </a:path>
              <a:path fill="darkenLess" w="22170" h="21600">
                <a:moveTo>
                  <a:pt x="22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0" y="20200"/>
                </a:lnTo>
                <a:close/>
              </a:path>
              <a:path fill="lighten" w="22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0" h="21600">
                <a:moveTo>
                  <a:pt x="4079" y="3794"/>
                </a:moveTo>
                <a:lnTo>
                  <a:pt x="18092" y="10800"/>
                </a:lnTo>
                <a:lnTo>
                  <a:pt x="40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63640" y="2060640"/>
            <a:ext cx="2232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637000"/>
            <a:ext cx="194472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99800" y="2565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256536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8360" y="306864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79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限制性定语从句省略后主语所指就不明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所以不能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87280" y="98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和单句的比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321300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__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0400" y="5157720"/>
            <a:ext cx="74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3213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8080" y="3573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1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0160" y="5445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50846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440" y="40053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9520" y="2708280"/>
            <a:ext cx="85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 am reading Harry Porte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is an interesting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5960" y="263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e has two sons, both of them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437000"/>
            <a:ext cx="95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ailed in the exam and this made his parents ang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060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,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 is known to all </a:t>
            </a:r>
            <a:r>
              <a:rPr b="1" i="1" lang="en-US" sz="2800" spc="-1" strike="noStrike">
                <a:solidFill>
                  <a:srgbClr val="1c1c1c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2040" y="204624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2320" y="2770200"/>
            <a:ext cx="12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/ a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377352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120" y="4638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具有正如之意，与之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4278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从句在句首时只能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2708280"/>
            <a:ext cx="57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4040" y="191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416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和我丢的那本一模一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7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就是我丢的那本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5760" y="2565360"/>
            <a:ext cx="869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teresting a book _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interesting a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54952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58640" y="420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040" y="1916280"/>
            <a:ext cx="85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lete the following sentences and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48400" y="298116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84080" y="471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4000" y="35863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是大家都喜欢的如此有趣的一本书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定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6800" y="53132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如此有趣，大家都喜欢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结果状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320" y="2565360"/>
            <a:ext cx="90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m  you spoke     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7856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02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08553E-006 C 0.00087 -0.02472 0.00173 -0.04923 -0.01788 -0.06194 C -0.0375 -0.07466 -0.08646 -0.07373 -0.11788 -0.07674 C -0.14931 -0.07974 -0.17604 -0.07974 -0.20677 -0.07974 C -0.2375 -0.07974 -0.27604 -0.0772 -0.30226 -0.07674 C -0.32847 -0.07627 -0.34566 -0.08251 -0.36459 -0.07674 C -0.38351 -0.07096 -0.40573 -0.05454 -0.41563 -0.04137 C -0.42552 -0.02819 -0.42257 -0.00531 -0.42448 0.003 E">
                                      <p:cBhvr>
                                        <p:cTn id="4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69 C -0.00729 -0.01203 -0.01441 -0.02451 -0.02448 -0.0319 C -0.03455 -0.0393 -0.04878 -0.04115 -0.05989 -0.04369 C -0.07101 -0.04624 -0.08073 -0.04577 -0.09114 -0.0467 C -0.10156 -0.04762 -0.10972 -0.0497 -0.12222 -0.0497 C -0.13472 -0.0497 -0.15295 -0.0467 -0.16667 -0.0467 C -0.18038 -0.0467 -0.19323 -0.04924 -0.20434 -0.0497 C -0.21545 -0.05017 -0.22292 -0.05017 -0.23333 -0.0497 C -0.24375 -0.04924 -0.25417 -0.04716 -0.26667 -0.0467 C -0.27917 -0.04624 -0.2967 -0.0467 -0.30885 -0.0467 C -0.32101 -0.0467 -0.33212 -0.04855 -0.33993 -0.0467 C -0.34774 -0.04485 -0.35156 -0.03976 -0.35555 -0.03491 C -0.35955 -0.03006 -0.3618 -0.02312 -0.36441 -0.01711 C -0.36701 -0.0111 -0.36996 -0.0037 -0.37101 0.00069 E">
                                      <p:cBhvr>
                                        <p:cTn id="40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612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616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4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4920" y="2997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ou are going to visit is a famous wri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you me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perso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bout 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was speaking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256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384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4620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6220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46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250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7000" y="33570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4422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可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用与介词之后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492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 this the watch that you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ld man whom I a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af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tter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784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44226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固定短语中介词不能提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e for, call on, put off, listen to, look for, look af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6640" y="19162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两句中的介词能提前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-1112760"/>
            <a:ext cx="9144000" cy="90835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2400" y="47628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you like the boo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pent $10?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paid $1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learned a lot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often talk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  He built a telescop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 could study the sk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There is a tall tree outsid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s our tea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  China has a lot of rivers, the second longest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Yellow Ri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The tower _______             people can have a good 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on the h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The man ________ I spoke on the phone last n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very good at wrest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He paid the boy $10 for washing ten window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______        hadn’t been cleaned for at least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88640" y="457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1080" y="8110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080" y="1143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96560" y="1523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78920" y="19051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ough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800" y="22766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440" y="26668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2000" y="34034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39040" y="41241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51240" y="5229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89480" y="0"/>
            <a:ext cx="40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     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-10440" y="1881360"/>
            <a:ext cx="926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He did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all / everyt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he could to help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very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g _______ I am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We talked about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men and the thing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remembered at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on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can do th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r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ing _______ I want to s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n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I have ever work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man _______ spoke to you at the 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star _______ is nearest to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4160" y="1049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4573800" y="19731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4567320" y="2492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>
            <a:hlinkClick r:id="rId3" action="ppaction://hlinksldjump"/>
          </p:cNvPr>
          <p:cNvSpPr/>
          <p:nvPr/>
        </p:nvSpPr>
        <p:spPr>
          <a:xfrm>
            <a:off x="7453440" y="292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7440" y="3860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13440" y="442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4206960" y="4869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800" y="586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5" action="ppaction://hlinksldjump"/>
          </p:cNvPr>
          <p:cNvSpPr/>
          <p:nvPr/>
        </p:nvSpPr>
        <p:spPr>
          <a:xfrm>
            <a:off x="3565800" y="63658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784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10494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,whose, whom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9400" y="2205000"/>
            <a:ext cx="981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Is there anything el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want to s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.Any pers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s the money can join the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He often speaks the role he played in the pla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de others up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.He opened the door, in front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 a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.The man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spoke is a famous scient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.The bo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ther is dead was brought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hi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520" y="2205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61080" y="27655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25092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rId2" action="ppaction://hlinksldjump"/>
          </p:cNvPr>
          <p:cNvSpPr/>
          <p:nvPr/>
        </p:nvSpPr>
        <p:spPr>
          <a:xfrm>
            <a:off x="622764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520" y="46530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41800" y="51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308720" y="6058080"/>
            <a:ext cx="12240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5960" y="2997360"/>
            <a:ext cx="729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是不定代词时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l ,few, little, much,  every, someth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ything, everything,  none, one, any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479736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thing that I can do for you in tow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2924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only, the very, the sa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ittle, few, no, any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292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film I find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people</a:t>
            </a:r>
            <a:r>
              <a:rPr b="0" i="1" lang="zh-CN" sz="48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ask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reading the book over the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gir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im’s sis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人和物合做先行词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3357720"/>
            <a:ext cx="54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alked about the teachers and schools that he had vis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序数词或形容词最高级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4067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best film that I’ve ever s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01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458136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first place that I visited la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疑问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开头的句子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93372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 man that is speaking over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在从句中作表语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342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 longer the boy that he was 1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非限制性定语从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84200" y="11206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28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介词后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304360" y="1120680"/>
            <a:ext cx="42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3573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that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in which we live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hich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行词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, he, she , anyone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代词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 who want to go there must be at the school gate by 7:00 p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who doesn’t reach the Great Wall is not a true 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62120" y="685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有下列情况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常 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而  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ll, something, much,  littl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不定代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前有序数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形容词最高级或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o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先行词前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e last,the very, the onl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先行词中既含有表示人的名词又有表示物的名词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若主句中有疑问代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了避免重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代词不要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79280" y="204840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I know the reason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he came 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o you know the woman, _______son we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llege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house _______ color is red is joh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 This is the best film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I’ve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2280" y="256536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40440" y="4005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81200" y="35002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04560" y="197964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9280" y="1803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That’s the town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 he worked in 198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. I have 2 brothers,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 are both sold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. Next week,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 you’ll spend in y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metown ,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. I’ve tried 2 pairs of shoes, neither of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ts m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70760" y="1773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1720" y="2276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68960" y="378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2240" y="2781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thing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plan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 machin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ak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cooked were deliciou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432360"/>
            <a:ext cx="8345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33cc"/>
              </a:buClr>
              <a:buFont typeface="Monotype Corsiv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Tell me the reason ____ you were late fo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2. Who is the girl _____ is speaking the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3. This is Mr. Smith, _____ has something interesting to tell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4. The computer ________ CPU doesn’t work has to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repa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66800" y="1413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8080" y="2205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1360" y="3068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5920" y="4221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0960" y="464040"/>
            <a:ext cx="893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is kind of computer, _____ is well-known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s out of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6. This is just the place ___ I’ve been lon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o visit for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7. His mother is an engineer, ____ makes h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ery pro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8. The old man has 4 sons, three of ____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560" y="54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00800" y="1989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520" y="3429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27680" y="4869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99840" y="148428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.The earth is round, ____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1160" y="2708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2. 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5440" y="13809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45280" y="138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80560" y="24829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443700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具有“正如”之意，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as ,which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均可引导非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as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引导的从句可以放在句首、句中、句末，有“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正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意， 与之连用的词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now, see, expect, announce, point ou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等，常用被动结构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announc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据宣布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report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据报道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expect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如所期待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料想的那样；不出所料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has been explain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正如所解释的那样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0492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may be imagine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pointed out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has been said befor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mentioned abov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shown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known to all,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we all know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i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从句通常置句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此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the same…as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ch….as…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是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24120" y="1052640"/>
            <a:ext cx="91796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1.I’ll never forget the days___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2.I’ll never forget the days 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spent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3.I went to the place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4.I went to the place _____________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visit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5.This is the reason _____________________ he was la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83240" y="98100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69440" y="177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1240" y="256536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0160" y="335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90520" y="4221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4160" y="4941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8912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971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494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78360" y="33192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代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          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副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5911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I’ll never forget the day ____ we visited the 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7280" y="587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108720" y="705240"/>
            <a:ext cx="973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ifference Between “that” and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plete the following sentences wit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tha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r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s is the 2nd article ____ I have writ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n Engl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2. It is the best film _____ he has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3. This is the very book _____ I want to 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4. All ____ they told me surprised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ey talked about the teachers and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_____ they had vis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440" y="2637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6280" y="3573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32440" y="41450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32080" y="4581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6800" y="55166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-589320" y="1342440"/>
            <a:ext cx="1089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BatangChe"/>
              <a:buAutoNum type="arabicPeriod" startAt="9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He paid the boy $10 for washing the window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most of _______ hadn’t been cleaned at le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a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0. The weather turned out to be very goo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_______ was more than we could exp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1. The clever boy made a hole in the w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through _______ he could see what was going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inside the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6018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15880" y="2060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800" y="3500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71520" y="4437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44280"/>
            <a:ext cx="893124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rrect mistakes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.I saw some trees leaves of which were black with dis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在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leaves </a:t>
            </a: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前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the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2.Here is the pen you lost it yesterda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去掉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3.The girl told me the news is not here n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Adding “who” before tol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4.This is the village where my father worked in three  years   ag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Chang “where into “which”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omitted “i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30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The reason why he gave us sounded a little strang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ange” why” into “that/which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.He is the only one of the students who know  French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” should be changed into “know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.I’ll never forget the day on which I spent with you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mit “on” or “on which” should be omit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.Which was planned, we met at the railway statio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” should be changed into “a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.This is the teacher with whom we’ve learnt a lo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ith” should be turned into “from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.Is this farm we visited last year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ing “the one” after thi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2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20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i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whit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is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bought were not fres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The film brought the hours back to me ___I was taken good care of in that far-away villag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until   B. that   C. when  D. w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 is known to everybody, the moon travels round the earth once every month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It  B. As  C. That   D. Wh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rothy was always speaking highly of her role in the play, ___ , of course, made the others un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who   B. which   C. this   D.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119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692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4920" y="259920"/>
            <a:ext cx="85406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先行词的习惯搭配或根据先行词的需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peed at which light travels is 300,000km  per secon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oom in which there is a blackboard is their classroom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可能是从句谓语的一个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或动词所需要的搭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n’t bring children to see the animals of which they are afrai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job at which they laugh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所有关系或整体的一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na has hundreds of islands, the largest of which is Taiwa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have many friends, ___ some are busines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f them   B. from which   C. who of  D. of who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me, any, several, many, most, all, both, neither, none, half, one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和形容词比较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高级之后接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om / which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2205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North Island is famous for an area of hot springs, some of which throw hot water high into the ai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altogether 11 books on the shelf, ___ five are min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n which   B. in which   C. of which  D. from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2 buildings, ___ stands nearly 100 feet high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the larger  B. the larger of them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 the larger one that   D. the larger 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5928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Fill in the blanks with “prep + whom/which” .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eacher ____ _______ I learnt most was Mrs. Zhu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’s the name of the sport _____ ______ you go in a bo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thematics is the subject ______  _______ I am most interest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question ______  __________ we have had a discussio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house __________  _________ I was bor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03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om     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3284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4365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537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0" y="2133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is is the pen ________  _______ I wrote the let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 that the girl ________  ________ you lent your bicycl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re is the address _______  _______ you should wri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se are the things _______  ________ I spoke just now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 that the fish _______  _______ you asked the waite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3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           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5928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4869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486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oon is a ball ______  _______ there are no living thing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ater is very important to fish, _______  _____ it can't liv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 love the village _______  _______ we work for two year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eter,______  ______ I played tennis on Sundays, was stronger than I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928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23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342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50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man is in the next room. He brought us the letter yesterd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ilm is interesting. They saw it last nigh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en is mine. He has taken it aw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students will not pass the exam. They don’t work har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lady is our teacher. You saw her just now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907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an who brought us the letter yesterday is in the next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3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film they saw last night is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32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pen he has taken away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4360" y="45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students who don’t work hard will not pass the ex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lady who you saw just now is our tea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6836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he m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lives next to u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sells veget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16000" y="1916280"/>
            <a:ext cx="71280" cy="93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84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先行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1916280"/>
            <a:ext cx="64764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03080" y="27273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置于名词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修饰名词的从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844640"/>
            <a:ext cx="144360" cy="23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0056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4076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120" y="378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接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5280" y="380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04560" y="4816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28080" y="4791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从句中充当成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26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5736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4720" y="9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124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20720" y="494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72760" y="493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副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48000" y="47628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44920" y="35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3120" y="33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44920" y="128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3120" y="133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65440" y="22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2520" y="219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某一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68560" y="351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1440" y="33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360" y="76356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68720" y="76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0720" y="13399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25080" y="1339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35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33280" y="2224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03080" y="22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1280" y="2637000"/>
            <a:ext cx="36036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0240" y="284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能放于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6000" y="2708280"/>
            <a:ext cx="72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6520" y="398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于句中或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57120" y="4292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81080" y="4940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78520" y="4940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64800" y="1700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宾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1480" y="5372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状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rry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other is our maths teac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 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some tre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0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Thank you for your attend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（介词后置）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m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ich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whic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33520"/>
            <a:ext cx="228600" cy="25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6960 h 2574720"/>
              <a:gd name="textAreaBottom" fmla="*/ 2507760 h 25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495680"/>
            <a:ext cx="228600" cy="181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160 h 1812960"/>
              <a:gd name="textAreaBottom" fmla="*/ 1765800 h 18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09-13T14:02:35Z</dcterms:modified>
  <cp:revision>25</cp:revision>
  <dc:subject/>
  <dc:title>PowerPoint Presentation</dc:title>
</cp:coreProperties>
</file>