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95316-CFC5-44AD-863A-A27E06FC6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05717-2BE2-4DB7-B3DD-EFB6420D9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6A5F4-6B67-4B47-8BC1-786805F23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A423E-2F18-4998-A534-2003176B3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BA4AA-6EC7-4DC2-AE0A-D57B8FD5B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39CC4-B150-45AB-B2EC-DE52A006B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F0535-1E10-415C-9AD6-85481E425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81CF6-5E25-4881-8E62-CBE9922D8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00435-85D8-4B9C-839D-9BA09A080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6FE71-5EE8-46B8-9634-6E54797A2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DF08B-6583-461B-BDD9-6438B2B8B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AE608-C085-4B35-AB12-E833B4B52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ED8C8-1DB9-4F66-B542-5B64A075256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z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z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05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z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z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z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04T03:03:08Z</dcterms:created>
  <dc:creator>USER13</dc:creator>
  <dc:description/>
  <dc:language>en-US</dc:language>
  <cp:lastModifiedBy>USER13</cp:lastModifiedBy>
  <dcterms:modified xsi:type="dcterms:W3CDTF">2002-05-04T03:03:34Z</dcterms:modified>
  <cp:revision>1</cp:revision>
  <dc:subject/>
  <dc:title>PowerPoint 演示文稿</dc:title>
</cp:coreProperties>
</file>