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D29C-A9D4-44EF-91A8-0150FA2C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B6A-8623-4CEC-A5C9-957BDF9C4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3800-C57E-48B8-ACF3-2D557024F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A234-E6AE-4817-9E03-87B99296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6814-6060-4BCF-863C-0C1CA4F36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3F2-7B1E-4C5D-91B6-C6D27FD3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C9B-9EA4-48FB-848B-4D1F2616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256-D293-44D3-8D12-FD1F5F92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3522-77C4-4885-A228-DCC0E754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7E4D-DAE5-4973-A74B-C7A955E1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C59-C393-4FCE-B5C8-AD528E58E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32B3-6EBB-4BB9-8FCC-A5572998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3680-CCD7-4CDE-8A4F-2668B6BC6A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281952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Times New Roman"/>
              </a:rPr>
              <a:t>Unit 3 Australi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701640"/>
            <a:ext cx="861048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What may happen when a kangaroo knock on you while you were driving?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 It may damage the car really bad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. It may hurt y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. It may follow your c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ouse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6094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68360" y="54936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camp     ash      ashtray      Bonny    dirt        valley   kangaroo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eyon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fix up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    cave     thirst          sunbur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89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new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26920" y="3068640"/>
            <a:ext cx="47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2362320"/>
            <a:ext cx="8458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people are in the cam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n they smoke in the bush?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do they decide to make their cam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31240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f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495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. Because they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ay/could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 start a bush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5943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In the bush, near some trees and a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62120" y="121932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ep 4 Practi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3822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d the dialogue in pairs paying attention to the pronunciation and into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396252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tep 5  Useful expr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64000" cy="2901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320" y="2895480"/>
            <a:ext cx="3935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Yang Pei and Jacki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go camping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u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78440" y="235080"/>
            <a:ext cx="506556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riding       go climb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boating    go fish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shooting   go danc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walking     go swimming           go shopping   go sai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farming      go teach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o solid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2089080" cy="20210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38080" y="633888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514600" y="4343400"/>
            <a:ext cx="1800360" cy="1727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71640" y="624852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p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181080"/>
            <a:ext cx="883908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plenty of---a lo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put out---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熄灭；关熄；扑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lease put out the lights before you le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ire was put out after three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fix up---put up;repair;set a time or a place f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n you help me fix up the map on the wall?I am not tall enoug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y TV has gone wrong.I have to have it fixed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ve you fixed up the time and the place for the meeting ye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04920"/>
            <a:ext cx="838188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y , look at where you are going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h, I’m terribly sorry._______.   (NMET9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I’m not noticing        B. I was’t notic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I haven’t noticed        D. I don’t no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I don’t think Jim saw me; he ______into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NMET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just stared                   B. was just st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has just stared             D. had just sta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mouse" descr=""/>
          <p:cNvPicPr/>
          <p:nvPr/>
        </p:nvPicPr>
        <p:blipFill>
          <a:blip r:embed="rId1"/>
          <a:stretch/>
        </p:blipFill>
        <p:spPr>
          <a:xfrm>
            <a:off x="4495680" y="838080"/>
            <a:ext cx="609840" cy="1447920"/>
          </a:xfrm>
          <a:prstGeom prst="rect">
            <a:avLst/>
          </a:prstGeom>
          <a:ln w="0">
            <a:noFill/>
          </a:ln>
        </p:spPr>
      </p:pic>
      <p:pic>
        <p:nvPicPr>
          <p:cNvPr id="104" name="mouse" descr=""/>
          <p:cNvPicPr/>
          <p:nvPr/>
        </p:nvPicPr>
        <p:blipFill>
          <a:blip r:embed="rId2"/>
          <a:stretch/>
        </p:blipFill>
        <p:spPr>
          <a:xfrm>
            <a:off x="4495680" y="4495680"/>
            <a:ext cx="6098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533520"/>
            <a:ext cx="8305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Hello, I _____you______in London. How long have you been 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on’t know; were            B. hadn’t know;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haven’t known; are          D.didn’t know; w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mouse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6094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457560"/>
            <a:ext cx="83055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one‘s attention on…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中注意力于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(up) a watch/bike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修表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自行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one's eyes on…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意看……，凝视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sb up with a job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…安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提供工作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x sb up for a night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…安排一晚的住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0880" y="380880"/>
            <a:ext cx="84582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Beyond---1.On the far side of; past: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远处那边；过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ust beyond the fence.    He lives beyond the r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在篱笆那边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2.Later than; after: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迟于；之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yond midnight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午夜之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超出（理解、范围、眼界）之上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 evil beyond remedy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可救药的邪恶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’s beyond my ability to finish the task in 2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大于在程度或数量上大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result is beyond my expec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" y="3351600"/>
            <a:ext cx="843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)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…所不能及；多于；超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Understanding this article is beyond my capacity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看不懂这篇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's quite beyond me why she married such a heavy smo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实在无法理解为什么她会嫁给这样一个烟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913320"/>
            <a:ext cx="782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. Beyond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1)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（到）…较远的一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lies beyond the mountains?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的那一边有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52280"/>
            <a:ext cx="612144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ose the best answ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914400"/>
            <a:ext cx="8991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 who told you about Dad’s illne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- the doctor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connection   B turn C public  D charg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3429000"/>
            <a:ext cx="84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) Her husband joined her ____ her search ____ this unknown radi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in; in             B in;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 in; of             D for;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54840" y="26924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62520" y="487692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76320" y="38016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tie… to…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…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在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106596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got there and we tied our boat to a big r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76320" y="2224440"/>
            <a:ext cx="9220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ie          tied         tied      tying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系，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ie          lied         lied       lying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ie      lay      lain        lying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躺下，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lay       laid       laid       laying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，产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320" y="437256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 Make sure of sth. / that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确保，务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320" y="5134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) We’ve made sure of our seats for the mov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152280" y="5896800"/>
            <a:ext cx="944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Make sure (that) you pick the child up at f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85800" y="60948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990720"/>
            <a:ext cx="79246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Be careful! Look out! Take care! Don't do… You mustn't do…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often use these phrases to give warnings or prohibition</a:t>
            </a:r>
            <a:r>
              <a:rPr b="1" lang="zh-CN" sz="3200" spc="-1" strike="noStrike">
                <a:solidFill>
                  <a:srgbClr val="3366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27672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ep 6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Complete part 2 quick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ew words:   thirst (thirsty)     get sunbur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54864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Turn to P153 and do Ex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907920"/>
            <a:ext cx="43210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Make s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you put out the fire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wal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ound without a sun 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Clo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farm gates behind you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rive past cars that have stopped in the bush without st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Don’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ve into the bush without plenty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P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er on the 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1125360"/>
            <a:ext cx="45720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can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easil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die of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Otherwis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the animals will esca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needs hel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migh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start a bush f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get  sunbur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n you</a:t>
            </a:r>
            <a:r>
              <a:rPr b="1" lang="zh-CN" sz="2400" spc="-1" strike="noStrike">
                <a:solidFill>
                  <a:srgbClr val="3333ff"/>
                </a:solidFill>
                <a:latin typeface="Arial"/>
              </a:rPr>
              <a:t>’ll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e sure the fire is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24360" y="1268280"/>
            <a:ext cx="934920" cy="201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635280" y="4508280"/>
            <a:ext cx="1081080" cy="1584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851280" y="2924280"/>
            <a:ext cx="1152360" cy="1009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564000" y="1412640"/>
            <a:ext cx="1152360" cy="3671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995640" y="1988640"/>
            <a:ext cx="720720" cy="863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2133720"/>
            <a:ext cx="647640" cy="1655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19280" y="33336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prohibitions and war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5640" y="5661000"/>
            <a:ext cx="57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Be careful: Look out: Take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990720"/>
            <a:ext cx="79246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 Please tap the cigarette ash into the ashtray. Don’t tap it on the floo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828800"/>
            <a:ext cx="8458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Don’t go too far in the bush, otherwise you may get los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3623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Don’t throw the cigarette end out of the window, otherwise you may start a fire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32004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Before you return the car, make sure you clean/wash the dirt off i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38862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How about having a camp/going camping next week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343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Some people suggested going beyond the mountain to have a look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517356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It is said that here is a valley of death. No one has dared to get into it so far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9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: May I ________ the car this time, Pa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: OK. I know you’re a good dri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: Thank you, Paul. ________ exactly are we going n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: I’m not ______ what do you ________, Lo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a: Shall we go down the valley to ______ a nice place ______ a cam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ul: Good______ ! And we can also have a bush walk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a: Yes. I ______ bush walk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ra : Oh, God! ______ careful, Bill! The road is not fl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______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5800" y="990720"/>
            <a:ext cx="8229600" cy="45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7.Assignm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Oral work (Recite the dialogue or make a new one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Collect as much information as possible about Australi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4920" y="228600"/>
            <a:ext cx="8610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In summer, the temperature sometimes ____ as high as 39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º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) The number of students in this school ____ by 5% every ye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rises    B raises     C rise     D ra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3714840"/>
            <a:ext cx="84582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) He didn’t keep his word; we doubt if he will be worth 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being believed in    B to be belie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 to believe        D believing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312408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83040" y="596916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304920"/>
            <a:ext cx="8991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) I dislike_____ to travel to work in a very ____ bus every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having; crowded   B to have;crow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having; crowding  D to have;crow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2080" y="3486240"/>
            <a:ext cx="84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) It is no use ____ to repair the ship. It will cost too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trying             B 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 to try             D tr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5440" y="17780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49784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1066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tep 1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9810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You are going to have a three-day holiday.What are you going to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3581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should you do when going swimm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46483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at advice will you give me if I go camping on the hi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382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09480" y="3276720"/>
            <a:ext cx="11430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306600"/>
            <a:ext cx="2743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h and asht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91320" y="3200400"/>
            <a:ext cx="27432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t(on the c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6019920"/>
            <a:ext cx="12952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l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5973840"/>
            <a:ext cx="19051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ngar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6019920"/>
            <a:ext cx="419112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village)beyond(the hil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9382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95280" y="2819520"/>
            <a:ext cx="10670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2895480"/>
            <a:ext cx="12956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71800"/>
            <a:ext cx="175284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unbur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DD01023_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16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62120" y="8380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ep 2  Preparation for list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523880"/>
            <a:ext cx="7924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We are going to learn some expressions about prohibition(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禁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and warnings.Please pay attention to those phra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97180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Learn the new word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ashtra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烟灰缸 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dir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污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泥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bush fi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---an uncontrolled fire which  burns large areas of the countryside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trac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n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途径       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kangaroo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袋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0"/>
            <a:ext cx="883908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Step 3 Multiple-choice exercises for listening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What is a good place for camping according to Yang Pei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A place by the river with plenty of shade under the tree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A place in the cave.     C. A place in the bush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Why mustn’t Burt smoke while walking around in the bush?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Because the smoke is terrib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Because it could start a bush fire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Because smoking is bad for one’s health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mouse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09480" cy="1447560"/>
          </a:xfrm>
          <a:prstGeom prst="rect">
            <a:avLst/>
          </a:prstGeom>
          <a:ln w="0">
            <a:noFill/>
          </a:ln>
        </p:spPr>
      </p:pic>
      <p:pic>
        <p:nvPicPr>
          <p:cNvPr id="80" name="mouse" descr=""/>
          <p:cNvPicPr/>
          <p:nvPr/>
        </p:nvPicPr>
        <p:blipFill>
          <a:blip r:embed="rId2"/>
          <a:stretch/>
        </p:blipFill>
        <p:spPr>
          <a:xfrm>
            <a:off x="228600" y="4419720"/>
            <a:ext cx="60948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8T16:32:33Z</dcterms:created>
  <dc:creator>Benny Lee</dc:creator>
  <dc:description/>
  <dc:language>en-US</dc:language>
  <cp:lastModifiedBy>w</cp:lastModifiedBy>
  <dcterms:modified xsi:type="dcterms:W3CDTF">2004-08-10T09:08:55Z</dcterms:modified>
  <cp:revision>38</cp:revision>
  <dc:subject/>
  <dc:title>PowerPoint 演示文稿</dc:title>
</cp:coreProperties>
</file>