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8.gif" ContentType="image/gif"/>
  <Override PartName="/ppt/media/image15.png" ContentType="image/png"/>
  <Override PartName="/ppt/media/image14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23.jpeg" ContentType="image/jpeg"/>
  <Override PartName="/ppt/media/image19.jpeg" ContentType="image/jpeg"/>
  <Override PartName="/ppt/media/image2.gif" ContentType="image/gif"/>
  <Override PartName="/ppt/media/image11.png" ContentType="image/png"/>
  <Override PartName="/ppt/media/image9.png" ContentType="image/png"/>
  <Override PartName="/ppt/media/image22.jpeg" ContentType="image/jpeg"/>
  <Override PartName="/ppt/media/type.wav" ContentType="audio/x-wav"/>
  <Override PartName="/ppt/media/projctor.wav" ContentType="audio/x-wav"/>
  <Override PartName="/ppt/media/image24.jpeg" ContentType="image/jpeg"/>
  <Override PartName="/ppt/media/image8.gif" ContentType="image/gif"/>
  <Override PartName="/ppt/media/image4.png" ContentType="image/png"/>
  <Override PartName="/ppt/media/image7.png" ContentType="image/png"/>
  <Override PartName="/ppt/media/image34.jpeg" ContentType="image/jpeg"/>
  <Override PartName="/ppt/media/image3.png" ContentType="image/png"/>
  <Override PartName="/ppt/media/image17.jpeg" ContentType="image/jpeg"/>
  <Override PartName="/ppt/media/image25.jpeg" ContentType="image/jpeg"/>
  <Override PartName="/ppt/media/image31.jpeg" ContentType="image/jpeg"/>
  <Override PartName="/ppt/media/image26.jpeg" ContentType="image/jpeg"/>
  <Override PartName="/ppt/media/image32.jpeg" ContentType="image/jpeg"/>
  <Override PartName="/ppt/media/image5.png" ContentType="image/png"/>
  <Override PartName="/ppt/media/applause.wav" ContentType="audio/x-wav"/>
  <Override PartName="/ppt/media/CLAP.WAV" ContentType="audio/x-wav"/>
  <Override PartName="/ppt/media/image35.png" ContentType="image/png"/>
  <Override PartName="/ppt/media/image27.jpeg" ContentType="image/jpeg"/>
  <Override PartName="/ppt/media/image33.jpeg" ContentType="image/jpeg"/>
  <Override PartName="/ppt/media/image1.jpeg" ContentType="image/jpeg"/>
  <Override PartName="/ppt/media/image10.png" ContentType="image/png"/>
  <Override PartName="/ppt/media/image30.gif" ContentType="image/gif"/>
  <Override PartName="/ppt/media/image28.png" ContentType="image/png"/>
  <Override PartName="/ppt/media/HORN8.WAV" ContentType="audio/x-wav"/>
  <Override PartName="/ppt/media/MTS_003.WAV" ContentType="audio/x-wav"/>
  <Override PartName="/ppt/media/camera.wav" ContentType="audio/x-wav"/>
  <Override PartName="/ppt/media/laser.wav" ContentType="audio/x-wav"/>
  <Override PartName="/ppt/media/TYPE.WAV" ContentType="audio/x-wav"/>
  <Override PartName="/ppt/media/BOB7T.WAV" ContentType="audio/x-wav"/>
  <Override PartName="/ppt/media/image21.jpeg" ContentType="image/jpeg"/>
  <Override PartName="/ppt/media/image29.png" ContentType="image/png"/>
  <Override PartName="/ppt/media/chimes.wav" ContentType="audio/x-wav"/>
  <Override PartName="/ppt/media/image16.png" ContentType="image/png"/>
  <Override PartName="/ppt/media/image6.png" ContentType="image/png"/>
  <Override PartName="/ppt/media/image36.png" ContentType="image/png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0EDA-778D-4B53-9C24-5180083D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F1A-E0BE-48BB-9B71-928106B0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CC6-FA6C-42FB-A29A-058B19CA9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2E0-26F3-4F2D-B1B5-E7CA1DB3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05CA-C7FD-4B0B-853B-623678A72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8D422-0B6F-4224-8C4E-409AE95B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C7E7-86B4-41D8-B9D8-96DD3E26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5FC6-E71C-471A-AB07-BCE6B1910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C8F-D0D7-42EC-9AB7-D1E7E8CF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0610-CC91-4FD0-89D2-05913CB0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C3D3-F0D3-4628-82ED-0BF2C85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3CB-4637-41A4-B0CD-75663E75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FD16-6CF6-42C5-9D01-86372A3F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4F36-9014-4D8F-866E-76CF0E7C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43846-0EEE-48EE-832F-C16F214C5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AD363-DB52-4469-98AC-D340509A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08FE-FD48-4236-81EE-0B016ACDA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5AE8E-C918-4EC4-8C91-5729522AB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0A24-22A8-4E38-9D3E-A8C1E3A8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01BC-E2F5-490E-A20A-B8F96B6F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AC618-56F8-4773-B041-7B6EE19C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79B21-B21E-449C-AE25-33A90448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9405-1B84-4937-B5FA-75CBF0D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CAE7-B51F-4560-A188-5E6DB9F01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B531E-21DE-4800-942C-8CEB7E0D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0E8B-DB44-4711-A2D7-B7C37A65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EC05-C695-4F84-9434-B362D50D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5891C-C7B4-4806-B292-428698DE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BD139-B173-4B1E-8291-56C34BFF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3BCD-3BF7-42EC-B9CB-6F77F7AD9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9EA-73F5-476C-9C6F-00773321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F87-7327-4C0F-891D-EFBB80BA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3C3-A2DB-431A-986D-A8502108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1E28-D7D5-461F-83D7-45B25BD3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1D4-B3DB-4DCC-A230-2C78F5E4A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9ECC-E2DE-4921-A439-A4F0CA4D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049A-747B-4AB3-AD63-5723E38F06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88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202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216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230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44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58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72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74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E8BA7-F796-479F-BCFE-C3517B7BD9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004A-3D95-42BB-BD73-AB55441E0C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4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MTS_003.WAV"/><Relationship Id="rId4" Type="http://schemas.openxmlformats.org/officeDocument/2006/relationships/audio" Target="../media/HORN8.WAV"/><Relationship Id="rId5" Type="http://schemas.openxmlformats.org/officeDocument/2006/relationships/audio" Target="../media/MTS_003.WAV"/><Relationship Id="rId6" Type="http://schemas.openxmlformats.org/officeDocument/2006/relationships/audio" Target="../media/chimes.wav"/><Relationship Id="rId7" Type="http://schemas.openxmlformats.org/officeDocument/2006/relationships/audio" Target="../media/BOB7T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3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BOB7T.WAV"/><Relationship Id="rId6" Type="http://schemas.openxmlformats.org/officeDocument/2006/relationships/audio" Target="../media/BOB7T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OB7T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HORN8.WAV"/><Relationship Id="rId3" Type="http://schemas.openxmlformats.org/officeDocument/2006/relationships/audio" Target="../media/BOB7T.WAV"/><Relationship Id="rId4" Type="http://schemas.openxmlformats.org/officeDocument/2006/relationships/audio" Target="../media/chimes.wav"/><Relationship Id="rId5" Type="http://schemas.openxmlformats.org/officeDocument/2006/relationships/audio" Target="../media/applause.wav"/><Relationship Id="rId6" Type="http://schemas.openxmlformats.org/officeDocument/2006/relationships/audio" Target="../media/BOB7T.WAV"/><Relationship Id="rId7" Type="http://schemas.openxmlformats.org/officeDocument/2006/relationships/audio" Target="../media/HORN8.WAV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himes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HORN8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audio" Target="../media/BOB7T.WAV"/><Relationship Id="rId5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BOB7T.WAV"/><Relationship Id="rId4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image" Target="../media/image36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3.xml"/><Relationship Id="rId3" Type="http://schemas.openxmlformats.org/officeDocument/2006/relationships/image" Target="../media/image1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audio" Target="../media/projctor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audio" Target="../media/projctor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MTS_003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378360" y="457200"/>
            <a:ext cx="4347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Let’s go to visit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Australi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Times New Roman"/>
              </a:rPr>
              <a:t>--A good ide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11040" y="304920"/>
            <a:ext cx="683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yers Rock in the Northern Terri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sacred site to the Aboriginal peop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1670760" y="533520"/>
            <a:ext cx="56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mall settlement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1899720" y="457200"/>
            <a:ext cx="61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ustralian cowboys herding c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n a ranch in the out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5" dur="3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751320" y="685800"/>
            <a:ext cx="780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e road from Alice Springs to Tennant Cr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"/>
          <p:cNvSpPr/>
          <p:nvPr/>
        </p:nvSpPr>
        <p:spPr>
          <a:xfrm>
            <a:off x="1306800" y="620640"/>
            <a:ext cx="66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stralia’s capitol building in Canb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488360" cy="654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>
            <a:off x="531720" y="0"/>
            <a:ext cx="412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-reading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1200" y="914400"/>
            <a:ext cx="68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Where did the Australians come from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00480" y="2349360"/>
            <a:ext cx="65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What did the Kooris use for hun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8680" y="3809880"/>
            <a:ext cx="837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 How many languages were spoken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67760" y="1600200"/>
            <a:ext cx="10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963720" y="3068640"/>
            <a:ext cx="58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 curiously shaped piece of w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970200" y="443700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ver 25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古利人" descr="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5791320" y="4572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KOORI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867280" y="16002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borig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2743200"/>
            <a:ext cx="3429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The first people of the cou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dysjmap3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4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611280" y="685800"/>
            <a:ext cx="3624120" cy="288612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4859280" y="685800"/>
            <a:ext cx="3745080" cy="281448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1905120" y="3645000"/>
            <a:ext cx="5837040" cy="2997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843280" y="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origines/ Koo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5300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in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3492360" y="0"/>
            <a:ext cx="2808360" cy="35002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4500720" cy="35006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3205080" cy="350028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4"/>
          <a:stretch/>
        </p:blipFill>
        <p:spPr>
          <a:xfrm>
            <a:off x="0" y="3645000"/>
            <a:ext cx="4643280" cy="321300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5"/>
          <a:stretch/>
        </p:blipFill>
        <p:spPr>
          <a:xfrm>
            <a:off x="0" y="0"/>
            <a:ext cx="3562200" cy="357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6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52280"/>
            <a:ext cx="65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tep 1 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55640" y="839880"/>
            <a:ext cx="8007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Please translate the sentence in four w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他们可能去露营了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19280" y="236232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t is possible/likely/probable that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62120" y="3505320"/>
            <a:ext cx="77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are likely to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38080" y="4267080"/>
            <a:ext cx="72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aybe the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066680" y="5105520"/>
            <a:ext cx="55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may have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38080" y="57913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y have possibly gone cam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Australia0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1562040" y="1752480"/>
            <a:ext cx="6819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TYPE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228600" y="0"/>
          <a:ext cx="8915400" cy="714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915400" cy="714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CLAP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066680" y="380880"/>
            <a:ext cx="6820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Among aboriginal art forms practiced today is bark paint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1581120" y="1905120"/>
          <a:ext cx="55054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1905120"/>
                    <a:ext cx="5505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  <p:sndAc>
      <p:stSnd>
        <p:snd r:embed="rId3" name="TYPE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50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Fast rea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8380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Main idea of each para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58640" y="1609560"/>
            <a:ext cx="2043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1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2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3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4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5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Para. 6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1676520"/>
            <a:ext cx="9372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earliest settlers--Koor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0920" y="2362320"/>
            <a:ext cx="929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ways of lif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590920" y="31240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popul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514600" y="38862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edu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464832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ir langu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38280" y="5410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date of being citizen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Buterfl1" descr=""/>
          <p:cNvPicPr/>
          <p:nvPr/>
        </p:nvPicPr>
        <p:blipFill>
          <a:blip r:embed="rId2"/>
          <a:stretch/>
        </p:blipFill>
        <p:spPr>
          <a:xfrm>
            <a:off x="8626320" y="6340320"/>
            <a:ext cx="517680" cy="517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669960" y="550800"/>
            <a:ext cx="75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story about Australia and then te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ther the sentences are true(T) or false(F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19480" y="1676520"/>
            <a:ext cx="83494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1 Australia is about 20,000 years o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2 The first people of Australia were kn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 aborig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3 Maybe the aborigines developed the olde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m of art on the ear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   )4 The aborigines lived by farming and fis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6960" y="1747800"/>
            <a:ext cx="4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80040" y="2251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80040" y="3187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9000" y="4181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971640" y="692280"/>
            <a:ext cx="7704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5 The population of Kooris decreased sharply  after the arrival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6 Whenever the Kooris defended their rights, they killed thousands and thousands of foreign sett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   )7 Koori children enjoy equal rights of education  with white childr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118160" y="7650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117800" y="1989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167120" y="3716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2085840" y="-85680"/>
            <a:ext cx="45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hoose the right answ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19240" y="328680"/>
            <a:ext cx="20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53352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The first people arriving in Australia might be from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Europe           B Africa            C A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“Aborigines” means______.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 oldest races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a strong system of society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 first people of a cou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Their spiritual faith and gods were very important to them.  This means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they strongly believed in their spiritual faith and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they didn’t develop a civilization of their 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C. they wanted to be the most important race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8296200" y="547560"/>
            <a:ext cx="4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57600" y="1843200"/>
            <a:ext cx="4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895480" y="4343400"/>
            <a:ext cx="4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119160"/>
            <a:ext cx="9144000" cy="71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4 The Kooris lived by_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growing different crops and vegetab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inventing and selling different kinds of fishing nets and hunting too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fishing , hunting animals and gathering roots, nuts and frui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5 The number of aborigines became smaller quickly because____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 foreign settlers brought new disease which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 foreign settlers seized their land and killed many of th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  both A and B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09880" y="1062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523880" y="3763800"/>
            <a:ext cx="5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576360" y="162000"/>
            <a:ext cx="8243640" cy="67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6. The underlined word in the sentence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Whenever the kooris </a:t>
            </a:r>
            <a:r>
              <a:rPr b="1" lang="zh-CN" sz="3000" spc="-1" strike="noStrike" u="sng">
                <a:solidFill>
                  <a:srgbClr val="ffff00"/>
                </a:solidFill>
                <a:uFillTx/>
                <a:latin typeface="Times New Roman"/>
              </a:rPr>
              <a:t>defended</a:t>
            </a:r>
            <a:r>
              <a:rPr b="1" lang="zh-CN" sz="30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their rights, they were killed</a:t>
            </a:r>
            <a:r>
              <a:rPr b="1" lang="zh-CN" sz="30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means ____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gave up   B. caught  C. looked for  D.fought f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7.In the passage the writer wants to tell us mainly about____    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A.  how Australia was discove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B.   the first Australians ---Koor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C.   how foreign settlers treated Kooris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000" spc="-1" strike="noStrike">
                <a:solidFill>
                  <a:srgbClr val="ffffff"/>
                </a:solidFill>
                <a:latin typeface="Times New Roman"/>
              </a:rPr>
              <a:t>D.  where Kooris came from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095880" y="1143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9718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431640" y="30240"/>
            <a:ext cx="65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Check the answers to Ex3 on Page 1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15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Don’t go too far in the bush, otherwise you may get l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4920" y="210168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Don’t throw the cigarette end out of the window, otherwise you may start a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8440" y="309240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Before you return the car, make sure you clean/wash the dirt off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04920" y="42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How about having a camp/going camping next wee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476892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6. Some people suggested going beyond the mountain to have a l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6080" y="575928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7. It is said that here is a valley of death. No one has dared to get into it so f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52360" y="620640"/>
            <a:ext cx="878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Please tap the cigarette ash into the ashtray. Don’t tap it on the fl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533520" y="490680"/>
            <a:ext cx="8280360" cy="66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.Which can be inferred from the passag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. Australia and Asia used to be joined together by a long bridg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B. Kooris invented a strangely shaped tool that would bring back whatever it h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C. The first Australians might be from A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D. Kooris children enjoy equal rights of education with white childr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9608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/>
          <p:cNvSpPr/>
          <p:nvPr/>
        </p:nvSpPr>
        <p:spPr>
          <a:xfrm>
            <a:off x="2970000" y="0"/>
            <a:ext cx="22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e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762120"/>
            <a:ext cx="8858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 First people arrived in Australia(date):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 Age of earliest cave paintings:                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 Food: 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 Tools:            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 Special skills:            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 Past Kooris population:                      __________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 Percentage of past population of Australia: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8 Percentage of present population of Australia: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9 Causes of death:                              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0 Past number of Kooris languages: 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1 Kooris made citizens of Australia :      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248520" y="7621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3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156360" y="121932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,0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918160" y="1614600"/>
            <a:ext cx="60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nimals,birds,fish,roots,nuts,wild fr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355560" y="2057400"/>
            <a:ext cx="53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shing nets,shaped piece of w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565800" y="2478240"/>
            <a:ext cx="45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inding underground sp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80000" y="2895480"/>
            <a:ext cx="32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000,000—3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19560" y="3343320"/>
            <a:ext cx="107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804000" y="38098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 little over 1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085440" y="4191120"/>
            <a:ext cx="24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seases, 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249240" y="4648320"/>
            <a:ext cx="155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ver 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401520" y="510552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9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52920" cy="518148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3581280" y="457200"/>
            <a:ext cx="5562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aboriginal man of South Australia wears a cap of plaited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打成辫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straw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稻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carries a decorated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装饰了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woomera, a stick used to cradle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支撑，摇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 spear 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矛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and give added leverage(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杠杆作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in throwing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7848720" y="5029200"/>
            <a:ext cx="960480" cy="1565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5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90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440" y="6167520"/>
            <a:ext cx="668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5815080" cy="4255920"/>
          </a:xfrm>
          <a:prstGeom prst="rect">
            <a:avLst/>
          </a:prstGeom>
          <a:ln w="0">
            <a:noFill/>
          </a:ln>
        </p:spPr>
      </p:pic>
      <p:sp>
        <p:nvSpPr>
          <p:cNvPr id="684" name=""/>
          <p:cNvSpPr/>
          <p:nvPr/>
        </p:nvSpPr>
        <p:spPr>
          <a:xfrm>
            <a:off x="1332000" y="4282920"/>
            <a:ext cx="665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 aboriginal family is at home in South Australia; the woman is spinning (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纺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w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673280" y="115920"/>
            <a:ext cx="5562720" cy="40719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828720" y="436572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borigines work in a lumber (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木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forest on Melville Island off the coast near Darw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ORN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3734280" y="2286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75480" y="99072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were handed down = were passed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04920" y="1981080"/>
            <a:ext cx="808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The old house has been handed down for three gen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04920" y="3276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In poor families,clothes may be handed down from one child to the nex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541008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The story was handed down from mouth to mouth by the e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824920" y="46483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这故事是老一辈们口传下来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3353400" y="106200"/>
            <a:ext cx="115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Times New Roman"/>
              </a:rPr>
              <a:t>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762120"/>
            <a:ext cx="46483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ach out one's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伸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ut up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end me a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帮我一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every ha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各个方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on one hand,…one the other hand,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方面，…另一方面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876920" y="1523880"/>
            <a:ext cx="4419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by hand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用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ff! 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请勿动手！不许碰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s up!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举起手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sth. to sb.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把某物递给某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in (=turn in)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上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hand out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分发，交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880" y="58672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-me-down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267080" y="6172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hand  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533520" y="152280"/>
            <a:ext cx="795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the elders = the old peop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33520" y="838080"/>
            <a:ext cx="817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(the oldest form of art )</a:t>
            </a:r>
            <a:r>
              <a:rPr b="1" lang="en-US" sz="2800" spc="-1" strike="noStrike">
                <a:solidFill>
                  <a:srgbClr val="e40000"/>
                </a:solidFill>
                <a:latin typeface="Times New Roman"/>
              </a:rPr>
              <a:t>ye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iscovered on the ear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120" y="129528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so far discovered= that has been discovered so f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27760" y="1828800"/>
            <a:ext cx="617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 a curiously shaped piece of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9840" y="2209680"/>
            <a:ext cx="35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idely use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09480" y="2666880"/>
            <a:ext cx="39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ly discovered is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40960" y="2209680"/>
            <a:ext cx="439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wrongly pronounced s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125320" y="2666880"/>
            <a:ext cx="31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praised d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33520" y="30481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 gathering =colle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63920" y="420516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She is an experienced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51080" y="3581280"/>
            <a:ext cx="77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6 be/become experience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/in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725400" y="487692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)They were quite experienced at teaching beginn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62120" y="548640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)He is quite experienced in this kind of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60958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) He is experienced at repairing c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04920" y="380880"/>
            <a:ext cx="8610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make up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组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e was making herself up when she heard a knock at the doo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57200" y="4800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Take sth as one’s own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把…占为己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09480" y="54100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 He took this house as his own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Mike took the pen as a penc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80880" y="609480"/>
            <a:ext cx="79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be intended for---be provided for or designed for a particular purpose or pers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480" y="2133720"/>
            <a:ext cx="7543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ook is intended for beginn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) The shot was intended for the President killed one of his sold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762120" y="510552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 The seats in the front are intended for the chairman and honourable gue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B7T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5943600"/>
            <a:ext cx="3581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look) curiously (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57600" y="5943600"/>
            <a:ext cx="335268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ground(ro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086600" y="5867280"/>
            <a:ext cx="20574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cen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938160" y="304920"/>
            <a:ext cx="63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0.rather than---instead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-60480" y="1219320"/>
            <a:ext cx="90522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You,rather than I,should be punished.(instead of 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Rather than sleep all day,I prefer to go for an outing.(Instead of sleep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" y="4648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He will wait for the lift rather than climb the stairs.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宁可等电梯，也不爬楼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04920" y="5867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 She's pretty rather than beautiful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她漂亮但并不美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57200" y="32767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I’d like to have a cold drink rather than coffe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I’ll go there by bus rather than by tax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B7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228600" y="38088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ould do…rather 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would rather do…than do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prefer to do…rather than do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宁可…… 不做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372920" y="27432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宁可回家，也不愿意呆在这什么都不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04920" y="3535200"/>
            <a:ext cx="88390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ould go home rather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would rather go home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I prefer to go home rather than stay here doing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76320" y="330120"/>
            <a:ext cx="91328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).Kooris developed a way of life that was suitable for this hot and in many places dry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古利人形成了适应这种炎热、干燥环境自己的生活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38080" y="2209680"/>
            <a:ext cx="8001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suitable for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适合，适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e fit fo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适，适合，胜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itable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调适合某种环境、情况或某种特殊需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it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常用来表示适合某种目的、用途或某人有能力胜任某工作或职务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8080" y="5334120"/>
            <a:ext cx="6477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he man is not fit for the jo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hese clothes are suitable for a week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914400" y="1066680"/>
            <a:ext cx="7696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.Just over 200 years ago Kooris made up 100% of the population, but today they only make up a little over 1% of the popul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就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多年前，古利人占澳大利亚人口总数的百分之百，但今天他们只占据澳大利亚人口的百分之一多一点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304920" y="210960"/>
            <a:ext cx="883908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1) make up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组成，占据；化装；弥补；虚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Hans make up 90% of the population in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She was making herself up when she heard a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n you make up for the loss caused by the fi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e likes to make up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(2) population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人口（不可数）；人（可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 What is the population of Chin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About two thirds of the population in China are peasa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0" y="0"/>
            <a:ext cx="9144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Discus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0" y="99072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have many of Koori languages disappeared or been lo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8195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hy were Kooris made citizens of Australia, 53.000 years after arriving the countr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dysjmap33" descr=""/>
          <p:cNvPicPr/>
          <p:nvPr/>
        </p:nvPicPr>
        <p:blipFill>
          <a:blip r:embed="rId3"/>
          <a:stretch/>
        </p:blipFill>
        <p:spPr>
          <a:xfrm>
            <a:off x="8458200" y="0"/>
            <a:ext cx="685800" cy="600120"/>
          </a:xfrm>
          <a:prstGeom prst="rect">
            <a:avLst/>
          </a:prstGeom>
          <a:ln w="0">
            <a:noFill/>
          </a:ln>
        </p:spPr>
      </p:pic>
      <p:pic>
        <p:nvPicPr>
          <p:cNvPr id="736" name="n15" descr=""/>
          <p:cNvPicPr/>
          <p:nvPr/>
        </p:nvPicPr>
        <p:blipFill>
          <a:blip r:embed="rId4"/>
          <a:stretch/>
        </p:blipFill>
        <p:spPr>
          <a:xfrm>
            <a:off x="0" y="6429240"/>
            <a:ext cx="9144000" cy="42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5" name="chimes.wav"/>
      </p:stSnd>
    </p:sndAc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bj7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0" y="0"/>
            <a:ext cx="9144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4920" y="1219320"/>
            <a:ext cx="8686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en did the earliest settlers come and where did they come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ow did they hand down their customs, knowledge and memor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way of their lif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was the population in the past and what is the population now? What happen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about the education of Koori childr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appened to the Koori languag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dysjmap33" descr=""/>
          <p:cNvPicPr/>
          <p:nvPr/>
        </p:nvPicPr>
        <p:blipFill>
          <a:blip r:embed="rId3"/>
          <a:stretch/>
        </p:blipFill>
        <p:spPr>
          <a:xfrm>
            <a:off x="8534520" y="6324480"/>
            <a:ext cx="609480" cy="533520"/>
          </a:xfrm>
          <a:prstGeom prst="rect">
            <a:avLst/>
          </a:prstGeom>
          <a:ln w="0">
            <a:noFill/>
          </a:ln>
        </p:spPr>
      </p:pic>
      <p:sp>
        <p:nvSpPr>
          <p:cNvPr id="741" name=""/>
          <p:cNvSpPr/>
          <p:nvPr/>
        </p:nvSpPr>
        <p:spPr>
          <a:xfrm>
            <a:off x="228600" y="533520"/>
            <a:ext cx="80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Retell the text using the following ques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2"/>
          <a:stretch/>
        </p:blipFill>
        <p:spPr>
          <a:xfrm>
            <a:off x="609480" y="4495680"/>
            <a:ext cx="1828800" cy="236232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3"/>
          <a:stretch/>
        </p:blipFill>
        <p:spPr>
          <a:xfrm>
            <a:off x="3124080" y="4572000"/>
            <a:ext cx="1828800" cy="2057400"/>
          </a:xfrm>
          <a:prstGeom prst="rect">
            <a:avLst/>
          </a:prstGeom>
          <a:ln w="0">
            <a:noFill/>
          </a:ln>
        </p:spPr>
      </p:pic>
      <p:pic>
        <p:nvPicPr>
          <p:cNvPr id="745" name="" descr=""/>
          <p:cNvPicPr/>
          <p:nvPr/>
        </p:nvPicPr>
        <p:blipFill>
          <a:blip r:embed="rId4"/>
          <a:stretch/>
        </p:blipFill>
        <p:spPr>
          <a:xfrm>
            <a:off x="5638680" y="4876920"/>
            <a:ext cx="1295640" cy="152388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5"/>
          <a:stretch/>
        </p:blipFill>
        <p:spPr>
          <a:xfrm>
            <a:off x="7467480" y="5257800"/>
            <a:ext cx="609840" cy="762120"/>
          </a:xfrm>
          <a:prstGeom prst="rect">
            <a:avLst/>
          </a:prstGeom>
          <a:ln w="0">
            <a:noFill/>
          </a:ln>
        </p:spPr>
      </p:pic>
      <p:sp>
        <p:nvSpPr>
          <p:cNvPr id="747" name=""/>
          <p:cNvSpPr/>
          <p:nvPr/>
        </p:nvSpPr>
        <p:spPr>
          <a:xfrm>
            <a:off x="0" y="5335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Thank you fo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joining u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" y="2720880"/>
            <a:ext cx="32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ff00"/>
                </a:solidFill>
                <a:latin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6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195732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28600" y="2971800"/>
            <a:ext cx="2286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 birth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743200" y="2895480"/>
            <a:ext cx="2895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ious(st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172200" y="289548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52280" y="5943600"/>
            <a:ext cx="3353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laying) outdo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09880" y="594360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19920" y="5943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rgue about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122280" y="0"/>
            <a:ext cx="308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it 3 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294920" y="838080"/>
            <a:ext cx="720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DISCOVERY OF 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Australia(map)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7010280" cy="53341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5183640" y="4876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Times New Roman"/>
              </a:rPr>
              <a:t>Austr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038480" y="23464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Ch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5909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2918160" y="4797360"/>
            <a:ext cx="351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National    Fl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7238880" y="5715000"/>
            <a:ext cx="1905120" cy="920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3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16840" y="4797360"/>
            <a:ext cx="7532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he Opera House in Sydney,with the fam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Harbour Bridge,floodlit beh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" dur="3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70400" y="457200"/>
            <a:ext cx="60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A section of the Great Barrier Ree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off the coast of Queens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S_00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7" dur="3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02:47:51Z</dcterms:created>
  <dc:creator>sfd</dc:creator>
  <dc:description/>
  <dc:language>en-US</dc:language>
  <cp:lastModifiedBy>w</cp:lastModifiedBy>
  <dcterms:modified xsi:type="dcterms:W3CDTF">2004-08-09T12:33:56Z</dcterms:modified>
  <cp:revision>104</cp:revision>
  <dc:subject/>
  <dc:title>PowerPoint 演示文稿</dc:title>
</cp:coreProperties>
</file>