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23A-1E6B-46CB-9BEF-3F95CE82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567-4168-4137-9410-9A7420DD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D9D-54DF-4A3C-9F12-15E96DCF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649-019C-4DFB-B2BB-1BD89FBC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8A9-5F3E-45E6-B032-C6081A0F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C57-B625-4753-BDF1-5B1B39AA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8E42-09D4-4A96-9C79-155CF6E0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6F6-7DFB-45F0-B850-61256993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451-7E25-4699-A52B-478FE32E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E1DE-E89E-44AD-89D5-3813ECA6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A2E-2965-479F-B063-9BE63308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507-A3BF-4F19-8A26-1DA490F2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70F1-3A74-4D30-81FE-F4D128362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gel1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571500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533520"/>
            <a:ext cx="7620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s you arrive to your work plac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Pray to God and ask his guidance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ngel1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105160" cy="6400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495680" y="42670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tolerance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380880"/>
            <a:ext cx="502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Understand that not everybody is at your level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ngel16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25780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971800" y="60948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ceive praise with reticenc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0" y="3504960"/>
            <a:ext cx="4114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humility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7621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vantGarde Bk BT"/>
              </a:rPr>
              <a:t>God is with you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Bookman Old Style"/>
              </a:rPr>
              <a:t>That is called LOV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ngel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81480" y="2286000"/>
            <a:ext cx="3733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0" y="533160"/>
            <a:ext cx="4114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reet your colleagu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47960" y="4419720"/>
            <a:ext cx="5105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friendship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ngel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267080" cy="6324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24280" y="205740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2520" y="533160"/>
            <a:ext cx="3505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ive to everybody the best of yourself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053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sincerity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ngel5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3152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81480" y="990720"/>
            <a:ext cx="39625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gram and organize your day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4647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reflection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76520" y="685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04920" y="7621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ngel6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648320" cy="640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38280" y="47242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taking action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457200"/>
            <a:ext cx="3886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ow that you have planned everything begin to work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ngel7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4647960" cy="6400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52880" y="1905120"/>
            <a:ext cx="4191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rust that everything will be O.K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52680" y="4800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</a:t>
            </a:r>
            <a:br>
              <a:rPr sz="4000"/>
            </a:b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 faith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ngel2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586764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19720" y="480060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enthusiasm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990720"/>
            <a:ext cx="3429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Work with happines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1350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Angel12" descr=""/>
          <p:cNvPicPr/>
          <p:nvPr/>
        </p:nvPicPr>
        <p:blipFill>
          <a:blip r:embed="rId1"/>
          <a:stretch/>
        </p:blipFill>
        <p:spPr>
          <a:xfrm>
            <a:off x="3276720" y="228600"/>
            <a:ext cx="548640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2057400" y="4952880"/>
            <a:ext cx="82296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excellence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295280"/>
            <a:ext cx="2895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ive the best of yourself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ngel14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647960" cy="6324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12193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Help those with more difficulties than you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914760" y="4495680"/>
            <a:ext cx="6095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That is called </a:t>
            </a:r>
            <a:br>
              <a:rPr sz="4000"/>
            </a:b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compassio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Juannell Owens</cp:lastModifiedBy>
  <dcterms:modified xsi:type="dcterms:W3CDTF">2000-03-04T01:13:17Z</dcterms:modified>
  <cp:revision>14</cp:revision>
  <dc:subject/>
  <dc:title>Slide sem título </dc:title>
</cp:coreProperties>
</file>