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A04-4D9C-4A3B-A222-7519A93B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C8D-9F8A-4692-9BC1-5E720B05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791-5C1F-4AE4-8B32-8C57A57C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724-A60D-4605-BE24-A8CFB512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C88-D513-4C49-8D9E-CB039473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D2D-114E-4126-ADF3-C53CF805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29F-340A-4EF7-AA4D-35939FBE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55B-EF6F-4071-9788-B3196037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278-9648-424B-B630-6756C3F5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3A6-E029-41C5-9980-138CBEC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321-FE75-4709-87CC-C85C73A6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9E0-0BC3-4044-8B5C-FDC40EF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CC96-042E-468B-B403-0171D75F60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120" y="228600"/>
            <a:ext cx="8852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used for the latest ideas and technical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is day in his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es Verne died in 1905, long before any of his d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e tru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is also very strong and protect with thick i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s needed for life on board comes from the 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ity is used for light, heating,power and def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against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28600"/>
            <a:ext cx="3808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00400" y="676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762120"/>
            <a:ext cx="7621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3623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8280" y="18954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15120" y="31910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33520" y="441972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49568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19680" y="43340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162920" y="525780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334120"/>
            <a:ext cx="3049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52680" y="5477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8680" y="295200"/>
            <a:ext cx="8670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guide leads them through a narrow pa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ly 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 along its shores they go through fore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hrooms and plants that lived on the earth long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ntered the search for wisdom and dreamt of f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y to cure of any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prepare a body for it with all its muscl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s was still remained a difficul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on a night in November when I looked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f my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14300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48840" y="7002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76212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0960" y="242892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352680"/>
            <a:ext cx="38124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62520" y="3343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352680"/>
            <a:ext cx="5331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46483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0" y="456264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648320"/>
            <a:ext cx="9144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58672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4960" y="59342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12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天气允许，我们明天去看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going to visit you tomorro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果那个会议很没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eting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o be bori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代科学的发展已使这个问题明朗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rn scientific development has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this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从他经商以来，他总是很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he took up business, he has always been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这件 事上我们的意见看来是一致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em to be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the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6600" y="69120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permi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17722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ed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11160" y="270720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n light on/up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15280" y="4651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5480" y="56599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greement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60020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77160" y="990720"/>
            <a:ext cx="302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渐渐喜欢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记起某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下…的基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着手做某事 ；出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某人努力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是，被证明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某人上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从那天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囚禁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冒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阐明…，使…显得清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引起某人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4040" y="9144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develop one’s lov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41720" y="13716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mind sb. of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8040" y="1819440"/>
            <a:ext cx="33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lay the found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9640" y="2276640"/>
            <a:ext cx="27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out to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3160" y="26575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one’s efforts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58960" y="303840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urn out to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91560" y="34956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sb. on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3320" y="39528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from that da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6640" y="44100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keep sb. as a pris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10320" y="47149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on an adven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2640" y="524844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hrow light u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5629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ttract one’s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7280" y="1201680"/>
            <a:ext cx="229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英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谋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允许某人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卫…免受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穿着潜水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0800" y="121140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ight feet in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3560" y="166860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ke a l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20240" y="211608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ow sb.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3040" y="249696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fend …again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56680" y="2878200"/>
            <a:ext cx="35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ressed in diving s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392760" y="1343160"/>
            <a:ext cx="973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To make a ______ , he had to write and sell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iving        B. life         C. alive         D.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Most of his stories will remind the reader_______t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d 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   B. to           C. of               D.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People had no idea_________the inside of the ea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ght look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 what         B. how       C. that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body is allowed _______in the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to smoke                     B. smok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be smoked             D. having sm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58104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348640" y="1285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492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202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7280" y="330120"/>
            <a:ext cx="8925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To their surprise, the monster________ a submar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urned to be             B. turned out to b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urned up                 D. turn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All _______is needed for life on board comes from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        B. that           C. which        D. 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Readers________about the character of hero ever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book was pu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wondered                    B. have wo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ve been wondering        D. had been 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guide leads us ________a narrow passage d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         B. across           C. above          D.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48680" y="295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9840" y="197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8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7252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8480" y="228600"/>
            <a:ext cx="893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Henry shows great interest in _________physic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wishes himself to become________Einstein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/; an         B. the; an           C. /; /             D. the ;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Generally, the species that are able to adapt to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ange of the environment will survive, __________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s will di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le         B. although          C. if         D.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Trick-or-treat is a Halloween tradition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ildren go  from house to house_________for can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 other treats from their neighb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ch; asked          B. whose; ask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here; asked          D. in which ; 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49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7292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92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378720" y="0"/>
            <a:ext cx="9461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2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mmy, isn’t it time you _____the school b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Okay, I _______my breakf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must catch; have almost finish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catch; will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aught; am almost finishing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should catch;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Please forgive me if I have _______any of you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questions  unansw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eft          B. made         C. let           D.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n your review of a film, you can make ________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fferent  things about the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ecision            B. clarity(n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清楚）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omments         D. sugg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67800" y="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1552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7292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440" y="152280"/>
            <a:ext cx="8898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Thinking of _______the journey would cost him a lo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dismissed the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 fact that          B. the fact which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at           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y began to search for the relat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_________they reached the earthquake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oon                          B. immediate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e moment              D. at the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I think Tom, ________you,  ________to bl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ather than; is            B. rather than;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more than; are           D. less than ;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The Anti-Japanese War______in 1937 and it 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ight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 broken out; lasted             B. broke out; la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break out; lasts                         D. broke out ;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3960" y="15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2860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560" y="358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6080" y="4876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8:09Z</dcterms:modified>
  <cp:revision>34</cp:revision>
  <dc:subject/>
  <dc:title>PowerPoint Presentation</dc:title>
</cp:coreProperties>
</file>