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E2B-CCC4-4BC0-BD79-47F8C9EA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1C3-CD17-4FC8-A59F-F06C4A2A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60C-782E-4BB0-81F3-9E78ED51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6F5-D090-4205-8E33-A0DCF74E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EA8-13BE-430E-95B6-AB4F6C3A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E4E-F0D2-4BF2-8743-31527CB3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287-4BC0-4A9F-A19C-A3BFAF49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63D-4045-495B-A309-1CE1A7BC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081-C3B1-4D96-8D86-16CD76DD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CD7-143C-4F79-896E-0F885D3C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5F9-345A-48A5-9359-D078B12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369-5C9A-4033-A760-13F5FF81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9C73-6570-4E00-A67C-81F1041310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120" y="447840"/>
            <a:ext cx="865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9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leading newspapers _______the trade t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tween China and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reported                 B. printed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ounced                 D.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. The train leaves at 6:00 pm.     So I have to be 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tion_________5:40 pm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until        B. after           C. by           D. 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204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864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1800" y="196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二）被动语态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17880" y="1108080"/>
            <a:ext cx="9818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f city noises ____ from increas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____ sh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heard even at dinn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fth generation computers, with arti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ce, ________and perfected now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veloped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e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re being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ill have been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9520" y="105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581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40" y="152280"/>
            <a:ext cx="9100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 --- _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ports meet might be put of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Y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all depends on the weath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been told       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m told                 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need one more stamp before my collection 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completed                     B. complet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has been completed            D. is comple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ainforests _____ and burned at such a speed that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disappear from the earth in the near futur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cut                            B. are c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are being cut             D. had been c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ew suspension bridge ___ by the end of last mon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been designed           B. had been desig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was designed                   D. would be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02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3800" y="174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46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34280" y="4791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8120" y="142920"/>
            <a:ext cx="8920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a pencil is partly in a glass of water, it looks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breaks                    B. has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were broken          D. had been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Great changes ___ in the city, and a lot of factories 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e been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B. have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have taken place; hav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D. were taken place; wer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at suit _______ over 60 dollar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d costed    B. costed         C. is costed       D. co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 Look! Everything here is under constructio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--- What’s the pretty small house that _______ for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A. is being built              B. has been bui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is built                        D. is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10200" y="52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14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4600" y="387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43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1720" y="147600"/>
            <a:ext cx="863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like the material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--- Yes, it ______ very sof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A. is feeling    B. felt           C. feels       D. is fe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t is difficult for a foreigner _______ Chine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write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be written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t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 more letters _______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yp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ing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typed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ake care! Don’t drop the ink on your shirt, fo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easil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won’t wash out              B. won’t be washed o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isn’t washed out              D. isn’t washing o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body noticed the thief slip into the house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ghts happened to _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be put up                   B. give 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 turned on          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86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376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0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16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464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800" y="0"/>
            <a:ext cx="8853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uters on the table ______ Professor Smi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longs               B. are belonged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longs to            D. belong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 --- What do you think of the book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---Oh, excellent. It’s worth ______ a second tim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o read     B. to be read      C. reading  D. being rea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squirrel was lucky that it just missed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tching                  B. to be c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being caught           D. to cat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is page needed _________ agai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ing checked             B. check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to check                       D. to be checked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times, the boy still didn’t know how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the exercis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Having taught           B. Having been t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C. taught                         D.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67800" y="-8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44120" y="1666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0152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2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680" y="219240"/>
            <a:ext cx="8291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at time black people had no rights to vot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ern state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believed that he could achieve to that goa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ceful actions,not by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refused to standing up for a white man and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ested by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 conditions for blacks were bad and t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little jobs to employ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63 he gave the speech“I have a dream”,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inspired people to fight for 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68580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5680" y="6764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1600200"/>
            <a:ext cx="5335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5680" y="1971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057400"/>
            <a:ext cx="6094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27672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9000" y="31910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9528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25360" y="45626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8672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0" y="58579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58672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6000" y="152280"/>
            <a:ext cx="8677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on after his death,black people started enjoy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s they waited and fought for so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truggled for the right to be free in thei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hich god to beli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people had to fight to be giving the right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,choose where to live,study and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ll these groups have in common is that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o be treated with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ready people wonder whether to f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rights of robots and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23880" y="91404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91440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3960" y="6764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657600" y="2057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480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2004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6920" y="30384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419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91840" y="4410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791320"/>
            <a:ext cx="1143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63080" y="57816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914400"/>
            <a:ext cx="2666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某人关进监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发表演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当作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法律所禁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而战，而奋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树立榜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分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受到全国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诺贝尔和平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个时代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信仰、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表明，吐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8287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t…in  pris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1800" y="128592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a spee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2960" y="174312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treat…a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6840" y="22003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 forbidden b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6480" y="258120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fight f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70680" y="303840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an examp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09280" y="341964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parate…fro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40840" y="387684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national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72120" y="433404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Nobel Peace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41360" y="4714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f all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5040" y="517212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liev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61200" y="555300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tar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93280" y="60102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ive a voic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9440" y="804960"/>
            <a:ext cx="2417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携手；联手；合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获得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抵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房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那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乍一看；初见之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00400" y="7524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in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7600" y="12096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8280" y="159084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boycott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99120" y="204804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5360" y="33526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 the first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18600" y="288612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ardles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7840" y="25146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the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504720"/>
            <a:ext cx="13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-315360" y="1428840"/>
            <a:ext cx="9867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The new secretary is supposed to report to the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soon as she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ill arrive                     B. ar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is going to arrive          D. is ar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The police found that the house________ and a lo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s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s broken into ; has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ad broken into; had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been broken into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ad been broken into 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268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013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7080" y="219240"/>
            <a:ext cx="8881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----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ve you moved into the new hou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t yet. The rooms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re being painted            B. are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re painted                      D. are being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 The students________ busily when Miss Brown w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 get a book she _________in the off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d written; left             B. were writing ; ha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d written ; had left     D. were writing ; had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 When and where to build the new factory ________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is not decided                 B. ar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not decided              D. hav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 ---Do you know our town at al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 , this is the first time I ____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as         B. have been       C. came      D. am c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97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3800" y="364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00960" y="540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5720" y="371520"/>
            <a:ext cx="8993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murderer was brought in, with his hands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hind his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being tied               B. having t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to be tied                D. t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. I can hardly imagine Zhang Jian ________acros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glish Channel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swim    B. to swim     C. swimming    D. to have sw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 John was made _______the truck for a week 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unish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to wash     B. washing     C. wash    D. to be w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. “ Can’t you read?” Mary said_________to the no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ngrily pointing         B. and poin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grily pointed           D. and angrily 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350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822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5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2992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280" y="295200"/>
            <a:ext cx="8980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umping out of ________ airplane at ten thousand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s quite _______exciting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/; the        B. /; an       C. an; an          D. the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. ----How was your recent visit to Qingda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It was great. We visited some friends, and spen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days at the sea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few last sunny              B. last few s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ast sunny few                D. few sunn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3. I don’t think I’ll need any money but I’ll bring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t last       B. in case         C. once again     D.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. We’ll have to finish the job,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long it takes however     B. it takes however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ong however it takes     D. however long it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5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38440" y="2352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7560" y="4029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90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680" y="528480"/>
            <a:ext cx="8879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ou should make it a rule to leave things________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 find them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hen         B. where       C. then           D.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6. Someone called me up in the middle of the night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ung up ________I could answer the 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        B. since          C. before        D. u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7. Can the WTO live up to its name__________it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t include a country that is home to one fifth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ole population of the worl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long as       B. while        C. if        D.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8. The captain_________ an apology to the passen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 the delay caused by bad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made          B. said            C. put        D.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1160" y="447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320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4840" y="3038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040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41Z</dcterms:modified>
  <cp:revision>8</cp:revision>
  <dc:subject/>
  <dc:title>PowerPoint Presentation</dc:title>
</cp:coreProperties>
</file>