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9E0-3496-400E-B0A4-BCF25132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C20-DAD7-4155-A7E1-3B2AE2F7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0E1-BCD6-4AB9-A119-F42E4A45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88A-D7EF-49D7-A01A-BD28737F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420-EC50-4DA8-A961-47996039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098-30FA-422F-A2C2-49C35BC7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939-DCEA-4F85-8B1F-138006A2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FC7-C1B5-49D9-8314-BC81F78F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E56-B5F1-45EC-9C68-D21771BD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334-6239-435E-B14D-5AEEB346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D5F-353D-4EDF-AC41-76F28318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2B0-953A-4F28-90D4-7B27B7DC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CC88-9CEF-4F77-A09E-D515578B09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920" y="228600"/>
            <a:ext cx="8244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n’t we take a little brea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Didn’t we just have _______?   (NMET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at            C. one            D.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was last night that I saw a new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B. This            C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D.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I hope there are enough glasses for each gue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ose          C. th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D.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had made _______ possible for us to catch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the developed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it           C. us           D. ou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I was disappointed with the film, I had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 to be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is            C. one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0604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9320" y="1438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6740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49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57920" y="5334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7240" y="371520"/>
            <a:ext cx="8811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' s mother kept telling him that he should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er, but_______ didn' 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    B. which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Do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ter if he can't finish the job on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is          B. that           C. he 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Meeting my uncle after all these years wa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forgettable moment_______ I will always tr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 B. one            C. i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Is_________ a boy or girl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she           B. he            C. on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---Look, who is coming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---__________ must be our English teache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A. She       B. He         C. It             D.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18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144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96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284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628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000" y="447840"/>
            <a:ext cx="9134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one is knocking at the door, but who can____ b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one         B. he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______ was late summer and the weather was very h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It             C. This            D. It's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_________ a heavy rain last nigh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here had              B. We had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t was                      D. There i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_ is 200 kilometres from here to the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k. We have to go there by ca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here          B. It            C. This           D. Th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f you can dream ________, you can d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e, it           B. it, one         C. one, one       D. it,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5872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0528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16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5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202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3400" y="152280"/>
            <a:ext cx="812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ay 3,2002,archaeologists found a grave of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 dated back to around 2300 B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o his head was two pots,a bow and ar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unting and a small copper kn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n was buried with two gold earrings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oldest gold being ever found in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ggest stones weigh for 20 tons and c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 place not very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may have had a hand in helping transpor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ing up the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990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62360" y="60012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9051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39760" y="189540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276720"/>
            <a:ext cx="7621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57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3276720"/>
            <a:ext cx="3808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962520"/>
            <a:ext cx="4572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5680" y="44956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572000"/>
            <a:ext cx="7617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172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29000" y="5705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4840" y="371520"/>
            <a:ext cx="8468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ronze Age,they made copper and bronz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ron came later,in which was called the Iron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will serve for important material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of local geography an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 and officials came to his home,but n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m could say when the objects were m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four o’clock in the afternoon that he and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pa reached the museum in Guangh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aeologists will continue their work,dig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xingdui Ruins from 2003 until 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1295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44120" y="12096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133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33960" y="1981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429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2040" y="33526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4648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4160" y="464832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59436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47440" y="60199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770840" y="981000"/>
            <a:ext cx="303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追溯到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给某人一个…的想法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件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，插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竖起，使（车、马）停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…的话，以…的观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名望，威望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充当，担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想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属于…，是…的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挖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58480" y="9810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ate back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30640" y="14479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an idea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920" y="182880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piece of clo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40800" y="22096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en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5320" y="258120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link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3920" y="306216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a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2360" y="349560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ll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68160" y="387684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term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0040" y="4334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high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42840" y="471492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rve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8680" y="518148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remind sb.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52680" y="562932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lon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6880" y="608652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i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4572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228960" y="1066680"/>
            <a:ext cx="9477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he castle ________to the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tes from                 B. dates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tes at                       D. date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rst textbooks _________for teaching Englis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foreign language came out in the 1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written              B. to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written                D.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Are you sure the trees can ________the coming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vive    B. pass      C. overcome      D.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5284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0112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9184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3480" y="219240"/>
            <a:ext cx="8565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can’t remember _________it was five o’clock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rri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; when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ther ; that             D. that 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By sunset, we had __________thirty m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ed at              B. covered for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                  D. cove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is is one of the problems__________at th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scussed                         B. discuss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discussed                D. to be discu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Never_______faith in himself, the scientist wen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his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B. to lose       C. lost          D. to be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725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11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41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74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680" y="1429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xamination, all the students are stu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on’t fail                  B. Not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failing                D. Not to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---__________is it that I should take the medicin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wice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much                 B. How soon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ow often                  D. How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I really _______that I will meet you again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o do I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sh        B. hope           C. suggest         D. pre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o do you think did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 suspect Tom__________i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a hand in            B. had ha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a hand at            D. had han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704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102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6880" y="3495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62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840" y="219240"/>
            <a:ext cx="8855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our great joy, the medicine ________satisfa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roved     B. is proved    C. proved       D. pr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_________customer satisfaction, the policy ca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c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terms of                 B. In the ter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n the terms of           D. In term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________at the bottom of the hill there are ma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rown                     B.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grown           D. To be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_______is said _______ Mr. Brown left for Ital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; why                  B. It; that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; that            D. What ;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7920" y="98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75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8960" y="4410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20" y="219240"/>
            <a:ext cx="9181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n’t it about the time you_______to discuss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Yes, it is. Would you like to join u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e begun    B. begin  C. began      D. had beg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o you think the young man Miss Smith is spe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___________, Ma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tty      B. beautiful      C. handsome      D.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question is ________they can finish the work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         B. which         C. tha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Mary stood on board, _______her face burnt in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ave         B. leaving           C. to leave          D.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s this restaurant _______you said we were to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er tomorr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t which    B. which         C. in that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41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6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16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360" y="395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20240" y="495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53360" y="27288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五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代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640" y="914400"/>
            <a:ext cx="8689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_______ necessary to master a foreign langu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se      B. those         C. that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Johns have a new baby. ________ is lo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B. It               C. She          D.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-He was nearly drowned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When was _________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_______ was in 1998 when he was in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. this, This   C. this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. that,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hate ______ when people talk with their mouth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these          D.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We foun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difficult to learn Japane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02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0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8672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144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05840" y="5095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52Z</dcterms:modified>
  <cp:revision>11</cp:revision>
  <dc:subject/>
  <dc:title>PowerPoint Presentation</dc:title>
</cp:coreProperties>
</file>