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AA9-A835-4696-8C04-CFFB76BE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326-0BA6-4E3E-96FF-AAEEEAF0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EFC-1DC4-4530-B56E-C876FA42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1DA-8502-47F5-87F9-09137793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F89-3DB4-4237-8402-D1757FC7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62D-3B73-412E-9DC3-75513BFA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215-0691-4EA4-B460-BB71D258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A4B-2FBB-41FE-9B6B-061558D6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0BE-4384-4B84-9394-CB9699B8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537-409C-4322-A917-77FA8754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BBD-DDE7-4366-8481-EF02B310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188-5DA9-42CF-972A-A396AF2F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D1D0-BB1C-4FB1-BA42-EA0D2E9EB5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0400" y="295200"/>
            <a:ext cx="8674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people are in a position that they can 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cision about a person they h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ight as well to go stand upon the beach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e with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offered me with six times what you have 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ed,I would still take my pound of fle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you hope for mercy yourself when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nei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hylock cuts deeply enough,I’l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him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ll my he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7621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63600" y="67644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1600200"/>
            <a:ext cx="4572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48120" y="2124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213372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2895480"/>
            <a:ext cx="6094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0152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50292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81440" y="47912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586728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82000" y="59342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352680"/>
            <a:ext cx="6858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3040" y="228600"/>
            <a:ext cx="8183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io told him that all his ships were at the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e had no money at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sanio tried to keep Antonio from accept the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s,but Antonio treated them as a jo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is young,but I never knew so young a body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wise a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yone tries to murder any citizen of Veni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thing what he owns shall be taken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hall not have you killed,so that you would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ce of our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28600"/>
            <a:ext cx="38088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53240" y="82872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95880" y="204804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ce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73392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9160" y="31910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495288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34680" y="4638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586728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4440" y="593424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762120"/>
            <a:ext cx="5335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763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046880" y="558720"/>
            <a:ext cx="2811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就我所知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毕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这个特别的情况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可怜…，怜惜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做…没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还是做某事的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向某人宣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指控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撕毁，取消（合同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偿还，报答，报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相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一个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任…摆布，由…掌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跪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40800" y="53352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s far as I know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8320" y="990720"/>
            <a:ext cx="16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fter al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8520" y="137160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in this particular c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39720" y="1905120"/>
            <a:ext cx="55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mercy on 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或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how merc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6080" y="3124080"/>
            <a:ext cx="33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pass judgment on s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31520" y="266688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may/might as well do s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5560" y="396252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ear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40280" y="441972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ay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5680" y="480060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/fall in love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20960" y="518148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on one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6280" y="56386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t the merc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1320" y="6095880"/>
            <a:ext cx="37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o down on one’s kn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57040" y="222408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’s useless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0040" y="357192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accus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218880" y="990720"/>
            <a:ext cx="9740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I won’t lend you the car ________ you return it to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orrow mo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w that                           B. even if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on condition that              D. 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Your house is  three time_________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size    B. what if    C. as bigger as   D. the siz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________from his appearance, he doesn’t look like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honest 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Judging     B. Judged   C. To judge  D. Being ju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late in the morning, Bob turned of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sleep     B. Sleeping     C. Sleep     D. Having sl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10600" y="905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6324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53000" y="3419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932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91240" y="219240"/>
            <a:ext cx="8788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ouse rent is expensive. I’ve got about hal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I had at home and I’m paying ________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s three times much       B. as much three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much as three times       D. three times as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How do you find the dishes in my restaurant ?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 ordered it ahead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I read it in an 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’ve never had such delicious dishe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t’s surprising that you asked m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He asked me 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pass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at I pass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or passing him the red penci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f I passed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43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636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30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7280" y="528480"/>
            <a:ext cx="8318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ter everybody __________, the meeting beg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seated   B. seated   C. was sat   D. took s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Did they_______any agreemen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rrive at   B. come  to   C. reach  D.  A, B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It is no use ________forward to _______Jack s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look; hearing      B. looking ;hearing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look ; hear         D. looking ; hear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---When will the train arrive at Liverpo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he train attendant told me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train will arrive after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 train was going to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 train is going to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he train would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9620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77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10040" y="2200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2992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74880" y="219240"/>
            <a:ext cx="912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ercy was shown_________the war priso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on              B. upon           C. to             D.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Have you tasted the ________of the fro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ork             B. flesh         C. beef         D. m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he judge ordered the prisoner _______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ts free          B. set free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 set free         D. would be set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 was surprised that they finished _________half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ork in such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ess than                  B. no more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more than         D. more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“Very well, dear, you ________have the evening dres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im suggested his w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all         B. will        C. can       D.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5340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24440" y="905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250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108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972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1680" y="219240"/>
            <a:ext cx="871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tle Tommy was reluctant to tell the headm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he had done the day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B. how        C. where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Hope _______the best ; prepare_______the wo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; /        B. / ; for       C. for ; for      D. with ;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His parents didn’t have enough money to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 higher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ay          B. pay for        C. pay off       D. pay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65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43720" y="137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58360" y="2286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1:25Z</dcterms:modified>
  <cp:revision>19</cp:revision>
  <dc:subject/>
  <dc:title>PowerPoint Presentation</dc:title>
</cp:coreProperties>
</file>