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775-249D-49B7-9E31-DB29CA18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181-997B-4852-A769-60DFF1F4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451-7673-4816-8644-DD8B6691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4A1-57F8-403F-BB35-808EF9D2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16D-AB27-413D-8BBC-5FD94E35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DFF-BD95-4482-83E1-2FB3A79E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670-BF27-4791-8569-F273BA8D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852-152C-44E1-B940-AEF40568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FAA-6EB2-493B-9633-2F104A59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8CC-B30C-4EE2-B5C8-04BD3096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E84-0BD6-4869-B6B1-953484D0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A5E-754C-4194-A8B2-4CD79BA6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C586-0405-4D40-A2F1-F82C07E051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z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z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z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z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3:08Z</dcterms:created>
  <dc:creator>USER13</dc:creator>
  <dc:description/>
  <dc:language>en-US</dc:language>
  <cp:lastModifiedBy>USER13</cp:lastModifiedBy>
  <dcterms:modified xsi:type="dcterms:W3CDTF">2002-05-04T03:03:34Z</dcterms:modified>
  <cp:revision>1</cp:revision>
  <dc:subject/>
  <dc:title>PowerPoint 演示文稿</dc:title>
</cp:coreProperties>
</file>