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BC2-0EBA-404B-B015-C1D9905C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E1A-1D51-4D92-B0A3-358156B1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42B-AAAC-4832-A23D-6B8D1836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FEF-F993-4403-A4D1-C8001347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81C-8446-452D-802F-025CEE9D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875-8B2C-4741-82CC-A73B2C52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7AD-F644-490B-A778-EA2BCCCE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DE5-5E42-424A-B8BF-4374F415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203-3EA6-475B-B635-BCF76CC1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CB4-D0F7-443D-AD6E-5B9329CA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DCC-B2E3-4749-9A3E-2B913F04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01D-164E-45D5-B116-DD8E8C87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2823-AB54-461B-B42F-7F0850C9FA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-10-09-04-00-4048972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N00500_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老人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排队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t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9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ody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victory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reat2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andshake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romise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myth</cp:lastModifiedBy>
  <dcterms:modified xsi:type="dcterms:W3CDTF">2004-06-06T14:55:48Z</dcterms:modified>
  <cp:revision>15</cp:revision>
  <dc:subject/>
  <dc:title>Welcome to my class!</dc:title>
</cp:coreProperties>
</file>