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6.png" ContentType="image/png"/>
  <Override PartName="/ppt/media/image3.gif" ContentType="image/gi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4AC-FDF3-40CD-9939-9EF59C87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6D9-668D-4D2B-A3E4-6D4343E5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26E-AFA6-4532-8A81-4D3DBE8F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D5E5-3B81-4A79-B88C-D864E46E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7D2-8784-4828-B42F-BFFB8645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0A2B-E38E-4EB0-80F3-943003C4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ADD-D83D-4F30-BFE9-FB4E1DC3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937-56F9-4BE9-9195-0C01A06D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4B3E-DCDA-4C96-97B8-A9E6592B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F79-8FCE-40EA-85EF-BC76D015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4D2-4F7A-46D1-A32A-07DB5238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97B1-E38A-476C-A774-AE527356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CBED-FDCB-42F0-A38B-B2D25D4D95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e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B_001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B_001" descr=""/>
          <p:cNvPicPr/>
          <p:nvPr/>
        </p:nvPicPr>
        <p:blipFill>
          <a:blip r:embed="rId4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B_001" descr=""/>
          <p:cNvPicPr/>
          <p:nvPr/>
        </p:nvPicPr>
        <p:blipFill>
          <a:blip r:embed="rId5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46" name="B_001" descr=""/>
          <p:cNvPicPr/>
          <p:nvPr/>
        </p:nvPicPr>
        <p:blipFill>
          <a:blip r:embed="rId6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8360" y="457200"/>
            <a:ext cx="4347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Let’s go to visi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Australi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A good ide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1720" y="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-reading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200" y="9144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Where did the Australians come fro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0480" y="2438280"/>
            <a:ext cx="65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What did the Kooris use for hun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8680" y="380988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 How many languages were spoken in Austral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7760" y="16002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82800" y="312408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uriously shaped piece of w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89280" y="472428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ver 2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6440" y="0"/>
            <a:ext cx="75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story about Australia and then t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he sentences are true(T) or false(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3680" y="917640"/>
            <a:ext cx="9268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1 Australia is about 20,000 year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2 The first people of Australia were kn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borig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3 Maybe the aborigines developed the old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of art on the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4 The aborigines lived by farming and fis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5 The population of Kooris decreased shar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arrival of foreign settl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6 Whenever the Kooris defended their rights,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led thousands and thousands of foreign settl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7 Koori children enjoy equal rights of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whit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600" y="98100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0760" y="1447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8600" y="2428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400" y="342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0760" y="3886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4560" y="4867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400" y="5816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1440" y="-85680"/>
            <a:ext cx="40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oose the right ans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640" y="380880"/>
            <a:ext cx="9137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 The first people arriving in Australia might be from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.Europe      B Africa C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 “Aborigines” means______.      A the oldest races on the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a strong system of society      C the first people of a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 Their spiritual faith and gods were very important to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his means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they strongly believed in their spiritual faith and g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they didn’t develop a civilization of thei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 they wanted to be the most important race on the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 The Kooris lived by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growing different crops and vege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inventing and selling different kinds of fishing nets and hunting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 fishing,hunting animals and gathering roots,nuts and fr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 The number of aborigines became smaller quickly because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foreign settlers brought new disease which killed many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foreign settlers seized their land and killed many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 of both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7520" y="330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7760" y="1057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512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3600" y="3606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45600" y="5054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353400" y="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9000" y="47628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 were handed down = were passe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080" y="933480"/>
            <a:ext cx="741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)The old house has been handed down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ree gen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4760" y="1771560"/>
            <a:ext cx="803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)In poor families,clothes may be hande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rom one child to the n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3160" y="2610000"/>
            <a:ext cx="836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the elders = the old people. Elder is used here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 no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920" y="3657600"/>
            <a:ext cx="86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 (the oldest form of art )yet discovered on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20" y="4038480"/>
            <a:ext cx="563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= so far discov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= that has been discovered so f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560" y="495288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 a curiously shaped piece of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840" y="5410080"/>
            <a:ext cx="35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idely used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000" y="541008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rongly pronounced 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6019920"/>
            <a:ext cx="39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wly discovered i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7720" y="6010200"/>
            <a:ext cx="31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y praised d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2120" y="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 gathering =colle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6080" y="762120"/>
            <a:ext cx="73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 be/become experienced at/in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8400" y="1390680"/>
            <a:ext cx="55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She is an experienced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81000" y="1981080"/>
            <a:ext cx="72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They were quite experienced at teac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9920" y="2895480"/>
            <a:ext cx="78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He is quite experienced in this kind of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0760" y="3429000"/>
            <a:ext cx="39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 make up = co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04320" y="4038480"/>
            <a:ext cx="73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irl students make up 80% of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6080" y="4952880"/>
            <a:ext cx="732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8 particularly the police: The police trea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Kooris bad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970000" y="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3760" y="838080"/>
            <a:ext cx="885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 First people arrived in Australia(date):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 Age of earliest cave paintings:             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 Food: 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 Tools: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 Special skills: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 Past Kooris population:                      _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 Percentage of past population of Australia: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 Percentage of present population of Australia: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 Causes of death:                              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 Past number of Kooris languages: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1 Kooris made citizens of Australia :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840" y="83808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53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840" y="121932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20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7920" y="1676520"/>
            <a:ext cx="56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nimals,birds,fish,roots,nuts,wild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2133720"/>
            <a:ext cx="51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shing nets,shaped piece of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7360" y="2463840"/>
            <a:ext cx="42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nding underground sp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77440" y="29718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3000,000—3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19920" y="33433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  little over 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160" y="426708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iseases,k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9240" y="46483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over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1520" y="51055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se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B_001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142" name="B_001" descr=""/>
          <p:cNvPicPr/>
          <p:nvPr/>
        </p:nvPicPr>
        <p:blipFill>
          <a:blip r:embed="rId4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B_001" descr=""/>
          <p:cNvPicPr/>
          <p:nvPr/>
        </p:nvPicPr>
        <p:blipFill>
          <a:blip r:embed="rId5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144" name="B_001" descr=""/>
          <p:cNvPicPr/>
          <p:nvPr/>
        </p:nvPicPr>
        <p:blipFill>
          <a:blip r:embed="rId6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70600" y="685800"/>
            <a:ext cx="377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Thank you f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joining u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759040"/>
            <a:ext cx="73915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opyright:Dennis Chengw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E-mail:DennisChengwu@Chin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22280" y="0"/>
            <a:ext cx="308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3 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4920" y="83808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OVERY OF AUSTR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ustralia(map)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83640" y="48769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3464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71800" y="380988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920" y="48006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National    Fla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he%20opera%20hous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32920" y="5410080"/>
            <a:ext cx="753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pera House in Sydney,with the fam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arbour Bridge,floodlit 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70400" y="457200"/>
            <a:ext cx="60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A section of the Great Barrier Ree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off the coast of Queens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1040" y="304920"/>
            <a:ext cx="683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yers Rock in the Northern Terr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sacred site to the Aboriginal peo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99720" y="45720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ustralian cowboys herding c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on a ranch in the ou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87720" y="5791320"/>
            <a:ext cx="66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ustralia’s capitol building in Canb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800600" y="0"/>
          <a:ext cx="43434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0"/>
                    <a:ext cx="43434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0" y="0"/>
          <a:ext cx="4800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800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800600" y="1752480"/>
          <a:ext cx="4343400" cy="160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1752480"/>
                    <a:ext cx="43434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800600" y="3352680"/>
          <a:ext cx="4343400" cy="167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3352680"/>
                    <a:ext cx="43434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0" y="1752480"/>
          <a:ext cx="480060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1752480"/>
                    <a:ext cx="48006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0" y="3352680"/>
          <a:ext cx="480060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3352680"/>
                    <a:ext cx="48006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0" y="5029200"/>
          <a:ext cx="4800600" cy="1828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5029200"/>
                    <a:ext cx="4800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800600" y="5029200"/>
          <a:ext cx="4343400" cy="1828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00600" y="5029200"/>
                    <a:ext cx="4343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02:47:51Z</dcterms:created>
  <dc:creator>sfd</dc:creator>
  <dc:description/>
  <dc:language>en-US</dc:language>
  <cp:lastModifiedBy>sfd</cp:lastModifiedBy>
  <dcterms:modified xsi:type="dcterms:W3CDTF">2001-09-21T18:39:57Z</dcterms:modified>
  <cp:revision>36</cp:revision>
  <dc:subject/>
  <dc:title>PowerPoint 演示文稿</dc:title>
</cp:coreProperties>
</file>