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31.wmf" ContentType="image/x-wmf"/>
  <Override PartName="/ppt/media/image1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EBE-E000-49E5-91B3-458DF1D2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B2D-3096-473E-86D6-E956D38E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55A-F735-48EF-B531-713A15DC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471-0E31-475A-9700-CDCCC4FB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43D-F3E5-4CF7-8F3F-6BD4A61D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899-82D9-4236-81D4-5A5DD41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73E-B08C-4CB0-99C8-7B1EF277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530-BE24-452C-854C-0C68159D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7D8-4F56-4C30-AA58-DA1717C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FA1-4646-473D-9B7A-B3C31306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A3A-DB74-444A-8FB5-87D53A12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9C5-EE67-4C23-BE46-0EBB2F3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4E4E-0697-4EE3-9CD0-78DF96269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-304920"/>
            <a:ext cx="7010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Escape From the Zo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324480" cy="26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3720" y="4724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浙江省宁波鄞江中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629400" y="5105520"/>
            <a:ext cx="198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唐亚芬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陈亚红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未标题-1" descr=""/>
          <p:cNvPicPr/>
          <p:nvPr/>
        </p:nvPicPr>
        <p:blipFill>
          <a:blip r:embed="rId1"/>
          <a:stretch/>
        </p:blipFill>
        <p:spPr>
          <a:xfrm>
            <a:off x="0" y="228600"/>
            <a:ext cx="4724280" cy="3535200"/>
          </a:xfrm>
          <a:prstGeom prst="rect">
            <a:avLst/>
          </a:prstGeom>
          <a:ln w="0">
            <a:noFill/>
          </a:ln>
        </p:spPr>
      </p:pic>
      <p:pic>
        <p:nvPicPr>
          <p:cNvPr id="85" name="未标题-2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4317840"/>
          </a:xfrm>
          <a:prstGeom prst="rect">
            <a:avLst/>
          </a:prstGeom>
          <a:ln w="0">
            <a:noFill/>
          </a:ln>
        </p:spPr>
      </p:pic>
      <p:pic>
        <p:nvPicPr>
          <p:cNvPr id="86" name="未标题-3" descr=""/>
          <p:cNvPicPr/>
          <p:nvPr/>
        </p:nvPicPr>
        <p:blipFill>
          <a:blip r:embed="rId3"/>
          <a:stretch/>
        </p:blipFill>
        <p:spPr>
          <a:xfrm>
            <a:off x="2514600" y="343368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9000" y="4114800"/>
            <a:ext cx="205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ee,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9400" y="196920"/>
            <a:ext cx="184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 off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5440" y="4164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440" y="4168800"/>
            <a:ext cx="233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124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1143000"/>
            <a:ext cx="519120" cy="409680"/>
          </a:xfrm>
          <a:prstGeom prst="leftArrow">
            <a:avLst>
              <a:gd name="adj1" fmla="val 50000"/>
              <a:gd name="adj2" fmla="val 3167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809880"/>
            <a:ext cx="838080" cy="333360"/>
          </a:xfrm>
          <a:prstGeom prst="leftArrow">
            <a:avLst>
              <a:gd name="adj1" fmla="val 50000"/>
              <a:gd name="adj2" fmla="val 628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未标题-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32240" cy="3243240"/>
          </a:xfrm>
          <a:prstGeom prst="rect">
            <a:avLst/>
          </a:prstGeom>
          <a:ln w="0">
            <a:noFill/>
          </a:ln>
        </p:spPr>
      </p:pic>
      <p:pic>
        <p:nvPicPr>
          <p:cNvPr id="95" name="未标题-5" descr=""/>
          <p:cNvPicPr/>
          <p:nvPr/>
        </p:nvPicPr>
        <p:blipFill>
          <a:blip r:embed="rId2"/>
          <a:stretch/>
        </p:blipFill>
        <p:spPr>
          <a:xfrm>
            <a:off x="3733920" y="0"/>
            <a:ext cx="441936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未标题-6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5640" y="3657600"/>
            <a:ext cx="258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ing,th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sh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920" y="2209680"/>
            <a:ext cx="22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ighb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753080"/>
            <a:ext cx="20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,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int,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2578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209680"/>
            <a:ext cx="976320" cy="257400"/>
          </a:xfrm>
          <a:prstGeom prst="leftArrow">
            <a:avLst>
              <a:gd name="adj1" fmla="val 50000"/>
              <a:gd name="adj2" fmla="val 948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667240" cy="22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57880" cy="5106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52880" y="4419720"/>
            <a:ext cx="2667240" cy="196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S20006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4809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252360"/>
            <a:ext cx="713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.What do you think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Mrs Cousins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Do you have any other w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480" y="3429000"/>
            <a:ext cx="64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.Can we shoot the lion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8915400" cy="317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3809880" cy="19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514600"/>
            <a:ext cx="6781680" cy="213372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33520"/>
            <a:ext cx="33526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Good-bye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05740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4756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3124440" cy="203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1568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2057400"/>
            <a:ext cx="304812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39200" y="1143000"/>
            <a:ext cx="15048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400800" y="3505320"/>
            <a:ext cx="24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44956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80880" y="5559480"/>
            <a:ext cx="2438640" cy="129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5410080" cy="283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914400"/>
            <a:ext cx="65530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hat happened in the tex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72720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819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Lion es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839880" cy="83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3720" y="552600"/>
            <a:ext cx="17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cap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86480" y="0"/>
            <a:ext cx="3557520" cy="510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504960" cy="294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666880" cy="19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2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3400" y="441360"/>
            <a:ext cx="5360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x month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5 centime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ree fe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angero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l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f a different sha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47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9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2495520" cy="3811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1640" y="301680"/>
            <a:ext cx="301680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rn off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and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ng,at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un and sh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 rot="10800000"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685800"/>
            <a:ext cx="9228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Mrs Cousins only telephoned the polic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e got inside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When the police arrived ten minutes la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lion could be seen in the bushes eating the m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When the two keepers came they took a lo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lastic pipe and fitted something into one 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ointed at the lion and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The lion made a sudden angry nois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struggled to its feet, it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They put the lion in a strong cage and c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t to   the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.The keeper played a joke on Mrs  Cous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96080" y="1752480"/>
            <a:ext cx="76068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952880" y="1371600"/>
            <a:ext cx="7621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4800600"/>
            <a:ext cx="7617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573876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657600" y="5257800"/>
            <a:ext cx="760320" cy="1119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560" y="2057400"/>
            <a:ext cx="62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L----C----B----F----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J----I----D----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K----E----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480" y="533520"/>
            <a:ext cx="34290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Key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1:01:32Z</dcterms:created>
  <dc:creator>鄞江中学</dc:creator>
  <dc:description/>
  <dc:language>en-US</dc:language>
  <cp:lastModifiedBy>鄞江中学</cp:lastModifiedBy>
  <dcterms:modified xsi:type="dcterms:W3CDTF">2002-04-22T23:05:46Z</dcterms:modified>
  <cp:revision>38</cp:revision>
  <dc:subject/>
  <dc:title>没有幻灯片标题</dc:title>
</cp:coreProperties>
</file>