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FD8-B675-4A75-B060-670E5B00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6F6-A2FF-4F7D-A3D5-0CB4C2E9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9D5-B649-412D-AC7C-85CE4DE7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0C0-3F64-4CAB-9AED-5A22F0F1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DDE-8DD0-44E8-A100-99C7E7D3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F7F-425A-4550-AA9E-B1C0509A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0C0-5D22-439D-A3F6-56E1E045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862-7A90-484F-BB26-26B9B3DE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D1D-96C8-4317-9F4D-E5E393F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D9C-79F8-449B-A02A-FD9C87B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CB6-BA44-4BE4-BD52-069A2C0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9A7-046C-488B-AA70-41CEEDBF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B0CA-7BB8-4492-89B0-DFB0DB9F2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54680" y="228600"/>
            <a:ext cx="1004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It’s nice to hear from her again.   _______,   we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 more than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’s more               B. That’s to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In other words            D. Believe i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9. The Foreign Minister said, “________ our hope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two sides will work towards pe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t is          B. This is          C. There is       D. 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r new manager __________all the payments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the meeting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towards             B. put off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put through             D. 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8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3048120"/>
            <a:ext cx="6782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单句改错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3400" y="228600"/>
            <a:ext cx="855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is home for the Chinese Academ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s and some other famous univers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number of overseas Chinese has graspe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to develop their ideas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ang Yufang is one of those who have return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China after studying and working abr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made possible for him to follow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ams and help the country he l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never felt real comfortable abroad,and I mis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thing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6858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1680" y="600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9810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77120" y="1971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81952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96252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62520" y="403812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3868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7913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1080" y="57816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9760" y="31910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2767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0880" y="76320"/>
            <a:ext cx="8506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couldn’t find a company which I could use wha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lear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runs a small company basing in Zhongguanc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gether with two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can only reach the top if they are ready t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nd learn from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ese history is filling with great achievement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 and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ckets have been used to sending satellites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and to prepare for the nation’s first man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fl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94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29880" y="5238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8288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5520" y="17431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3124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4800" y="31147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4197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7240" y="433404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6386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6880" y="6086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2800" y="459000"/>
            <a:ext cx="890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films               misleading               childre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无论发生了什么，你都不要改变主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appens, don’t 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今晚他很有可能给我电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ring me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说清楚了，他将不接受我们的邀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he would not accept our inv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的所有梦想都已实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ll his dreams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是我的两妹妹最了解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y two sister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knew her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160" y="19162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1800" y="9079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65440" y="9079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000" y="285264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s likel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6720" y="38606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made it clea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88360" y="4869000"/>
            <a:ext cx="50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come true/have been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" y="5805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t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5800" y="5734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7600" y="985680"/>
            <a:ext cx="2895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共同之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要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即将到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是…的所在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始创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年代初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实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成为现实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踏进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公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恢复生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活跃起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（主意、计划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目的是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297320" y="9144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…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640" y="137160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… in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4680" y="18288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hom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2200" y="220968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et star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0360" y="26812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the early 198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9200" y="311472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tr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66000" y="34956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t foo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09160" y="397656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u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48320" y="433404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(an) effect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471492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l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7320" y="51195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5520" y="55530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2920" y="603396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im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8720" y="380880"/>
            <a:ext cx="221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济特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外华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抓着机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现梦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…作安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教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感到激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作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中国十个基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满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7200" y="29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t is likely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75240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special economic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520" y="120960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overseas Chin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6880" y="159084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sp 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20480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evelop the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7400" y="24289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rrang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5160" y="289548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6880" y="334332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arn from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86720" y="372420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e excited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81800" y="41814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63860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en bases in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96360" y="50958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fill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370080" y="1244520"/>
            <a:ext cx="988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He has already __________ his suggestions abou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rked  out                B. mapped out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und out                    D. mad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new government _________ its polic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quested     B. arranged    C. boomed   D. an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I can see the bright future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store    B. in the store    C. set store      D. set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This beautiful house is _________to Crazy English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ot of ________speeches have been given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 home; inspired                   B. home; insp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a home; inspiring                 D. home; insp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457200"/>
            <a:ext cx="131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262680" y="113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774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5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060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80" y="228600"/>
            <a:ext cx="9189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s a young man in modern society, I should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very opportunity and try best to _______my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grasp; form                   B. seize; mak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grasp; develop               D. catch;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The two countries decided to __________ with e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______this 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cooperate; in              B. deal; on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deal; at                        D. cooperate;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We must aim_________ ex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increase                B. at increas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r increasing           D. at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The ________of the language center is open your mouth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ke the chance and surprise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sign         B. motto           C. theme           D. spi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380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20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5840" y="3571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160" y="4943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8560" y="295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_________its new conductor, the band achieved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cce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B.  By         C. For         D.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I ________you , I _______call you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m;will                    B. was;would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ere; would            D. am;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When this book was published, he_______the ro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et foot                             B. set his foo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as on his foot                D. stood on his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It is generally considered unwise to give a child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or she w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wever  B. whatever     C. whichever    D. when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7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652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184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86960" y="448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49640" y="228600"/>
            <a:ext cx="975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Stand over there_______you’ll be able to see it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or          B. while         C. but               D.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t was evening ________we reached the small tow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 this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at          B. until          C. since      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economic zone was _______by these fore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ves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juvenated             B. boom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ransported              D. 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________the exhibition, you’ll really feast your ey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n the  fantastic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          B. At              C. On              D.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This guy is ________to tell a 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robably        B. possible       C. likely      D. se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153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6304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200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6680" y="4105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95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1:29Z</dcterms:modified>
  <cp:revision>89</cp:revision>
  <dc:subject/>
  <dc:title>PowerPoint Presentation</dc:title>
</cp:coreProperties>
</file>