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FE4-30BD-4CF8-8D3E-A6C74D95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A70-2889-4EAB-8AD8-0DCAB7E8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A54-B158-4D84-8770-4C286471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B6B-0832-49FD-AC4B-234AEF6C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B56-7524-497F-A481-844D2D73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5D5-2BCB-4F23-B6B8-A052F990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A6B-27EB-4DA5-A822-D6491B7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0BE-AB08-4C39-8FD6-54C9CF09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E54-74EA-4FD6-9677-FB0802B6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CDC-9687-4FF8-ACC8-EDDBEAF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CEF-16A6-40AE-BB06-1C66275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400-071D-4AD4-B64C-5A4AB15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356A-643D-466B-8EB9-3F3A728379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9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）情态动词专项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862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go out for a walk,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we   B.  don’t you    C. will you     D. d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He _______ his parents about his failure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res not tell          B. dares not to 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re not tell            D. dare not 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-- would you like to have a cup of t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ll like to           B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d lik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wouldn’t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on’t lik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______ give him a message when you see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ease                 B. Would you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 you mind   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p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You must have gone to see Bill yesterday, ______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   B. needn’t     C. didn’t     D. hav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7440" y="4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388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720" y="433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49240" y="562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5280" y="6660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suggesting that I _____ too inexperie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jo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No, I only suggest that you _____ more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be, should have been     B. am,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should be, be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been, sh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______ out of season, I would have ordered s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ruit 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w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have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oranges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ld oranges not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---- Why didn’t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I would have _______ I didn’t have th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ill       B but          C. otherwise               D.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744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70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1280" y="5172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3800" y="254160"/>
            <a:ext cx="874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insisted what he said _____ true and we 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e ______ and have a l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; should go       B. should be;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as ; go                D.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______ Shanghai, for I saw him talking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master a moment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must have gone to                 B. can’t have g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stn’t have been to            D. can’t have bee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My English- Chinese dictionary has disappe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_______ have take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B. must   C. could   D.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---- I don’t mind telling you what I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You _______ . I’m not asking you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B. may not   C. can’t   D. nee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32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616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40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9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480" y="371520"/>
            <a:ext cx="889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too slow. She _____ pass the test, but she 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li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; knew                B. will;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; knows              D. will;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 fire spread through the hotel very quickly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one ______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d to      B. would        C. could         D. was 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-- Do you dare to go home al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 _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Yes, I dare       B. No, I da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es, I do           D. No, I dare not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On Sundays when I was a child, Father and I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up early and go fi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uld          B. would         C. might           D.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88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0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37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064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60" y="152280"/>
            <a:ext cx="880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-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d better keep quiet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Sometimes I  _____ . Yesterday, I was very qui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my English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          B. do            C. did          D.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---- They haven’t finished the work up t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Well, they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 B. should have   C. would    D. m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----_______ he come to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Of course, please.And I’d rather he ______m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;inform                   B. Shall; to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; will say              D. Can; sp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Jenny _____ come with us tonight, but she isn’t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e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            B. may          C. can               D.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1280" y="52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86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616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248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00" y="228600"/>
            <a:ext cx="926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ctually quite simple,but the way how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molecule is formed gives water its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 liquid at room temperature and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high froz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trients in whatever falling into the ocean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become available to other living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nsity of pure water is 1 000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ean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ubic metre of water weighs for one thousand ki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capacity is the amount of energy that take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the temperature of a substance one degree centi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3800" y="1004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7621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362320"/>
            <a:ext cx="9144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5160" y="18954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7280" y="31910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5335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48672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4952880"/>
            <a:ext cx="4572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571464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15000"/>
            <a:ext cx="53352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5240" y="6248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640" y="177840"/>
            <a:ext cx="870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 in the ocean also keeps the temperatu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th steadily by absorbing and releasing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eatures on the ocean floor manag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nlight and getting energy from other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ixing of fresh and salt water creates a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is filled with life of all k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animals can enjoy all the benefits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to face much of its d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stuaries protect animals and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erosion , protect them is ver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143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828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3623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080" y="22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2767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9560" y="31910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76720"/>
            <a:ext cx="8380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9528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4486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6172200"/>
            <a:ext cx="10666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7440" y="61628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44680" y="905040"/>
            <a:ext cx="334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翻转，倒过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，想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记录，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获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范围从…，一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也就是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毁坏，出毛病，受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效，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利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起作用，生效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反应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种各样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贡献，有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1480" y="828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urn…upside d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840" y="1285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9040" y="1666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no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6240" y="21337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nefi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1720" y="25909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range from… all the way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320" y="30481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2640" y="335268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reak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3962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come avail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33404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dvant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1360" y="4714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o the w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8840" y="51721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sensiti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0240" y="55530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 varie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0" y="60102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504360" y="939960"/>
            <a:ext cx="1013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will certainly be surprised if he_______to tell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he kn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are          B. dared           C. will dare          D. 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When I was at college I ________three foreign langu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t I ________all except a few words of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poke;had forgotten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spoke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d spoken; had forgotten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had spoken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----We could have walked to the station. It was so 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Yes, a taxi _______at all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n’t                          B. hadn’t been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ouldn’t be                   D. wo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680" y="2124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5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20" y="304920"/>
            <a:ext cx="892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We________each other the best of luck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ped        B. wanted         C. expected       D. w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Nobody noticed the thief slip into the house beca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s happened t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out     B. give in       C. be turned on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----How  did you find your visit to the muse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-I thoroughly enjoyed it . It was _________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ex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far more interesting           B. even much inter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o more interesting            D. a lot much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22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920" y="24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720" y="177840"/>
            <a:ext cx="8722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----Alice, why didn’t you come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 _______, but I had an unexpected vis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         B. would        C. was going to  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usually go there by t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Why not _________by boat for a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try going                B. trying to g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try and go              D. try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Charles Babbage is generally considered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irst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have invented               B. invent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invent                           D. having inv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When I got back home I saw a message pinn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or_____   “Sorry to miss you, I will call lat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ad          B. reads        C. to read         D.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2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200" y="142920"/>
            <a:ext cx="9044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I told Sally how to get here, but perhaps I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to write it out             B. must have written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 have written it out      D. ought to writ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--Your phone number again?  I ________quite catc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t’s 956844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idn’t        B. couldn’t        C. don’t       D.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Johnny, you________play with the knife, you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urt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n’t ;can’t                     B. mustn’t ;ma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n’t ; must              D. can’t ; shoul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78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76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4080" y="40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00" y="339840"/>
            <a:ext cx="8992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_______newcomer to _______Chemistry but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s  already made some important disco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; the           B. the; /        C. a; /          D. a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-----Have you finished your report y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No, I’ll finish in _________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nother        B. other        C. more          D.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I’ll look into the matter as soon as possible. J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ittle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it         B. time          C. patience          D.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After the new technique was introduced, th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________cars in 1988 as the yea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s twice many             B. as many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wice as many             D. twice many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4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74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4600" y="456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05Z</dcterms:modified>
  <cp:revision>14</cp:revision>
  <dc:subject/>
  <dc:title>PowerPoint Presentation</dc:title>
</cp:coreProperties>
</file>