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37B-BF8F-411C-9BCC-60228BFE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ED1-3B8F-489A-8B38-241DDCD2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29B-AD95-4538-BAB7-D1F1B926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1A2-92BC-42D5-B5E7-A49C7FEC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D1B-287C-4881-BBE0-645F8681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DB8-B1D2-4183-AFBA-6ECD474C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0E1-DED1-4816-86ED-3AFDC2A2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E53-AED8-4898-BB75-087F7573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975-1355-4AC0-A8DD-C4B9AFEE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082-F5DB-4FD1-B67D-A4636BCB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7A0-6CDD-41A6-B255-6B9D9E37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3E4-4DB0-4BEA-816B-9BED413F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9656-21AA-4BF6-9728-E33C57D479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6360" y="5475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ˎ̥"/>
              </a:rPr>
              <a:t>（三）非谓语动词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5760" y="1219320"/>
            <a:ext cx="9315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point _________further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arg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argue   C. arguing   D. being arg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Although the lecture had already been on for f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still was not able to find a chair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si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o sit o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it o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sitt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urely her daughter would make an even bigger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her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lea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ing pleas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Lots of empty boots were found under the old man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d. He must have done nothing but __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drink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drin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rinking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drun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2024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015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932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63440" y="494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300600" y="360360"/>
            <a:ext cx="9996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cal health organization is reported ___ twenty-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ars ago when Dr. Adudon became its first president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being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to have been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been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 heard him ________the door 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A. to loc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loc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loc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being loc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He does nothing but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complain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omplain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mplai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compl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nk is reported in the local newspaper ______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ad daylight yesterday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been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been rob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680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536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620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9640" y="4191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2120" y="130320"/>
            <a:ext cx="8876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I appreciated ______the opportunity to study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years ago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ving been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having be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been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have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_______of the burden of ice , the balloon climbed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drifted to the South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fre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Free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free     D. Fre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________exceptions, the rule may stand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Allow for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llowing for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allow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allow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John painted her sitting in a chair with her hands ___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fold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have fold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fol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fold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6240" y="53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564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81240" y="3505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4040" y="47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5960" y="345960"/>
            <a:ext cx="8702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It’s easy to blame the decline of conversation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e of modern life and on the vague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糊的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place in our ever-changing world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a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tak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ak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aken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worked so late in the office last night that I har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time _______the last bus.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to have caugh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atc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atc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cau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have got a loaf of bread; now I’m looking for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ife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cut it 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ut with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ith it to c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t to cut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1574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0080" y="2376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1911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149400" y="452520"/>
            <a:ext cx="9492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I must make full use of the time _____left to me and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much as I can for the people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there be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re 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re 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here to b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On seeing the young child ________into the lake, Joh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rang to his feet, and went to the rescue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A. fe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f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all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to f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I recommend you _______ what he says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d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do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. to d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do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45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2209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6080" y="350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040" y="219240"/>
            <a:ext cx="8911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henomenon may explain to why people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and money on tr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y tall office buildings remind visitors of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o is an important commercial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acabana has just celebrated its one hund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day and is more beautiful than 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’s something for everyone here and fe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ors leave Rio feeling disappo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estival , know as Carnival,is one of the wor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famous and attracts visitors from all over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04920"/>
            <a:ext cx="304920" cy="533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280" y="6764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685800"/>
            <a:ext cx="4572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1523880"/>
            <a:ext cx="53352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1480" y="1895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1981080"/>
            <a:ext cx="53352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200400"/>
            <a:ext cx="129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21360" y="31910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undre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38320" y="441000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appoi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91840" y="61628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1120" y="376200"/>
            <a:ext cx="900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zbuhel is also home to one of the most challeng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xciting downhillslope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t is no need to worry if you have never skied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ompare prices and offers,you can also make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budget last lon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agents can help you find out about pack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s include hotel costs,tours and entrance ti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use traveller’s cheques if possible and avo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too much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838080"/>
            <a:ext cx="1676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19200" y="90504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133720"/>
            <a:ext cx="381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43720" y="197172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971800"/>
            <a:ext cx="1218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3920" y="296244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82640" y="4510080"/>
            <a:ext cx="55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p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后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t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lude→incl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94360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8640" y="562932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r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133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429560" y="609480"/>
            <a:ext cx="2239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时地，时不时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渴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让某人看一眼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因…而著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站在…的旁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厌烦，不喜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四天的节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坐落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去游泳、去洗澡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进行锻炼，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复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列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轻装旅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大饱眼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30800" y="53352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every now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0080" y="9907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get the itch for sth. / to do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6880" y="14479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give sb. a glimps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4120" y="18288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know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8320" y="228600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stand next t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3440" y="2666880"/>
            <a:ext cx="22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/get tir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85280" y="3124080"/>
            <a:ext cx="29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 four-day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6880" y="358128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locat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48840" y="39625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a d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77800" y="441972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work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8640" y="487692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make photocopi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8280" y="525780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make a lis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33000" y="571500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ravel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10400" y="608652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 feast for the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04920" y="228600"/>
            <a:ext cx="150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303120" y="990720"/>
            <a:ext cx="9592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 still see her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 long                            B. now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every other times           D.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ough old, he still has a(n) _________for adven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lief      B. arrangement    C. itch      D.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I’m ________of the ________composition les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ired; bored               B. tiring ; b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iring ; boring           D. tired;   b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by the police, the kidnappers had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 to surrender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urrounded                 B. Having surrou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be surrounded        D. Sur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81440" y="9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204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388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9320" y="4410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0040" y="533520"/>
            <a:ext cx="851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are demanding higher________of p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oney     B. coat      C. payment       D.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 only catch a ________of the superstar; what a p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tare         B. glimpse        C. glance      D. g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s there any discount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扣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 pay________ca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           B. with        C. by         D.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He left his wife to __________three young child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he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ng off           B. bring thr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ring up          D. br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re is no need __________the spilt mi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cry for                 B. crying over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cry it                    D. to cry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4880" y="38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2200" y="1309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95120" y="22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24800" y="3062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520" y="481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76320" y="371520"/>
            <a:ext cx="9283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week’s film festival should be a real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cinema-go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east     B. period        C. taste          D.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The manager discussed the plan that they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to see________the next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rry out                 B. carri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arrying out           D. to carry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 guarantee that this is a ________source of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eliable       B. advisable        C. lovable      D. valu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 have no_________ but to report him to the po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esire                      B. arrangement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ternative              D. parad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92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24240" y="2048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869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0920" y="4181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160" y="49860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He didn’t have time to read the report word for w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just ________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ipped out               B. went over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looked up                  D. saw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He decided to put the __________glass on top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l to stop boys__________ov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roken; climbing             B. breaking; 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roken; to climb              D. breaking; to cli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ound is __________with_________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vering; falling                  B. covered ; f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vered; fallen                    D. covering ; f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600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6080" y="2666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3440" y="38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6000" y="620640"/>
            <a:ext cx="8062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---Look! We’re  had some fish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Oh, it’s not good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 eating                  B. to be ea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eating                        D. to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boy pretended __________when his m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eading                    B.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be reading           D. being re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29720" y="990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972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48:46Z</dcterms:modified>
  <cp:revision>33</cp:revision>
  <dc:subject/>
  <dc:title>PowerPoint Presentation</dc:title>
</cp:coreProperties>
</file>