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5E4-32D4-441F-B353-013B03C5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980-34CA-45B1-A70A-7220A93F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E77-47C8-4517-8DF3-4681D85D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08C-5A7A-4259-A7FF-2C06BA63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C25-8464-48E1-837A-3951BFF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E15-51A1-4046-B685-EB5E168B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EB8-7566-4870-A399-C04603AC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279-A887-4478-AD8E-094436D4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EE9-5335-4AE6-897D-FF6749B7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DB3-B261-4C03-B0BB-116FF16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F7E-DDDC-47B9-AC0A-31A74E8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893-09BD-4EB5-A7D0-083C0EB2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2A2E-DB5A-4472-8BFF-D62056C025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4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12:36Z</dcterms:created>
  <dc:creator>USER13</dc:creator>
  <dc:description/>
  <dc:language>en-US</dc:language>
  <cp:lastModifiedBy>USER13</cp:lastModifiedBy>
  <dcterms:modified xsi:type="dcterms:W3CDTF">2002-05-04T03:16:18Z</dcterms:modified>
  <cp:revision>1</cp:revision>
  <dc:subject/>
  <dc:title>PowerPoint 演示文稿</dc:title>
</cp:coreProperties>
</file>