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7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B6B-274F-4D31-8C9F-DA2AFDA9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24B-FA44-44E9-A7C4-14F5E1C8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049-2DDA-4FF5-A7A4-40C56E62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35E-15A2-4BF9-88F4-98B051C0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5250-193D-4590-8FB9-F38EC03B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A1DE-5916-44B2-8B95-8EFFF2F9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6614-1AD0-400A-B0E7-A284F7C0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07D9-E4F7-46C4-AFC6-20647B50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1521-2D8E-49E7-8417-B4D780AE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2A59-E90F-4DB8-85A5-3AA44E8E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3708-DE1E-47C0-BDFC-429E8B54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ACB-30F6-46D1-8EC7-EF3198F8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5A9C-DE41-4E52-A4F0-AD64AA8C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8032-225E-4F18-9E9A-5DB4A85F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30C6-CA9E-4509-9C8D-1F413927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770A-A000-4708-8A07-65930EED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ABDE-AA4A-41A7-A1D6-F46A3AD3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DAD-7E99-4D83-8494-116D1D1A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14F-523C-46F0-8827-3C59DB00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083-2213-4C76-AD89-784AE394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1AC-E972-48CE-8DAD-1A867258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768-0407-4422-A8FF-66005BEA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F5D-E683-47CE-8894-D3254B68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CBC-67FC-4FA3-8324-4C4A1807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658F-948E-4594-9DAB-9325344B7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C02D-30E1-404E-948A-F6117ADFE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04920" y="762120"/>
            <a:ext cx="8534160" cy="2669400"/>
            <a:chOff x="304920" y="762120"/>
            <a:chExt cx="8534160" cy="2669400"/>
          </a:xfrm>
        </p:grpSpPr>
        <p:sp>
          <p:nvSpPr>
            <p:cNvPr id="84" name=""/>
            <p:cNvSpPr/>
            <p:nvPr/>
          </p:nvSpPr>
          <p:spPr>
            <a:xfrm>
              <a:off x="304920" y="251460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3399"/>
                  </a:solidFill>
                  <a:latin typeface="Times New Roman"/>
                </a:rPr>
                <a:t>          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－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Directed by Qiu Ho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8640" y="762120"/>
              <a:ext cx="658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3399"/>
                  </a:solidFill>
                  <a:latin typeface="Times New Roman"/>
                </a:rPr>
                <a:t>The Attributive Claus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59320" y="1752480"/>
              <a:ext cx="347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00"/>
                  </a:solidFill>
                  <a:latin typeface="Times New Roman"/>
                </a:rPr>
                <a:t>定语从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66160"/>
            <a:ext cx="746748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 Black"/>
              </a:rPr>
              <a:t>Which boy do you like better?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9" name="z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1522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关系代词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 wh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I talked with is 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teals things is called a th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 whom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可省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如介词提前则不能省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3736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whom/who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nodded to is Mr.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49831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o wh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nodded is Professor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59400" y="16002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214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680" y="312408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824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y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451008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195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51000">
            <a:off x="1295280" y="36568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51000">
            <a:off x="1295280" y="43426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51000">
            <a:off x="1295280" y="50284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51000">
            <a:off x="1295280" y="57142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93816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248520" y="1066680"/>
          <a:ext cx="16207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066680"/>
                    <a:ext cx="1620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637200"/>
            <a:ext cx="7315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Mrs. Clark is angry with the goat.   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The goat is eating her flower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1736640" y="207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Clark is angry with the goat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eating her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6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81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talked about it last ni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41148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ed about last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51055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bout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talked last nigh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295280"/>
            <a:ext cx="380880" cy="312840"/>
          </a:xfrm>
          <a:custGeom>
            <a:avLst/>
            <a:gdLst>
              <a:gd name="textAreaLeft" fmla="*/ 127080 w 380880"/>
              <a:gd name="textAreaRight" fmla="*/ 299520 w 38088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657600"/>
            <a:ext cx="381240" cy="312840"/>
          </a:xfrm>
          <a:custGeom>
            <a:avLst/>
            <a:gdLst>
              <a:gd name="textAreaLeft" fmla="*/ 127080 w 381240"/>
              <a:gd name="textAreaRight" fmla="*/ 299520 w 38124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2952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wrote with it just n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148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just n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335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whic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物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介词提前则不能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are the tree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re pl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743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corder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using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e in Jap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86200"/>
            <a:ext cx="743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 books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040" y="545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400" y="510552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rom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650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69640" y="1143000"/>
            <a:ext cx="57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" y="482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. It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040" y="2681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145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. I told you abou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983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2133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29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注意：介词提前时只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whi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而不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4960" y="79056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5840" y="144792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30040" y="4191120"/>
            <a:ext cx="7610400" cy="990360"/>
            <a:chOff x="230040" y="4191120"/>
            <a:chExt cx="7610400" cy="990360"/>
          </a:xfrm>
        </p:grpSpPr>
        <p:grpSp>
          <p:nvGrpSpPr>
            <p:cNvPr id="191" name=""/>
            <p:cNvGrpSpPr/>
            <p:nvPr/>
          </p:nvGrpSpPr>
          <p:grpSpPr>
            <a:xfrm>
              <a:off x="3048120" y="4724280"/>
              <a:ext cx="1143000" cy="457200"/>
              <a:chOff x="3048120" y="4724280"/>
              <a:chExt cx="11430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3048120" y="4724280"/>
                <a:ext cx="114300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048120" y="4724280"/>
                <a:ext cx="1143000" cy="4060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30040" y="4191120"/>
              <a:ext cx="7610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Is this the library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which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you borrow book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                      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th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304920"/>
            <a:ext cx="79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指物的情况下一般都可以互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在下列情况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般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不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sure she ha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ometh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b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680" y="365760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ve rea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book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not m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815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has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ve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longs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" y="1371600"/>
            <a:ext cx="70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thing, nothing, some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nything, little, mu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不定代词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2800" y="2819520"/>
            <a:ext cx="74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, no, some, any, little, muc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0840" y="43578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序数词或最高级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73520" y="5486400"/>
            <a:ext cx="72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e only, the very, the same, the last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31480" y="457200"/>
            <a:ext cx="300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nd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ong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ugh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2480" y="10666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9040" y="274320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9200" y="312408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hand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6576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ta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191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st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7242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cl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2722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naugh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51000">
            <a:off x="1675800" y="3581280"/>
            <a:ext cx="2514600" cy="152640"/>
          </a:xfrm>
          <a:custGeom>
            <a:avLst/>
            <a:gdLst>
              <a:gd name="textAreaLeft" fmla="*/ 507240 w 2514600"/>
              <a:gd name="textAreaRight" fmla="*/ 1755720 w 25146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51000">
            <a:off x="1676520" y="41083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51000">
            <a:off x="1676520" y="4641480"/>
            <a:ext cx="1828800" cy="15228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51000">
            <a:off x="1750680" y="5171400"/>
            <a:ext cx="1752480" cy="160200"/>
          </a:xfrm>
          <a:custGeom>
            <a:avLst/>
            <a:gdLst>
              <a:gd name="textAreaLeft" fmla="*/ 353520 w 1752480"/>
              <a:gd name="textAreaRight" fmla="*/ 1223640 w 1752480"/>
              <a:gd name="textAreaTop" fmla="*/ 21240 h 160200"/>
              <a:gd name="textAreaBottom" fmla="*/ 138960 h 16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51000">
            <a:off x="1676520" y="57085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53040"/>
            <a:ext cx="8229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(1) The scientist is very famous in the world.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Times New Roman"/>
              </a:rPr>
              <a:t>We met her yesterday.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704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ientist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we met yesterday is very famou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390060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The dress is new.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e is wear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80060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es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he is wearing is n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9907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He is the kind pers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worked with him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41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This is the best film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seen this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9810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the kind person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 have ever work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952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best film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have ever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518148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</p:spTree>
  </p:cSld>
  <p:transition spd="slow">
    <p:dissolve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z2" descr=""/>
          <p:cNvPicPr/>
          <p:nvPr/>
        </p:nvPicPr>
        <p:blipFill>
          <a:blip r:embed="rId1"/>
          <a:stretch/>
        </p:blipFill>
        <p:spPr>
          <a:xfrm>
            <a:off x="0" y="468360"/>
            <a:ext cx="891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477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is smi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02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143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smil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3720" y="312408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648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51000">
            <a:off x="990000" y="8377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191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114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woman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971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1148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4320" y="119160"/>
            <a:ext cx="72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is kind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one likes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0666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everyone lik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k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saw her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saw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44197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met the teacher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486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met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51000">
            <a:off x="789840" y="6091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6094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is in the la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 talk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7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to talk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09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o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 to tal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419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sit behind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075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6847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hind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44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is the teacher.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can spea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n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01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speak 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3276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came to visit you to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3434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m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you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51000">
            <a:off x="2237760" y="1447920"/>
            <a:ext cx="3476520" cy="30456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dy stepped on his foot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was dancing with the l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051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d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om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was dancing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ped on his f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4290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m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ill visit him tod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495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1:32:25Z</dcterms:created>
  <dc:creator>余青</dc:creator>
  <dc:description/>
  <dc:language>en-US</dc:language>
  <cp:lastModifiedBy>a</cp:lastModifiedBy>
  <dcterms:modified xsi:type="dcterms:W3CDTF">2001-03-06T02:53:07Z</dcterms:modified>
  <cp:revision>67</cp:revision>
  <dc:subject/>
  <dc:title>定语从句关系代词that which who whom whose 1. That 指人/物， 作主语或宾语    A plane is a machine. It can fly.    He is the man. I told you about him. 2. Which 指人/物， 作主语或宾语    There are the trees. They were planted last year.    This recorder is made in Japan. He is using it. 3. Who指人,作主语; whom指人,作宾语    A person is called a thief. He steals things.    The man is Professor Li. I nodded to him. 4. Whose指人/物， 起物主代词作用    I want the book. It’s cover is blue.    This is the girl. Her pronunciation is the best.</dc:title>
</cp:coreProperties>
</file>