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AP.WAV" ContentType="audio/x-wav"/>
  <Override PartName="/ppt/media/image3.png" ContentType="image/png"/>
  <Override PartName="/ppt/media/DRIVEBY.WAV" ContentType="audio/x-wav"/>
  <Override PartName="/ppt/media/image6.png" ContentType="image/png"/>
  <Override PartName="/ppt/media/ALTOSAX.WAV" ContentType="audio/x-wav"/>
  <Override PartName="/ppt/media/PROJCTOR.WAV" ContentType="audio/x-wav"/>
  <Override PartName="/ppt/media/EXPLODE.WAV" ContentType="audio/x-wav"/>
  <Override PartName="/ppt/media/image4.png" ContentType="image/png"/>
  <Override PartName="/ppt/media/TYPE.WAV" ContentType="audio/x-wav"/>
  <Override PartName="/ppt/media/image2.png" ContentType="image/png"/>
  <Override PartName="/ppt/media/DRUMROLL.WAV" ContentType="audio/x-wav"/>
  <Override PartName="/ppt/media/DIDJERID.WAV" ContentType="audio/x-wav"/>
  <Override PartName="/ppt/media/image5.png" ContentType="image/png"/>
  <Override PartName="/ppt/media/image10.jpeg" ContentType="image/jpeg"/>
  <Override PartName="/ppt/media/image16.png" ContentType="image/png"/>
  <Override PartName="/ppt/media/HARP.WAV" ContentType="audio/x-wav"/>
  <Override PartName="/ppt/media/image14.png" ContentType="image/png"/>
  <Override PartName="/ppt/media/image15.png" ContentType="image/png"/>
  <Override PartName="/ppt/media/GUITELEC.WAV" ContentType="audio/x-wav"/>
  <Override PartName="/ppt/media/MARIMBA.WAV" ContentType="audio/x-wav"/>
  <Override PartName="/ppt/media/image13.png" ContentType="image/png"/>
  <Override PartName="/ppt/media/image12.png" ContentType="image/png"/>
  <Override PartName="/ppt/media/image8.png" ContentType="image/png"/>
  <Override PartName="/ppt/media/OBOE.WAV" ContentType="audio/x-wav"/>
  <Override PartName="/ppt/media/image11.png" ContentType="image/png"/>
  <Override PartName="/ppt/media/image9.jpeg" ContentType="image/jpeg"/>
  <Override PartName="/ppt/media/image1.jpeg" ContentType="image/jpeg"/>
  <Override PartName="/ppt/media/image7.png" ContentType="image/png"/>
  <Override PartName="/ppt/media/LUT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D053-FB2D-4519-9A16-3C47C88E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7FF-8063-404A-92F1-E97D863E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8D7-CEE3-4C5C-A9F6-4A20AD5D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4975-7CA2-473B-966E-E4F602CB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A25D-D80C-42A9-9E89-EA237335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865B-2AD9-41F9-9ADC-481EDBB5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3380-EFBC-47E2-ADC1-EE93C3D8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5320-DD06-43C3-AA1B-2D2268D9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FF9C-FDFB-42BB-BE2C-DE0B981F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7127-6F10-45EC-B734-705E0A06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C19C-986C-432E-ADBA-2163B08B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DC6-C992-45E3-B353-FDAC72AA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E3DE-0C75-4F0C-9B24-5F95BA73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360D-4A2F-42CF-A8BE-7EE4619E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CEA4-D2D5-4F2E-A29D-87548A24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9DCD-8FAD-420A-B8B4-7BF42A97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9566-3388-4721-8343-FA8EBD45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489-700A-44AD-A04C-D6BA9987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BDD-F42D-4D33-9F1A-A84F09CD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323-E604-4FAB-B4FC-A2B1B5CD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D12-BD97-461C-BA19-9484C088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CA8-5C8F-49F8-AEF5-4EE3BE03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6B0B-0EC0-4817-B0E1-B40EE749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00B-A444-44E7-A766-4DE39A4F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E7EB-E14C-4DD2-9A97-C0A65E6CE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479680"/>
              <a:ext cx="9147240" cy="1012320"/>
              <a:chOff x="-36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914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304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40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364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884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128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300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640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640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808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328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50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672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156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15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660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244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488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8A17-3846-471D-9FCD-7FE613F3F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IDJERI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../media/DIDJERID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DIDJERI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IDJERID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IDJERID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IDJERID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UT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../media/OBO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audio" Target="../media/MARIMB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GUITELEC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HARP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DIDJERID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ALTOSAX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Australia_sm99" descr=""/>
          <p:cNvPicPr/>
          <p:nvPr/>
        </p:nvPicPr>
        <p:blipFill>
          <a:blip r:embed="rId1"/>
          <a:stretch/>
        </p:blipFill>
        <p:spPr>
          <a:xfrm>
            <a:off x="0" y="0"/>
            <a:ext cx="72756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236232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3366cc"/>
                </a:solidFill>
                <a:latin typeface="Times New Roman"/>
              </a:rPr>
              <a:t>Australia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762120"/>
            <a:ext cx="3886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50960" indent="-750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0960" indent="-75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0960" indent="-75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DIDJERI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28600" y="0"/>
          <a:ext cx="8915400" cy="71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915400" cy="71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CLAP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1371600"/>
            <a:ext cx="716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n Australian aboriginal artist works on a sheet of bark.  Such paintings are traditional throughout Ocea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581120" y="380880"/>
          <a:ext cx="588636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380880"/>
                    <a:ext cx="588636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IDJERI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51120" y="1523880"/>
            <a:ext cx="675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boriginal cave paintings are a native Australian art fo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600200" y="457200"/>
          <a:ext cx="60199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60199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71600" y="436680"/>
            <a:ext cx="7315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idgeridoo - The didgeridoo (pronounced didg-er-ee-doo) is an unusual trumpet played by the Aborigines of northern Australia to accompany dance and song. It is constructed of a large tube of Eucalyptus wood or bamboo. One end rests on the ground, while the player simultaneously blows and sings into the other end of the instrument, producing a deep, buzzing drone and more subtle effects: high partials, rhythmic articulations, and changes of tone color. To create this sound requires circular breathing, a difficult technique of taking in air through the nose while simultaneously blowing air out through the mou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7-1-3933_digeridoo" descr=""/>
          <p:cNvPicPr/>
          <p:nvPr/>
        </p:nvPicPr>
        <p:blipFill>
          <a:blip r:embed="rId1"/>
          <a:stretch/>
        </p:blipFill>
        <p:spPr>
          <a:xfrm>
            <a:off x="2200320" y="0"/>
            <a:ext cx="474516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162920" y="4440240"/>
            <a:ext cx="16761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日，国际奥委会主席萨马兰奇在当地土著居民的陪同下，参观了当地土著人居住的地方。图为萨马兰奇试着演奏土著人的传统乐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DIDJERI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7-1-4171_au0912111szy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451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90720" y="63244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澳大利亚土著艺术家十二日在悉尼歌剧院前吹奏传统乐器，为即将开幕的奥运会助兴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DIDJERI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-9360"/>
          <a:ext cx="9144000" cy="68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9360"/>
                    <a:ext cx="9144000" cy="68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RIVEBY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71600" y="1219320"/>
            <a:ext cx="731520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cc"/>
                </a:solidFill>
                <a:latin typeface="Times New Roman"/>
              </a:rPr>
              <a:t>Banner-carrying aborigines march in 1980 in protest against government plans to begin oil drilling on sacred aboriginal site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733920" y="411480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9360">
                  <a:solidFill>
                    <a:srgbClr val="5490a8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Aborigines</a:t>
            </a:r>
            <a:endParaRPr b="0" i="1" lang="en-US" sz="2400" spc="1" strike="noStrike">
              <a:ln cap="sq" w="9360">
                <a:solidFill>
                  <a:srgbClr val="5490a8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362320" y="1600200"/>
            <a:ext cx="4495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People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  <p:sndAc>
      <p:stSnd>
        <p:snd r:embed="rId1" name="DIDJERI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Weather and Land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LUT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219320" y="291960"/>
          <a:ext cx="678168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1960"/>
                    <a:ext cx="678168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OBO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3880" y="91440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ustralia has many varied features. In the center are dry riverbeds, like the one winding through the Macdonnell Rang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828800" y="228600"/>
          <a:ext cx="54100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8600"/>
                    <a:ext cx="54100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MARIMB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33720" y="1600200"/>
            <a:ext cx="5715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In Queensland there are sugarcane field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5120" y="152352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Sports and Games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GUITELEC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739880" y="457200"/>
          <a:ext cx="57164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9880" y="457200"/>
                    <a:ext cx="57164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HARP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600200" y="990720"/>
            <a:ext cx="6705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Sailing is popular among Australians. In Melbourne, children learn to handle small boats on the Yarra Riv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79480" y="304920"/>
          <a:ext cx="538344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9480" y="304920"/>
                    <a:ext cx="53834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RUMROLL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362320" y="1676520"/>
            <a:ext cx="480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Football is a popular sport in Australi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286000" y="304920"/>
          <a:ext cx="45054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04920"/>
                    <a:ext cx="4505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RUMROLL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066680" y="609480"/>
          <a:ext cx="7162920" cy="51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716292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800" y="28191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The End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DIDJERI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833480" y="838080"/>
            <a:ext cx="6319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n aboriginal man of South Australia wears a cap of plaited straw and carries a decorated woomera, a stick used to cradle a spear and give added leverage in throwing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514440" y="762120"/>
          <a:ext cx="8020080" cy="55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762120"/>
                    <a:ext cx="8020080" cy="55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ALTOSAX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95280" y="175248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aboriginal family is at home in South Australia; the woman is spinning wo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685800" y="268200"/>
          <a:ext cx="769608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8200"/>
                    <a:ext cx="769608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85800" y="6019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igines work in a lumber forest on Melville Island off the coast near Darw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749600" y="380880"/>
          <a:ext cx="55656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380880"/>
                    <a:ext cx="5565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62040" y="1752480"/>
            <a:ext cx="681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01:33:48Z</dcterms:created>
  <dc:creator>home</dc:creator>
  <dc:description/>
  <dc:language>en-US</dc:language>
  <cp:lastModifiedBy>home</cp:lastModifiedBy>
  <dcterms:modified xsi:type="dcterms:W3CDTF">2000-10-12T21:12:49Z</dcterms:modified>
  <cp:revision>13</cp:revision>
  <dc:subject/>
  <dc:title>Australia</dc:title>
</cp:coreProperties>
</file>