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4A45E-BAEC-4191-A8FB-F8842BC0A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31E86-C702-44FE-BEBB-CA346FA3D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B2215-361F-4721-AEE8-B47C040BD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54A6D-EDB9-427C-A3EA-CC503B5AC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2461E-1C2D-4970-B8CF-5A3D65F56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E758A-E612-4677-B84B-73D69131F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6755D-CC85-48F5-9AF2-33BD20D97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7CBF4-C5BE-4235-85D3-7770D7A0B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1EBC0-4964-4A97-902D-BEDCE6D05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3B316-FD2A-4C8B-9475-90490F823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C007A-B099-4586-AFA2-C0D905449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84D90-285B-41E3-A857-B2E43F7E7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87BB4-2EF4-454D-BCDC-31BAE5BCE3D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3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3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4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9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4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4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4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4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4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4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3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4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3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3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3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36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3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3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04T03:12:36Z</dcterms:created>
  <dc:creator>USER13</dc:creator>
  <dc:description/>
  <dc:language>en-US</dc:language>
  <cp:lastModifiedBy>USER13</cp:lastModifiedBy>
  <dcterms:modified xsi:type="dcterms:W3CDTF">2002-05-04T03:16:18Z</dcterms:modified>
  <cp:revision>1</cp:revision>
  <dc:subject/>
  <dc:title>PowerPoint 演示文稿</dc:title>
</cp:coreProperties>
</file>