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4.gif" ContentType="image/gif"/>
  <Override PartName="/ppt/media/image34.gif" ContentType="image/gif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3.gif" ContentType="image/gif"/>
  <Override PartName="/ppt/media/image9.jpeg" ContentType="image/jpeg"/>
  <Override PartName="/ppt/media/image35.gif" ContentType="image/gif"/>
  <Override PartName="/ppt/media/image38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16.gif" ContentType="image/gi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A5B-8A78-4C00-B5C9-30469FAA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DD4-0E25-4C4D-B1D9-C2B54D3F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BD0-C752-4585-A275-F4F54AD7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634-DB5D-4F06-9522-76211266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F1E5-4838-49B8-AD62-06A8F82F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291C-9422-4E63-9A39-7EEA5539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E8DD-C80E-4D07-8EC5-E2DD75CF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677F-532D-40CE-9553-52D759D2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E86D-CF64-480E-AD38-F7FFEF22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DB25-53D2-45D0-BE56-1EC2515E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FFC5-9BD5-4994-8509-4F5D50D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039-8F1E-4290-B9E3-D9F12D7B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3D73-5359-44D4-BD77-A3F4363C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210C-B273-49D1-9AEE-1F3DB51F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B005-7677-4BCE-A2A2-2AC7280E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7108-72E0-4811-B2D6-E85BE6AC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049C-144B-4CAF-97EE-42B70B26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79B-DAAC-4831-A1DF-844884C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6DA-2A9D-4576-9543-3948DF8B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8CA-8401-4ABB-8E47-59DA7B57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E98-EA9C-4ECA-9CA1-6D473637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CFE-1CAA-4F78-A05A-18F1807C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40B-4E08-424A-8294-725B61D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614-EFCB-4385-A669-A94D07B8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F96B-98A4-4DD9-A016-F2760B33BEAC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6252-DC05-4DFD-AA02-6D7BF8548FE3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qjsyy.com.cn/jsyx/wy/3.htm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etroom.hbu.edu.cn/personal/anna/pfiles/picture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46483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HeYong feng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638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2004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680" y="1371600"/>
            <a:ext cx="6934320" cy="289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201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2108"/>
                  </a:solidFill>
                  <a:miter/>
                </a:ln>
                <a:solidFill>
                  <a:srgbClr val="ff2108"/>
                </a:solidFill>
                <a:latin typeface="宋体"/>
              </a:rPr>
              <a:t> </a:t>
            </a:r>
            <a:r>
              <a:rPr b="1" lang="en-US" sz="4400" spc="1" strike="noStrike">
                <a:ln w="9360">
                  <a:solidFill>
                    <a:srgbClr val="ff2108"/>
                  </a:solidFill>
                  <a:miter/>
                </a:ln>
                <a:solidFill>
                  <a:srgbClr val="ff2108"/>
                </a:solidFill>
                <a:latin typeface="宋体"/>
              </a:rPr>
              <a:t>Hello everyone</a:t>
            </a:r>
            <a:endParaRPr b="1" lang="en-US" sz="4400" spc="1" strike="noStrike">
              <a:ln w="9360">
                <a:solidFill>
                  <a:srgbClr val="ff2108"/>
                </a:solidFill>
                <a:miter/>
              </a:ln>
              <a:solidFill>
                <a:srgbClr val="ff2108"/>
              </a:solidFill>
              <a:latin typeface="宋体"/>
              <a:ea typeface="宋体"/>
            </a:endParaRPr>
          </a:p>
        </p:txBody>
      </p:sp>
      <p:pic>
        <p:nvPicPr>
          <p:cNvPr id="92" name="231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2590920" cy="281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exercise181101%5B1%5D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172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685800"/>
            <a:ext cx="77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40d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48320" y="5867280"/>
            <a:ext cx="4495680" cy="761760"/>
            <a:chOff x="4648320" y="5867280"/>
            <a:chExt cx="4495680" cy="761760"/>
          </a:xfrm>
        </p:grpSpPr>
        <p:sp>
          <p:nvSpPr>
            <p:cNvPr id="142" name=""/>
            <p:cNvSpPr/>
            <p:nvPr/>
          </p:nvSpPr>
          <p:spPr>
            <a:xfrm>
              <a:off x="4648320" y="5867280"/>
              <a:ext cx="44956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520" y="5867280"/>
              <a:ext cx="340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2108"/>
                  </a:solidFill>
                  <a:latin typeface="Times New Roman"/>
                </a:rPr>
                <a:t>      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runn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44" name="lyj093841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0" y="5867280"/>
            <a:ext cx="4572000" cy="762120"/>
            <a:chOff x="0" y="5867280"/>
            <a:chExt cx="4572000" cy="762120"/>
          </a:xfrm>
        </p:grpSpPr>
        <p:sp>
          <p:nvSpPr>
            <p:cNvPr id="146" name=""/>
            <p:cNvSpPr/>
            <p:nvPr/>
          </p:nvSpPr>
          <p:spPr>
            <a:xfrm>
              <a:off x="0" y="5867280"/>
              <a:ext cx="45720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5867280"/>
              <a:ext cx="36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laying football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30_16_6138%5B1%5D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5867280"/>
            <a:ext cx="4495680" cy="762120"/>
            <a:chOff x="0" y="5867280"/>
            <a:chExt cx="4495680" cy="762120"/>
          </a:xfrm>
        </p:grpSpPr>
        <p:sp>
          <p:nvSpPr>
            <p:cNvPr id="150" name=""/>
            <p:cNvSpPr/>
            <p:nvPr/>
          </p:nvSpPr>
          <p:spPr>
            <a:xfrm>
              <a:off x="0" y="5867280"/>
              <a:ext cx="4495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5867280"/>
              <a:ext cx="449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72efe"/>
                  </a:solidFill>
                  <a:latin typeface="Times New Roman"/>
                </a:rPr>
                <a:t>playing the</a:t>
              </a:r>
              <a:r>
                <a:rPr b="1" lang="en-US" sz="4000" spc="-1" strike="noStrike">
                  <a:solidFill>
                    <a:srgbClr val="ff2108"/>
                  </a:solidFill>
                  <a:latin typeface="Times New Roman"/>
                </a:rPr>
                <a:t> guitar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2" name="225" descr=""/>
          <p:cNvPicPr/>
          <p:nvPr/>
        </p:nvPicPr>
        <p:blipFill>
          <a:blip r:embed="rId2"/>
          <a:stretch/>
        </p:blipFill>
        <p:spPr>
          <a:xfrm>
            <a:off x="2286000" y="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19%5B1%5D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572000" y="5867280"/>
            <a:ext cx="4876920" cy="762120"/>
            <a:chOff x="4572000" y="5867280"/>
            <a:chExt cx="4876920" cy="762120"/>
          </a:xfrm>
        </p:grpSpPr>
        <p:sp>
          <p:nvSpPr>
            <p:cNvPr id="155" name=""/>
            <p:cNvSpPr/>
            <p:nvPr/>
          </p:nvSpPr>
          <p:spPr>
            <a:xfrm>
              <a:off x="4572000" y="5867280"/>
              <a:ext cx="45720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8320" y="5867280"/>
              <a:ext cx="480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playing the</a:t>
              </a:r>
              <a:r>
                <a:rPr b="1" lang="en-US" sz="4000" spc="-1" strike="noStrike">
                  <a:solidFill>
                    <a:srgbClr val="21e903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drums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small20031023153624835064%5B1%5D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0" y="5791320"/>
            <a:ext cx="4723920" cy="774720"/>
            <a:chOff x="0" y="5791320"/>
            <a:chExt cx="4723920" cy="774720"/>
          </a:xfrm>
        </p:grpSpPr>
        <p:sp>
          <p:nvSpPr>
            <p:cNvPr id="159" name=""/>
            <p:cNvSpPr/>
            <p:nvPr/>
          </p:nvSpPr>
          <p:spPr>
            <a:xfrm>
              <a:off x="0" y="5791320"/>
              <a:ext cx="4577040" cy="774720"/>
            </a:xfrm>
            <a:prstGeom prst="rect">
              <a:avLst/>
            </a:prstGeom>
            <a:solidFill>
              <a:srgbClr val="fffbb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040" y="5791320"/>
              <a:ext cx="466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             </a:t>
              </a:r>
              <a:r>
                <a:rPr b="1" lang="zh-CN" sz="4000" spc="-1" strike="noStrike">
                  <a:solidFill>
                    <a:srgbClr val="ff240d"/>
                  </a:solidFill>
                  <a:latin typeface="Times New Roman"/>
                </a:rPr>
                <a:t>danc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1" name="_1057629836_2r%5B1%5D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0958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4648320" y="5791320"/>
            <a:ext cx="4800240" cy="761400"/>
            <a:chOff x="4648320" y="5791320"/>
            <a:chExt cx="4800240" cy="761400"/>
          </a:xfrm>
        </p:grpSpPr>
        <p:sp>
          <p:nvSpPr>
            <p:cNvPr id="163" name=""/>
            <p:cNvSpPr/>
            <p:nvPr/>
          </p:nvSpPr>
          <p:spPr>
            <a:xfrm>
              <a:off x="4648320" y="5791320"/>
              <a:ext cx="4591800" cy="761400"/>
            </a:xfrm>
            <a:prstGeom prst="rect">
              <a:avLst/>
            </a:prstGeom>
            <a:solidFill>
              <a:srgbClr val="fffbb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52720" y="5791320"/>
              <a:ext cx="4695840" cy="703440"/>
            </a:xfrm>
            <a:prstGeom prst="rect">
              <a:avLst/>
            </a:prstGeom>
            <a:solidFill>
              <a:srgbClr val="fff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240d"/>
                  </a:solidFill>
                  <a:latin typeface="Times New Roman"/>
                </a:rPr>
                <a:t>           </a:t>
              </a:r>
              <a:r>
                <a:rPr b="1" lang="en-US" sz="4000" spc="-1" strike="noStrike">
                  <a:solidFill>
                    <a:srgbClr val="ff240d"/>
                  </a:solidFill>
                  <a:latin typeface="Times New Roman"/>
                </a:rPr>
                <a:t>sing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ljh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-228600" y="6019920"/>
            <a:ext cx="4876920" cy="609480"/>
            <a:chOff x="-228600" y="6019920"/>
            <a:chExt cx="4876920" cy="609480"/>
          </a:xfrm>
        </p:grpSpPr>
        <p:sp>
          <p:nvSpPr>
            <p:cNvPr id="167" name=""/>
            <p:cNvSpPr/>
            <p:nvPr/>
          </p:nvSpPr>
          <p:spPr>
            <a:xfrm>
              <a:off x="0" y="6019920"/>
              <a:ext cx="45720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228600" y="6019920"/>
              <a:ext cx="487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studying</a:t>
              </a:r>
              <a:r>
                <a:rPr b="1" lang="en-US" sz="3200" spc="-1" strike="noStrike">
                  <a:solidFill>
                    <a:srgbClr val="ff2108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n the computer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9" name="aihuyanjinq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17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24280" y="5181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24280" y="6019920"/>
            <a:ext cx="4419720" cy="609480"/>
            <a:chOff x="4724280" y="6019920"/>
            <a:chExt cx="4419720" cy="609480"/>
          </a:xfrm>
        </p:grpSpPr>
        <p:sp>
          <p:nvSpPr>
            <p:cNvPr id="172" name=""/>
            <p:cNvSpPr/>
            <p:nvPr/>
          </p:nvSpPr>
          <p:spPr>
            <a:xfrm>
              <a:off x="4724280" y="6019920"/>
              <a:ext cx="4419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2720" y="60199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72efe"/>
                  </a:solidFill>
                  <a:latin typeface="Times New Roman"/>
                </a:rPr>
                <a:t>watching</a:t>
              </a:r>
              <a:r>
                <a:rPr b="1" lang="en-US" sz="3200" spc="-1" strike="noStrike">
                  <a:solidFill>
                    <a:srgbClr val="ff2108"/>
                  </a:solidFill>
                  <a:latin typeface="Times New Roman"/>
                </a:rPr>
                <a:t> TV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asthma03050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19320" y="2286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mming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ef7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 flipV="1">
            <a:off x="762120" y="990720"/>
            <a:ext cx="4038480" cy="838080"/>
          </a:xfrm>
          <a:prstGeom prst="wedgeEllipseCallout">
            <a:avLst>
              <a:gd name="adj1" fmla="val -38958"/>
              <a:gd name="adj2" fmla="val -926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240d"/>
                </a:solidFill>
                <a:latin typeface="Times New Roman"/>
              </a:rPr>
              <a:t>挑战无极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4572000"/>
            <a:ext cx="3505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Of cours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78" name="026agif007" descr=""/>
          <p:cNvPicPr/>
          <p:nvPr/>
        </p:nvPicPr>
        <p:blipFill>
          <a:blip r:embed="rId1"/>
          <a:stretch/>
        </p:blipFill>
        <p:spPr>
          <a:xfrm flipH="1" rot="10800000">
            <a:off x="6553080" y="472428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828800" y="2362320"/>
            <a:ext cx="4952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1680">
                  <a:solidFill>
                    <a:srgbClr val="3366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Can you learn it?</a:t>
            </a:r>
            <a:endParaRPr b="1" lang="en-US" sz="4400" spc="1" strike="noStrike">
              <a:ln w="31680">
                <a:solidFill>
                  <a:srgbClr val="3366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180" name="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920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6agif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715000" y="12193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lking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6160" y="45396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e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18280" y="6248520"/>
            <a:ext cx="12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abb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007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943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14400" y="5943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ump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8" name="052744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5943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86400" y="57913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eaning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562720"/>
            <a:ext cx="9144000" cy="1066680"/>
          </a:xfrm>
          <a:prstGeom prst="rect">
            <a:avLst/>
          </a:prstGeom>
          <a:solidFill>
            <a:srgbClr val="bdb6a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5638680"/>
            <a:ext cx="5790960" cy="825120"/>
          </a:xfrm>
          <a:prstGeom prst="rect">
            <a:avLst/>
          </a:prstGeom>
          <a:solidFill>
            <a:srgbClr val="bdb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e is</a:t>
            </a:r>
            <a:r>
              <a:rPr b="1" lang="en-US" sz="4800" spc="-1" strike="noStrike">
                <a:solidFill>
                  <a:srgbClr val="21e903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wimming!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2" name="gif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09680" y="3049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e doing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60" y="380880"/>
            <a:ext cx="16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ck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2rabbit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09680" y="22860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014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54864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1" lang="en-US" sz="48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ighting!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7680" y="304920"/>
            <a:ext cx="22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bbits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14600" y="1143000"/>
            <a:ext cx="41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Xb0520D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Times New Roman"/>
              </a:rPr>
              <a:t>Unit 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Times New Roman"/>
              </a:rPr>
              <a:t>It’s raining!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0" name="gif1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143000" y="6156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He is </a:t>
            </a:r>
            <a:r>
              <a:rPr b="1" lang="en-US" sz="4000" spc="-1" strike="noStrike">
                <a:solidFill>
                  <a:srgbClr val="ff240d"/>
                </a:solidFill>
                <a:latin typeface="Times New Roman"/>
              </a:rPr>
              <a:t>waiting for</a:t>
            </a: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the e-mail 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0"/>
            <a:ext cx="4343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What is the lovel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dog doing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gif006" descr=""/>
          <p:cNvPicPr/>
          <p:nvPr/>
        </p:nvPicPr>
        <p:blipFill>
          <a:blip r:embed="rId1"/>
          <a:stretch/>
        </p:blipFill>
        <p:spPr>
          <a:xfrm>
            <a:off x="0" y="228600"/>
            <a:ext cx="662940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gif003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5181480" cy="1904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2971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472efe"/>
                </a:solidFill>
                <a:latin typeface="Times New Roman"/>
              </a:rPr>
              <a:t>watching</a:t>
            </a: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the fish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wimm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472efe"/>
                </a:solidFill>
                <a:latin typeface="Times New Roman"/>
              </a:rPr>
              <a:t>eating</a:t>
            </a: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the fish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3254_2003-11-21_19-8-39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0"/>
            <a:ext cx="1981080" cy="1295280"/>
          </a:xfrm>
          <a:prstGeom prst="flowChartMagneticTap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108"/>
                </a:solidFill>
                <a:latin typeface="Times New Roman"/>
                <a:ea typeface="华文行楷"/>
              </a:rPr>
              <a:t>绝对任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3240" y="0"/>
            <a:ext cx="680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If you are here,please tal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about the weather and thin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what you are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304920"/>
            <a:ext cx="7391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3" name="w10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a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1640" y="73080"/>
            <a:ext cx="43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e684"/>
                </a:solidFill>
                <a:latin typeface="Times New Roman"/>
              </a:rPr>
              <a:t>Listen and answer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15000" y="5940360"/>
            <a:ext cx="3352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chinamap2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5040" y="0"/>
            <a:ext cx="42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Weather Forecast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KGD2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715000" y="5562720"/>
            <a:ext cx="2895480" cy="685800"/>
            <a:chOff x="5715000" y="5562720"/>
            <a:chExt cx="2895480" cy="685800"/>
          </a:xfrm>
        </p:grpSpPr>
        <p:sp>
          <p:nvSpPr>
            <p:cNvPr id="103" name=""/>
            <p:cNvSpPr/>
            <p:nvPr/>
          </p:nvSpPr>
          <p:spPr>
            <a:xfrm>
              <a:off x="5715000" y="5639040"/>
              <a:ext cx="28954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5000" y="55627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21e903"/>
                  </a:solidFill>
                  <a:latin typeface="Times New Roman"/>
                </a:rPr>
                <a:t>snowing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7200" y="457200"/>
            <a:ext cx="4191120" cy="642600"/>
            <a:chOff x="457200" y="457200"/>
            <a:chExt cx="4191120" cy="642600"/>
          </a:xfrm>
        </p:grpSpPr>
        <p:sp>
          <p:nvSpPr>
            <p:cNvPr id="106" name=""/>
            <p:cNvSpPr/>
            <p:nvPr/>
          </p:nvSpPr>
          <p:spPr>
            <a:xfrm>
              <a:off x="457200" y="457200"/>
              <a:ext cx="4191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45720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How’s the weather 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078942149_aAaOOs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380880" y="380880"/>
            <a:ext cx="5867640" cy="838440"/>
            <a:chOff x="380880" y="380880"/>
            <a:chExt cx="5867640" cy="838440"/>
          </a:xfrm>
        </p:grpSpPr>
        <p:sp>
          <p:nvSpPr>
            <p:cNvPr id="110" name=""/>
            <p:cNvSpPr/>
            <p:nvPr/>
          </p:nvSpPr>
          <p:spPr>
            <a:xfrm>
              <a:off x="380880" y="380880"/>
              <a:ext cx="5732640" cy="838440"/>
            </a:xfrm>
            <a:prstGeom prst="rect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457200"/>
              <a:ext cx="586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How’s  the weather  today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95880" y="5562720"/>
            <a:ext cx="2514600" cy="685800"/>
            <a:chOff x="6095880" y="5562720"/>
            <a:chExt cx="2514600" cy="685800"/>
          </a:xfrm>
        </p:grpSpPr>
        <p:sp>
          <p:nvSpPr>
            <p:cNvPr id="113" name=""/>
            <p:cNvSpPr/>
            <p:nvPr/>
          </p:nvSpPr>
          <p:spPr>
            <a:xfrm>
              <a:off x="6095880" y="5562720"/>
              <a:ext cx="2514600" cy="685800"/>
            </a:xfrm>
            <a:prstGeom prst="rect">
              <a:avLst/>
            </a:prstGeom>
            <a:solidFill>
              <a:srgbClr val="ae590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5562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It’s windy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0040426100850_111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457200" y="457200"/>
            <a:ext cx="4114800" cy="761760"/>
            <a:chOff x="457200" y="457200"/>
            <a:chExt cx="4114800" cy="761760"/>
          </a:xfrm>
        </p:grpSpPr>
        <p:sp>
          <p:nvSpPr>
            <p:cNvPr id="117" name=""/>
            <p:cNvSpPr/>
            <p:nvPr/>
          </p:nvSpPr>
          <p:spPr>
            <a:xfrm>
              <a:off x="457200" y="457200"/>
              <a:ext cx="41148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53316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How’s the weather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867280" y="5638680"/>
            <a:ext cx="2819160" cy="685800"/>
            <a:chOff x="5867280" y="5638680"/>
            <a:chExt cx="2819160" cy="685800"/>
          </a:xfrm>
        </p:grpSpPr>
        <p:sp>
          <p:nvSpPr>
            <p:cNvPr id="120" name=""/>
            <p:cNvSpPr/>
            <p:nvPr/>
          </p:nvSpPr>
          <p:spPr>
            <a:xfrm>
              <a:off x="5867280" y="56386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67280" y="56386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raining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lower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095880" y="5638680"/>
            <a:ext cx="2590560" cy="685800"/>
            <a:chOff x="6095880" y="5638680"/>
            <a:chExt cx="2590560" cy="685800"/>
          </a:xfrm>
        </p:grpSpPr>
        <p:sp>
          <p:nvSpPr>
            <p:cNvPr id="124" name=""/>
            <p:cNvSpPr/>
            <p:nvPr/>
          </p:nvSpPr>
          <p:spPr>
            <a:xfrm>
              <a:off x="6095880" y="5638680"/>
              <a:ext cx="2438280" cy="685800"/>
            </a:xfrm>
            <a:prstGeom prst="rect">
              <a:avLst/>
            </a:prstGeom>
            <a:gradFill rotWithShape="0">
              <a:gsLst>
                <a:gs pos="0">
                  <a:srgbClr val="fef77e"/>
                </a:gs>
                <a:gs pos="50000">
                  <a:srgbClr val="fff200"/>
                </a:gs>
                <a:gs pos="100000">
                  <a:srgbClr val="fef77e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1840" y="56386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40d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sunny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19920" y="609480"/>
            <a:ext cx="2590560" cy="1752480"/>
            <a:chOff x="6019920" y="609480"/>
            <a:chExt cx="2590560" cy="1752480"/>
          </a:xfrm>
        </p:grpSpPr>
        <p:sp>
          <p:nvSpPr>
            <p:cNvPr id="127" name=""/>
            <p:cNvSpPr/>
            <p:nvPr/>
          </p:nvSpPr>
          <p:spPr>
            <a:xfrm>
              <a:off x="6019920" y="609480"/>
              <a:ext cx="2514600" cy="175248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fef89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609480"/>
              <a:ext cx="2590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What’s the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weather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like today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0419120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21932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jiangxi-jinggangshan" descr=""/>
          <p:cNvPicPr/>
          <p:nvPr/>
        </p:nvPicPr>
        <p:blipFill>
          <a:blip r:embed="rId3"/>
          <a:stretch/>
        </p:blipFill>
        <p:spPr>
          <a:xfrm>
            <a:off x="4876920" y="1219320"/>
            <a:ext cx="3581280" cy="1904760"/>
          </a:xfrm>
          <a:prstGeom prst="rect">
            <a:avLst/>
          </a:prstGeom>
          <a:ln w="0">
            <a:noFill/>
          </a:ln>
        </p:spPr>
      </p:pic>
      <p:pic>
        <p:nvPicPr>
          <p:cNvPr id="131" name="200403190004138" descr=""/>
          <p:cNvPicPr/>
          <p:nvPr/>
        </p:nvPicPr>
        <p:blipFill>
          <a:blip r:embed="rId4"/>
          <a:stretch/>
        </p:blipFill>
        <p:spPr>
          <a:xfrm>
            <a:off x="762120" y="396252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image01" descr=""/>
          <p:cNvPicPr/>
          <p:nvPr/>
        </p:nvPicPr>
        <p:blipFill>
          <a:blip r:embed="rId5"/>
          <a:stretch/>
        </p:blipFill>
        <p:spPr>
          <a:xfrm>
            <a:off x="5105520" y="3962520"/>
            <a:ext cx="3273480" cy="2133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44280"/>
            <a:ext cx="52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lk about the weather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3114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59240" y="311472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15480" y="608652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utum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34840" y="60102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n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27hourse022" descr=""/>
          <p:cNvPicPr/>
          <p:nvPr/>
        </p:nvPicPr>
        <p:blipFill>
          <a:blip r:embed="rId6"/>
          <a:stretch/>
        </p:blipFill>
        <p:spPr>
          <a:xfrm>
            <a:off x="7696080" y="61920"/>
            <a:ext cx="1219320" cy="98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07:46:12Z</dcterms:created>
  <dc:creator>kxc</dc:creator>
  <dc:description/>
  <dc:language>en-US</dc:language>
  <cp:lastModifiedBy>kxc</cp:lastModifiedBy>
  <dcterms:modified xsi:type="dcterms:W3CDTF">2004-06-03T02:24:07Z</dcterms:modified>
  <cp:revision>124</cp:revision>
  <dc:subject/>
  <dc:title>Hyf </dc:title>
</cp:coreProperties>
</file>