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9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gif" ContentType="image/gif"/>
  <Override PartName="/ppt/media/image3.jpeg" ContentType="image/jpeg"/>
  <Override PartName="/ppt/media/image6.png" ContentType="image/png"/>
  <Override PartName="/ppt/media/image12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EF8-7792-40DD-8592-9CD10A0C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A80-F1AB-431A-A685-4B9E4252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229-DC0B-4CB3-A9C1-56B08A48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F94-4171-4924-B2D4-25DCC831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9A5-64EB-47F1-8882-70A4F507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84A-41D7-42BA-A15E-1B876F3D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541-787B-4FC9-B6D6-A6673BBD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BC1-0E37-42A5-A30C-9B977E3E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F8D-990F-485F-9C58-4E63F3F7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627-7F51-45B4-8F05-A4FE3475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7C8-F4F3-4320-AC73-E6C2DD5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807-AA6C-4AAC-96EC-0E517B4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16A-47AD-49F7-96A5-FBC0970722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" Target="slide4.xml"/><Relationship Id="rId11" Type="http://schemas.openxmlformats.org/officeDocument/2006/relationships/image" Target="../media/image15.gif"/><Relationship Id="rId12" Type="http://schemas.openxmlformats.org/officeDocument/2006/relationships/slide" Target="slide5.xml"/><Relationship Id="rId13" Type="http://schemas.openxmlformats.org/officeDocument/2006/relationships/image" Target="../media/image1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ck" descr=""/>
          <p:cNvPicPr/>
          <p:nvPr/>
        </p:nvPicPr>
        <p:blipFill>
          <a:blip r:embed="rId1"/>
          <a:stretch/>
        </p:blipFill>
        <p:spPr>
          <a:xfrm>
            <a:off x="0" y="-763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457200"/>
            <a:ext cx="5486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52578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2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rd" descr=""/>
          <p:cNvPicPr/>
          <p:nvPr/>
        </p:nvPicPr>
        <p:blipFill>
          <a:blip r:embed="rId2"/>
          <a:stretch/>
        </p:blipFill>
        <p:spPr>
          <a:xfrm>
            <a:off x="7886880" y="190512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shakhand" descr=""/>
          <p:cNvPicPr/>
          <p:nvPr/>
        </p:nvPicPr>
        <p:blipFill>
          <a:blip r:embed="rId3"/>
          <a:stretch/>
        </p:blipFill>
        <p:spPr>
          <a:xfrm>
            <a:off x="3606840" y="2666880"/>
            <a:ext cx="22604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1640" y="838080"/>
            <a:ext cx="96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4. New functions are being added to the 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9960" y="1523880"/>
            <a:ext cx="59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his sentence is in the fo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Present Continuous Passive Voice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5320" y="274320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Subject + be + being + p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5080" y="3557520"/>
            <a:ext cx="83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They are building a computer center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160" y="4929120"/>
            <a:ext cx="89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A computer cente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is being built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y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them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411480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81080" y="45720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MEWOR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746280" y="324468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your everyday free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419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some sentences you think difficult to understand, and try to get the main meaning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title9" descr=""/>
          <p:cNvPicPr/>
          <p:nvPr/>
        </p:nvPicPr>
        <p:blipFill>
          <a:blip r:embed="rId1"/>
          <a:stretch/>
        </p:blipFill>
        <p:spPr>
          <a:xfrm>
            <a:off x="4038480" y="838080"/>
            <a:ext cx="308160" cy="274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1906560"/>
            <a:ext cx="77119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list as many effects in our daily life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de by modern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1600200"/>
            <a:ext cx="5257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See You Next Ti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3340800" y="483696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Copy right@ William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2003.11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J_034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2286000"/>
            <a:ext cx="57150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914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1404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5880" y="13712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81080" y="44956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437920" y="15998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44956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47680" y="3024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Call family when mi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4320" y="607536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sk for help when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1200" y="1974960"/>
            <a:ext cx="5461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75840" y="2154960"/>
            <a:ext cx="54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j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57280" y="55418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 WORLD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4520" y="1087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Mini-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oto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1905120" cy="2012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5520" y="312408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65920" y="320040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lxt60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alxt68" descr=""/>
          <p:cNvPicPr/>
          <p:nvPr/>
        </p:nvPicPr>
        <p:blipFill>
          <a:blip r:embed="rId2"/>
          <a:stretch/>
        </p:blipFill>
        <p:spPr>
          <a:xfrm>
            <a:off x="3733920" y="0"/>
            <a:ext cx="1371600" cy="2308320"/>
          </a:xfrm>
          <a:prstGeom prst="rect">
            <a:avLst/>
          </a:prstGeom>
          <a:ln w="0">
            <a:noFill/>
          </a:ln>
        </p:spPr>
      </p:pic>
      <p:pic>
        <p:nvPicPr>
          <p:cNvPr id="67" name="motoa760" descr=""/>
          <p:cNvPicPr/>
          <p:nvPr/>
        </p:nvPicPr>
        <p:blipFill>
          <a:blip r:embed="rId3"/>
          <a:stretch/>
        </p:blipFill>
        <p:spPr>
          <a:xfrm>
            <a:off x="3809880" y="3809880"/>
            <a:ext cx="147348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nokia7250" descr=""/>
          <p:cNvPicPr/>
          <p:nvPr/>
        </p:nvPicPr>
        <p:blipFill>
          <a:blip r:embed="rId4"/>
          <a:stretch/>
        </p:blipFill>
        <p:spPr>
          <a:xfrm>
            <a:off x="1752480" y="1752480"/>
            <a:ext cx="134640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xmemol66" descr=""/>
          <p:cNvPicPr/>
          <p:nvPr/>
        </p:nvPicPr>
        <p:blipFill>
          <a:blip r:embed="rId5"/>
          <a:stretch/>
        </p:blipFill>
        <p:spPr>
          <a:xfrm>
            <a:off x="0" y="411480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siemensm55" descr=""/>
          <p:cNvPicPr/>
          <p:nvPr/>
        </p:nvPicPr>
        <p:blipFill>
          <a:blip r:embed="rId6"/>
          <a:stretch/>
        </p:blipFill>
        <p:spPr>
          <a:xfrm>
            <a:off x="7238880" y="3809880"/>
            <a:ext cx="139716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xelibri4" descr=""/>
          <p:cNvPicPr/>
          <p:nvPr/>
        </p:nvPicPr>
        <p:blipFill>
          <a:blip r:embed="rId7"/>
          <a:stretch/>
        </p:blipFill>
        <p:spPr>
          <a:xfrm>
            <a:off x="6934320" y="228600"/>
            <a:ext cx="15494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bdnvrenxinf1" descr=""/>
          <p:cNvPicPr/>
          <p:nvPr/>
        </p:nvPicPr>
        <p:blipFill>
          <a:blip r:embed="rId8"/>
          <a:stretch/>
        </p:blipFill>
        <p:spPr>
          <a:xfrm>
            <a:off x="4038480" y="2206800"/>
            <a:ext cx="954360" cy="1908000"/>
          </a:xfrm>
          <a:prstGeom prst="rect">
            <a:avLst/>
          </a:prstGeom>
          <a:ln w="0">
            <a:noFill/>
          </a:ln>
        </p:spPr>
      </p:pic>
      <p:pic>
        <p:nvPicPr>
          <p:cNvPr id="73" name="nokia3510" descr=""/>
          <p:cNvPicPr/>
          <p:nvPr/>
        </p:nvPicPr>
        <p:blipFill>
          <a:blip r:embed="rId9"/>
          <a:stretch/>
        </p:blipFill>
        <p:spPr>
          <a:xfrm>
            <a:off x="5486400" y="1752480"/>
            <a:ext cx="133344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8040" y="289080"/>
            <a:ext cx="62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How can you descri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these cellph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and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04920" y="2666880"/>
            <a:ext cx="1028520" cy="708120"/>
          </a:xfrm>
          <a:prstGeom prst="rect">
            <a:avLst/>
          </a:prstGeom>
          <a:ln w="0">
            <a:noFill/>
          </a:ln>
        </p:spPr>
      </p:pic>
      <p:pic>
        <p:nvPicPr>
          <p:cNvPr id="76" name="forward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28600" y="3581280"/>
            <a:ext cx="1371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4648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J_025" descr=""/>
          <p:cNvPicPr/>
          <p:nvPr/>
        </p:nvPicPr>
        <p:blipFill>
          <a:blip r:embed="rId1"/>
          <a:stretch/>
        </p:blipFill>
        <p:spPr>
          <a:xfrm>
            <a:off x="5867280" y="467352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4440" y="5075280"/>
            <a:ext cx="260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华文彩云"/>
                <a:ea typeface="华文彩云"/>
              </a:rPr>
              <a:t>TIP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2200" y="3124080"/>
            <a:ext cx="316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How much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4520" y="33480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41280" y="411120"/>
            <a:ext cx="31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iz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7680" y="163044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hap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400" y="2971800"/>
            <a:ext cx="35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materia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made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05480" y="162720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features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ack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6019920"/>
            <a:ext cx="160020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920" y="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elow is an </a:t>
            </a:r>
            <a:r>
              <a:rPr b="1" i="1" lang="zh-CN" sz="3200" spc="-1" strike="noStrike" u="sng">
                <a:solidFill>
                  <a:srgbClr val="808000"/>
                </a:solidFill>
                <a:uFillTx/>
                <a:latin typeface="黑体"/>
                <a:ea typeface="黑体"/>
              </a:rPr>
              <a:t>outlin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of the text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ellphones. Look at the outline.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try to fill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3080" y="1339920"/>
            <a:ext cx="876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ang Mei is an example of Chinese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ho hav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" y="2238480"/>
            <a:ext cx="77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. Cellphones can be used for man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For example: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698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Talking to people, send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nd pictures,playing games, listening to music, keeping appoi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040" y="38862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. Cellphones also cause prob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2400" y="449568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). In school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9400" y="441972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ellphones may disturb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46040" y="4952880"/>
            <a:ext cx="72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2). At home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5480" y="4892760"/>
            <a:ext cx="91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tudents may spend too much tim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oney on phone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6440" y="1295280"/>
            <a:ext cx="786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. There are several reasons why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lik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5040" y="2362320"/>
            <a:ext cx="73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1).Cellphones help us stay in touch with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4880" y="32004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2). Cellphones make us feel sa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0280" y="38098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3). Cellphones are fun and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4419720"/>
            <a:ext cx="7905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4). Wang Mei explains why she likes her cell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what she uses it for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480" y="45720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urther understanding of the tex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68840" y="1295280"/>
            <a:ext cx="97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1.Wang Mei puts her hand into her pocket,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out her red cellphone, and press the talk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200" y="240660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ellph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1240" y="24526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114800"/>
            <a:ext cx="2895480" cy="137160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36232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197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2720" y="3648240"/>
            <a:ext cx="60696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9680" y="3383280"/>
            <a:ext cx="606960" cy="27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3600" y="309240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RDLESS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19120" y="57913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VISION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8440" y="762120"/>
            <a:ext cx="83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2.I should be home in about 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1080" y="13716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应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040" y="1828800"/>
            <a:ext cx="86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You should not use your cellphone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1080" y="243828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560" y="2909880"/>
            <a:ext cx="78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I think you should think it over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do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1080" y="38862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7280" y="4257720"/>
            <a:ext cx="847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We’ve got everything ready. There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be no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1080" y="52578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440" y="762120"/>
            <a:ext cx="86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3.Cellphones make it possible for us to 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to anyone from any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480" y="1905120"/>
            <a:ext cx="71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talk to anyone from anywher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92200" y="365760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还可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do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7280" y="2666880"/>
            <a:ext cx="68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 think it important to learn English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5880" y="4511520"/>
            <a:ext cx="705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t is impossible for him to turn down s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 requ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6:29:51Z</dcterms:created>
  <dc:creator>William Qiu</dc:creator>
  <dc:description/>
  <cp:keywords>Life on the go</cp:keywords>
  <dc:language>en-US</dc:language>
  <cp:lastModifiedBy>hj</cp:lastModifiedBy>
  <dcterms:modified xsi:type="dcterms:W3CDTF">2003-11-10T13:02:19Z</dcterms:modified>
  <cp:revision>16</cp:revision>
  <dc:subject>Reading</dc:subject>
  <dc:title>Life On The Go</dc:title>
</cp:coreProperties>
</file>