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6.png" ContentType="image/png"/>
  <Override PartName="/ppt/media/image3.gif" ContentType="image/gi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7C9-4863-4BDE-9FFA-09878B11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EBB-EA4F-49EF-A607-CF8800E6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793-716A-4585-9236-6901AC76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CBD-960F-4631-B09D-E7AC4A6F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96E-CC97-444E-8D7F-E80BA9B3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E88-F144-4B80-9266-8FA9D5F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D44-D262-4703-8059-EA1E8AC0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0D1-0AD2-4962-A229-8765C093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6A0-8C89-42CD-BA53-3912E1F2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2B3-9B83-443E-981F-40FF645E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318-3D0F-40AE-A6D0-119C7096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8C7-D47A-4F51-986B-2B10089F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B8E5-6E1F-4F16-A019-66DC226AA5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600" y="9810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760" y="1447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8600" y="2428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40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76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560" y="4867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400" y="5816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640" y="380880"/>
            <a:ext cx="9137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.Europe      B Africa C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7520" y="330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7760" y="1057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51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3600" y="3606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5600" y="5054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53400" y="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9000" y="47628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080" y="933480"/>
            <a:ext cx="741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)The old house has been handed down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4760" y="1771560"/>
            <a:ext cx="80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)In poor families,clothes may be hand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3160" y="2610000"/>
            <a:ext cx="836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the elders = the old people. Elder is used her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 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920" y="3657600"/>
            <a:ext cx="86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(the oldest form of art )yet discovered on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20" y="4038480"/>
            <a:ext cx="563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so far disco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that has been discovered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560" y="495288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840" y="54100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000" y="54100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7720" y="601020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080" y="762120"/>
            <a:ext cx="73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be/become experienced at/in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8400" y="1390680"/>
            <a:ext cx="55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She is an experienced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1000" y="1981080"/>
            <a:ext cx="72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They were quite experienced at tea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9920" y="2895480"/>
            <a:ext cx="78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He is quite experienced in this kind of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0760" y="3429000"/>
            <a:ext cx="39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 make up = co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4320" y="4038480"/>
            <a:ext cx="73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irl students make up 80%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6080" y="4952880"/>
            <a:ext cx="732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 particularly the police: The police tre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Kooris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142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70600" y="685800"/>
            <a:ext cx="377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759040"/>
            <a:ext cx="7391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pyright:Dennis Chengw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E-mail:DennisChengwu@Ch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920" y="48006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he%20opera%20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87720" y="579132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800600" y="0"/>
          <a:ext cx="43434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0"/>
                    <a:ext cx="4343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0"/>
          <a:ext cx="4800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800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00600" y="1752480"/>
          <a:ext cx="434340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752480"/>
                    <a:ext cx="4343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3352680"/>
          <a:ext cx="434340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352680"/>
                    <a:ext cx="43434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1752480"/>
          <a:ext cx="480060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752480"/>
                    <a:ext cx="4800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352680"/>
          <a:ext cx="480060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352680"/>
                    <a:ext cx="48006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5029200"/>
          <a:ext cx="4800600" cy="182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029200"/>
                    <a:ext cx="4800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800600" y="5029200"/>
          <a:ext cx="4343400" cy="182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00600" y="5029200"/>
                    <a:ext cx="4343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sfd</cp:lastModifiedBy>
  <dcterms:modified xsi:type="dcterms:W3CDTF">2001-09-21T18:39:57Z</dcterms:modified>
  <cp:revision>36</cp:revision>
  <dc:subject/>
  <dc:title>PowerPoint 演示文稿</dc:title>
</cp:coreProperties>
</file>