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08CE1-90B0-4548-ACD2-F397E22AE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C7880-A850-4EF2-8725-06F832F6D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9637B-D37E-4CF5-889E-4599E6C86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76BAB-217E-45C0-8C1D-B0078E201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C6281-9329-4452-8255-F2281B386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C3AC8-FB40-48B7-BFD9-00CC4A66E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F8670-3A7A-4D9B-A93F-F95C36203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FE6F9-2B9D-41EA-A19E-7A497E983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48909-F589-4CDB-BD6C-565F0CA91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FF6D9-D506-4A71-AB97-0555D1253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6C9DE-0023-49D1-B83B-ABE67E3DA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54F1D-B249-4E28-A507-A21A982B1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C490B-B9CB-4580-BD16-D4476CACB30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3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3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4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9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4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4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4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4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4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4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3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3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3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3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3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3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3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04T03:12:36Z</dcterms:created>
  <dc:creator>USER13</dc:creator>
  <dc:description/>
  <dc:language>en-US</dc:language>
  <cp:lastModifiedBy>USER13</cp:lastModifiedBy>
  <dcterms:modified xsi:type="dcterms:W3CDTF">2002-05-04T03:16:18Z</dcterms:modified>
  <cp:revision>1</cp:revision>
  <dc:subject/>
  <dc:title>PowerPoint 演示文稿</dc:title>
</cp:coreProperties>
</file>