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3E8-07B6-41FC-ACA0-38FC4A18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58D-673C-43F1-9904-C5B20F11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E32-43AD-4051-AC2E-C2EBE4D7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845-FB07-4338-A0B0-94C7676F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085-F308-41AC-982C-6901494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453-E4BE-486D-A7DD-31B6FBF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57B-A486-4D4F-8207-F913DBB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28C-161B-4D4C-B25C-5AD4F562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D34-BCE4-4423-A8F3-3FE7F2C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CC9-B3F9-464D-90D8-BEC8764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231-4E80-47EA-98E4-E8664CE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9F4-DAEE-416F-AF64-BB58682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1AFE-7855-4AAE-89DF-C5C859291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" Target="slide4.xml"/><Relationship Id="rId11" Type="http://schemas.openxmlformats.org/officeDocument/2006/relationships/image" Target="../media/image15.gif"/><Relationship Id="rId12" Type="http://schemas.openxmlformats.org/officeDocument/2006/relationships/slide" Target="slide5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45720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2578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rd" descr=""/>
          <p:cNvPicPr/>
          <p:nvPr/>
        </p:nvPicPr>
        <p:blipFill>
          <a:blip r:embed="rId2"/>
          <a:stretch/>
        </p:blipFill>
        <p:spPr>
          <a:xfrm>
            <a:off x="7886880" y="190512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shakhand" descr=""/>
          <p:cNvPicPr/>
          <p:nvPr/>
        </p:nvPicPr>
        <p:blipFill>
          <a:blip r:embed="rId3"/>
          <a:stretch/>
        </p:blipFill>
        <p:spPr>
          <a:xfrm>
            <a:off x="3606840" y="266688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1640" y="838080"/>
            <a:ext cx="96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. New functions are being added to the 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9960" y="1523880"/>
            <a:ext cx="59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his sentence is in the fo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Present Continuous Passive Voice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5320" y="27432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ubject + be + being + p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5080" y="35575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hey are building a computer center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160" y="492912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A computer cente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is being built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y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them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1148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8108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32446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your everyday free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19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some sentences you think difficult to understand, and try to get the main meaning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title9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308160" cy="27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1906560"/>
            <a:ext cx="7711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list as many effects in our daily lif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by modern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16002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See You Next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340800" y="48369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opy right@ William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2003.11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2286000"/>
            <a:ext cx="5715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140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5880" y="1371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599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495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7680" y="302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Call family when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60753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sk for help when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74960"/>
            <a:ext cx="546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5840" y="2154960"/>
            <a:ext cx="54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j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7280" y="5541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 WORLD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4520" y="1087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Mini-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to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905120" cy="2012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5520" y="31240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320040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xt60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alxt68" descr=""/>
          <p:cNvPicPr/>
          <p:nvPr/>
        </p:nvPicPr>
        <p:blipFill>
          <a:blip r:embed="rId2"/>
          <a:stretch/>
        </p:blipFill>
        <p:spPr>
          <a:xfrm>
            <a:off x="3733920" y="0"/>
            <a:ext cx="1371600" cy="2308320"/>
          </a:xfrm>
          <a:prstGeom prst="rect">
            <a:avLst/>
          </a:prstGeom>
          <a:ln w="0">
            <a:noFill/>
          </a:ln>
        </p:spPr>
      </p:pic>
      <p:pic>
        <p:nvPicPr>
          <p:cNvPr id="67" name="motoa760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14734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nokia7250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34640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xmemol66" descr=""/>
          <p:cNvPicPr/>
          <p:nvPr/>
        </p:nvPicPr>
        <p:blipFill>
          <a:blip r:embed="rId5"/>
          <a:stretch/>
        </p:blipFill>
        <p:spPr>
          <a:xfrm>
            <a:off x="0" y="411480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siemensm55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1397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xelibri4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5494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bdnvrenxinf1" descr=""/>
          <p:cNvPicPr/>
          <p:nvPr/>
        </p:nvPicPr>
        <p:blipFill>
          <a:blip r:embed="rId8"/>
          <a:stretch/>
        </p:blipFill>
        <p:spPr>
          <a:xfrm>
            <a:off x="4038480" y="2206800"/>
            <a:ext cx="954360" cy="1908000"/>
          </a:xfrm>
          <a:prstGeom prst="rect">
            <a:avLst/>
          </a:prstGeom>
          <a:ln w="0">
            <a:noFill/>
          </a:ln>
        </p:spPr>
      </p:pic>
      <p:pic>
        <p:nvPicPr>
          <p:cNvPr id="73" name="nokia3510" descr=""/>
          <p:cNvPicPr/>
          <p:nvPr/>
        </p:nvPicPr>
        <p:blipFill>
          <a:blip r:embed="rId9"/>
          <a:stretch/>
        </p:blipFill>
        <p:spPr>
          <a:xfrm>
            <a:off x="5486400" y="1752480"/>
            <a:ext cx="13334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8040" y="2890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How can you descri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these cellph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nd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920" y="2666880"/>
            <a:ext cx="102852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forward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648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J_025" descr=""/>
          <p:cNvPicPr/>
          <p:nvPr/>
        </p:nvPicPr>
        <p:blipFill>
          <a:blip r:embed="rId1"/>
          <a:stretch/>
        </p:blipFill>
        <p:spPr>
          <a:xfrm>
            <a:off x="5867280" y="467352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440" y="507528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华文彩云"/>
                <a:ea typeface="华文彩云"/>
              </a:rPr>
              <a:t>T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2200" y="3124080"/>
            <a:ext cx="31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How much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33480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1280" y="4111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iz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80" y="1630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hap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400" y="2971800"/>
            <a:ext cx="35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materi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mad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480" y="162720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feature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6019920"/>
            <a:ext cx="16002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920" y="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elow is an </a:t>
            </a:r>
            <a:r>
              <a:rPr b="1" i="1" lang="zh-CN" sz="3200" spc="-1" strike="noStrike" u="sng">
                <a:solidFill>
                  <a:srgbClr val="808000"/>
                </a:solidFill>
                <a:uFillTx/>
                <a:latin typeface="黑体"/>
                <a:ea typeface="黑体"/>
              </a:rPr>
              <a:t>outlin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of the tex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ellphones. Look at the outline.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try to fill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3080" y="1339920"/>
            <a:ext cx="87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ang Mei is an example of Chinese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ho hav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" y="223848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 Cellphones can be used for man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For example: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698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alking to people, send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nd pictures,playing games, listening to music, keeping appoi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040" y="3886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 Cellphones also cause prob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2400" y="44956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). In school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9400" y="441972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ellphones may disturb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495288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). At home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4892760"/>
            <a:ext cx="91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tudents may spend too much ti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ney on phon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6440" y="129528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 There are several reasons why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lik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5040" y="236232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1).Cellphones help us stay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880" y="32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2). Cellphones make us feel sa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0280" y="3809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3). Cellphones are fun and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4419720"/>
            <a:ext cx="790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4). Wang Mei explains why she likes her 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what she uses it for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80" y="45720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urther understanding of the tex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68840" y="1295280"/>
            <a:ext cx="97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1.Wang Mei puts her hand into her pocket,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out her red cellphone, and press the talk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240660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ellph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1240" y="24526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114800"/>
            <a:ext cx="2895480" cy="13716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62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97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2720" y="3648240"/>
            <a:ext cx="60696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9680" y="3383280"/>
            <a:ext cx="60696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3600" y="30924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RDLESS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9120" y="57913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VISION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440" y="76212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.I should be home in about 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1080" y="13716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040" y="1828800"/>
            <a:ext cx="86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You should not use your cellphone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1080" y="243828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560" y="290988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I think you should think it over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do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1080" y="38862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7280" y="4257720"/>
            <a:ext cx="847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We’ve got everything ready. There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be no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1080" y="52578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7621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3.Cellphones make it possible for us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to anyone from an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480" y="1905120"/>
            <a:ext cx="71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talk to anyone from anywher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365760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可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do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7280" y="2666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 think it important to learn English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5880" y="4511520"/>
            <a:ext cx="70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t is impossible for him to turn down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9:51Z</dcterms:created>
  <dc:creator>William Qiu</dc:creator>
  <dc:description/>
  <cp:keywords>Life on the go</cp:keywords>
  <dc:language>en-US</dc:language>
  <cp:lastModifiedBy>hj</cp:lastModifiedBy>
  <dcterms:modified xsi:type="dcterms:W3CDTF">2003-11-10T13:02:19Z</dcterms:modified>
  <cp:revision>16</cp:revision>
  <dc:subject>Reading</dc:subject>
  <dc:title>Life On The Go</dc:title>
</cp:coreProperties>
</file>