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243-20A0-4B44-96A5-7A8ECDE0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97F-6191-43E8-B09D-07DC7F8B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219-5E07-492F-A587-55DE5AB8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784-1744-4734-B3F7-D9B4C92D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32B-433E-45FE-8FDB-A74D7F30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626-A078-438B-B6C1-DE9DDCB0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D3D-5F6E-4027-83E4-5A982174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A42-4C47-4031-B652-1E0B92D8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747-7D1D-46F4-AFA0-2D95BDB1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278-3EFF-45F2-A0F6-E6CD396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4BC-7C73-47A6-ABA8-41679171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CB2-C8EB-4939-B76A-15D40005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A4EC-4EC4-4AD3-81C1-BC82A77FD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100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浙江椒江一中　田逢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8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11T01:33:40Z</dcterms:modified>
  <cp:revision>25</cp:revision>
  <dc:subject/>
  <dc:title>幻灯片 1</dc:title>
</cp:coreProperties>
</file>