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BAF7-7C0F-45B0-81F4-577E0CCB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83A3-8D4B-4E5B-9B37-8987E303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A1B9-96E1-4A9C-9AD6-36805021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188B-CF41-4463-9445-DEE83FD6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EBD5-4B20-4286-B8E1-2FB47652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58E9-D8C1-4F7E-BD16-55885003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3FBA-6B8C-412F-A2D7-5315C0CF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E13A-7C56-4CE0-AD6C-897F8899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5E82-F9B5-4D82-9A70-D9A6B219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CCB-836F-472A-A2EE-1745F2F5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8407-963A-4735-BAF9-EAF712BA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1F8-A78B-4425-B3D4-616C943B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F483-AB95-40CA-9E03-53C651ED92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1960" y="447840"/>
            <a:ext cx="854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. 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out of breath, we reached the top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untain and stopped __________the beauti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en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iring ; to admire         B. Being tired ; adm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ired; to admire            D. Tired ; adm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880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14120" y="243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四）定语从句专项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360" y="990720"/>
            <a:ext cx="9190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________ is useful to us is g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       B. what          C. that          D. wh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is factory _____ the foreign visitors visited last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         B. that         C. which           D. th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She will never forget the days ___ she spent in Beij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n          B. what         C. which            D. 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This is the school ___ my father worked thirty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B. when          C. which            D.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The text is one of the most interesting stories 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ed in the past three ye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have               B. that have bee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ich has              D. which has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34240" y="905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952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91840" y="2581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63040" y="349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34680" y="42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4800" y="295200"/>
            <a:ext cx="9021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llege won’t take on anyone ____ eyesight is w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o         B. whose         C. of whom        D.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Let me think of a proper situation ______ this sent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b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re        B. that           C. which          D. of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The man _______ you are talking is in the next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whom       B. about whom       C. who      D. 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is is the last factory ______ he used to work at, 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ers of ____ still have a good relationship with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; it                    B. which; who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at; which            D. which;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Here is the bicycle ________ in the sh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you saw it               B. that saw i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you saw                           D. you saw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77280" y="219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5760" y="114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4120" y="243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32767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40640" y="50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72720" y="152280"/>
            <a:ext cx="92667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Those _______ to take part in the game write down y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s, pl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o        B. who want       C. that wants       D. w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I, _______ your good friend, will try my best to hel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o is        B. what is         C. what am    D. who 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His walking-stick, ___ he can’t walk, was lost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B. with which    C. which   D. without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There are three libraries in our school, ___ were bui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ll of them             B. either of the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ll of which            D. both of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The reason ___ he can’t come is that he has to work l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cause           B. that             C. why            D.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34240" y="1362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67600" y="2657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39400" y="349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2460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9920" y="380880"/>
            <a:ext cx="9048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not the man __________ he used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at          B. that          C. which           D.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This is the only thing _______ I can do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at        B. which        C. that            D.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I don’t like the way ________ he spoke to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y that          B. what            C. by which         D.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They have decided to finish the work in time, 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think, is a wise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B. what        C. which            D. wh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The family  ______ I stayed with in New York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ing  to Beij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ich        B. whom         C. what         D. wh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40280" y="304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3280" y="1219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3280" y="2057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1100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81440" y="4181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8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3120" y="142920"/>
            <a:ext cx="85125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vity is not about getting high test scores,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igh IQ or sm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eems that creative thinking,one of the most hig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d skills in society,is a matter of hab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“think outside the box” is to try for new way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 a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new way of looking at a situation makes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us to discover new possi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rawing or a model will help you seei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may otherwise remain hid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057400" y="914400"/>
            <a:ext cx="45720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914400"/>
            <a:ext cx="22860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95480" y="62388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190512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23760" y="197172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igh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2743200"/>
            <a:ext cx="30456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90920" y="31910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3276720"/>
            <a:ext cx="8380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162920" y="434340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43800" y="4343400"/>
            <a:ext cx="22860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62920" y="44863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571500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10440" y="585792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63520" y="228600"/>
            <a:ext cx="8661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 thinkers aware of this and try to combine 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ld ideas in many different w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ll knew that for each new invention that work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t least ten that don’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where we go,we can hear about the ringing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ellphone and the tapping on a key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probably all want to find new ways to impro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life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uter keeps information in its memor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that’s clearly different from other kinds of stor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514600" y="609120"/>
            <a:ext cx="38088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609480"/>
            <a:ext cx="304920" cy="152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15000" y="6764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72400" y="198108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00960" y="197172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2819520"/>
            <a:ext cx="6094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00800" y="341964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67480" y="3429000"/>
            <a:ext cx="53352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572000"/>
            <a:ext cx="6858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34440" y="456264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495680"/>
            <a:ext cx="99072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624852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67400" y="601020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0492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8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582920" y="457200"/>
            <a:ext cx="3276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提出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顾虑到，顾及，为…作准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被困住、被陷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冲破、脱离与…的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有联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把…限制在…范围内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意识到，认识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相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毕竟、终究，到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既然、由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以这么快的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不断探索；反复试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许多；大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保持联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21840" y="380880"/>
            <a:ext cx="23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come up wit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67200" y="83808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allow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50280" y="1219320"/>
            <a:ext cx="15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get st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59080" y="1676520"/>
            <a:ext cx="27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reak away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87440" y="2147760"/>
            <a:ext cx="25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e connect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66040" y="2590920"/>
            <a:ext cx="16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limit…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43520" y="2909880"/>
            <a:ext cx="22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e aware of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66120" y="3443400"/>
            <a:ext cx="23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e similar to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38000" y="3809880"/>
            <a:ext cx="137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fte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85880" y="426708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now tha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48840" y="4724280"/>
            <a:ext cx="30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t such a high 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62520" y="5172120"/>
            <a:ext cx="23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rial and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92000" y="5629320"/>
            <a:ext cx="26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great many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87440" y="6010200"/>
            <a:ext cx="22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keep track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0880" y="380880"/>
            <a:ext cx="14385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8 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-169200" y="1438200"/>
            <a:ext cx="9611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m sorry I can’t go with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___________? Haven’t you agre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ow is it                 B. What i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y don’t you      D. What do you th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Doing your homework is a way to improve your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ores , and this is especially true ________it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room t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fore ; gets               B. as ; 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ince ; takes                D. when; come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6740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10800" y="3952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7280" y="447840"/>
            <a:ext cx="8971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you have anything in mind ___________you’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 for supp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Well, ___________is okay with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; anything              B. which ;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at ; whatever            D. where; some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s it the factory ___________you visited last wee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edible chopsticks are mad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/; that                  B. where ; whe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ere; that          D. /;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_________all the inventions have in common is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have succ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at ; that                B. That ;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at ; that                 D. That;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6344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96200" y="2505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8160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040" y="371520"/>
            <a:ext cx="8965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urse normally attracts 20 students per yea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up to half will be from overs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 which      B. for whom   C. with which   D. of 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Whenever I met her, _________was fairly frequen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I could see her sweet and hopeful sm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; that      B. which ;  /      C. it ; that      D. it ;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The British are not so familiar with different cul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other ways of doing things, _________is ofte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se in other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ich            B. what           C. so             D.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ere are many cases__________students obvi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ow a lot of English words and expressions b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ldn’t write a good ess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y            B. which       C. as             D.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53000" y="752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77080" y="1666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7764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06040" y="4714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3360" y="76320"/>
            <a:ext cx="89542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a new problem ________in the popularit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vate cars _________road conditions need to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ro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volving ; that              B. involved ;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involve ; where          D. to be involved;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We’re living in an age __________many thing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e on compu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ich       B. that       C. whose      D.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With a mask _________tightly over her face, it’s h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judge whether she was satisfied with the ans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itting       B. going         C. fixing      D. cov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News report said that the peace talk between the tw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ntries _________without reaching any agre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d broken down                B. had broken a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ad broken up                     D. had broken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62880" y="-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10600" y="2200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39000" y="3419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29520" y="5172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7760" y="371520"/>
            <a:ext cx="8934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 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’ve passed the driving test, why n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ive the car on your ow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cause        B. Since      C. Now that    D. So long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In the face of _________failure, it is important to k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good state of m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 ; /          B. the  ; /           C. / ; the         D. / ;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In the west you need _________that there are ti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occasions when certain types of clothes nee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 wo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ware                      B. to be a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getting to know      D. be awar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8160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39000" y="197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29360" y="3571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2400" y="371520"/>
            <a:ext cx="88232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e spring of the following year, these migr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rds return to the identical barn or tree 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cal district which they had left the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um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ormer    B. following     C. previous    D.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It is important for us to find good ways of do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ngs. __________, you will waste time doing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owever    B. Therefore      C. But      D. Otherw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It is a good idea to stand up and take a short wal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side when you _____________in doing math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get stuck                B. has difficu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feel hard                D. were stuck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53800" y="1209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7724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832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50:58Z</dcterms:modified>
  <cp:revision>12</cp:revision>
  <dc:subject/>
  <dc:title>PowerPoint Presentation</dc:title>
</cp:coreProperties>
</file>