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FD2B8-633E-4388-8D3F-2FC3C31E2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85DCC-E2E8-4EAC-BFF8-0C503AC00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03C52-718F-4ED7-9B3A-A61C3DB0D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0D47D-4780-49B4-B23F-8D0254777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FD9D2-8AAC-44EA-957F-3FC3AB259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54780-9535-4163-963C-7F2604D75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3208B-FB40-4DF1-9550-7304F8770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34B42-56CE-4E9D-BE51-9EF9F5CF9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4420A-40BE-434D-9734-3814BF281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597AD-DF1A-41F8-BD22-B5AE5C1B4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ED63B-A45B-4112-97BC-4573F20EA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755AC-EECB-4B7E-A027-260D40712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DD442-AEC5-4936-8207-7C9FF29F4A6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676520" y="3276720"/>
            <a:ext cx="4876560" cy="127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行楷"/>
              </a:rPr>
              <a:t>短语集萃</a:t>
            </a:r>
            <a:endParaRPr b="1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</p:spTree>
  </p:cSld>
  <p:transition spd="slow">
    <p:pull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2057400" y="3200400"/>
            <a:ext cx="4467240" cy="1695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Unit 16</a:t>
            </a:r>
            <a:endParaRPr b="1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 spd="slow">
    <p:pull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40040" y="152280"/>
            <a:ext cx="892080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r since the Civil War,the South has struggled to fi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ys to deal with their troubled pas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re are signs which a new,different South is co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 of its dark pas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eople of Atlanta struggled to create a new Sou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er slaves and slave owners could live togeth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pite of the hardships of the years,the people of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lanta continued to develop the are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injustices led Dr King to organise nonviolen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ions aimed at end segreg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200400" y="990720"/>
            <a:ext cx="68580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386040" y="60012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971800" y="1828800"/>
            <a:ext cx="838080" cy="7632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948480" y="1743120"/>
            <a:ext cx="79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h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8458200" y="2971800"/>
            <a:ext cx="304920" cy="4572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763120" y="3048120"/>
            <a:ext cx="380880" cy="4572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349400" y="3443400"/>
            <a:ext cx="11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676520" y="4038480"/>
            <a:ext cx="457200" cy="4572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462720" y="441000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400800" y="4495680"/>
            <a:ext cx="762120" cy="53352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191120" y="6172200"/>
            <a:ext cx="60948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919920" y="5705640"/>
            <a:ext cx="120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en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00"/>
                            </p:stCondLst>
                            <p:childTnLst>
                              <p:par>
                                <p:cTn id="25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42920" y="295200"/>
            <a:ext cx="894816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ke many other Southern cities,Atlanta is a pl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re hope and faith have replaced with fear and doub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outh still has many problems to deal with,and th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ople there are determined to make a new beginn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y hunted bison,a type of cattle used to exist in hug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umbers on the plains of Americ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e group of native Americans were forced to mo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way from their old hunting groun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0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y killed the bison and cut off the skins,which w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nt by the rail to cities to be sold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19920" y="762120"/>
            <a:ext cx="457200" cy="60948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301520" y="981000"/>
            <a:ext cx="8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wi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391520" y="1066680"/>
            <a:ext cx="609480" cy="38124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772400" y="2057400"/>
            <a:ext cx="60948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539400" y="2276640"/>
            <a:ext cx="69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b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10080" y="3123720"/>
            <a:ext cx="228600" cy="38124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638680" y="3200400"/>
            <a:ext cx="228600" cy="2286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158520" y="3343320"/>
            <a:ext cx="108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whi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600200" y="4648320"/>
            <a:ext cx="91440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386040" y="4486320"/>
            <a:ext cx="12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grou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752480" y="5943600"/>
            <a:ext cx="457200" cy="53352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158160" y="5934240"/>
            <a:ext cx="65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5880" y="6019920"/>
            <a:ext cx="685800" cy="4572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500"/>
                            </p:stCondLst>
                            <p:childTnLst>
                              <p:par>
                                <p:cTn id="28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500"/>
                            </p:stCondLst>
                            <p:childTnLst>
                              <p:par>
                                <p:cTn id="30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"/>
                            </p:stCondLst>
                            <p:childTnLst>
                              <p:par>
                                <p:cTn id="33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380880" y="228600"/>
            <a:ext cx="1285920" cy="48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Unit 16</a:t>
            </a:r>
            <a:endParaRPr b="1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43" name=""/>
          <p:cNvSpPr/>
          <p:nvPr/>
        </p:nvSpPr>
        <p:spPr>
          <a:xfrm>
            <a:off x="1265760" y="1057320"/>
            <a:ext cx="19987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烧毁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带起，剥夺走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一系列的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打死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为了纪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徒然，枉然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7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重新开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8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大量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9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与…达成协议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10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结果，因此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11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以吃…为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12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灭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350440" y="1004760"/>
            <a:ext cx="220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  <a:ea typeface="华文宋体"/>
              </a:rPr>
              <a:t>burn down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567600" y="1438200"/>
            <a:ext cx="188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华文宋体"/>
              </a:rPr>
              <a:t>take away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881080" y="1971720"/>
            <a:ext cx="185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  <a:ea typeface="华文宋体"/>
              </a:rPr>
              <a:t>a series of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20040" y="2276640"/>
            <a:ext cx="284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华文宋体"/>
              </a:rPr>
              <a:t>shoot …to death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806200" y="2733840"/>
            <a:ext cx="34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  <a:ea typeface="华文宋体"/>
              </a:rPr>
              <a:t>in honour/memory 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110040" y="3114720"/>
            <a:ext cx="139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华文宋体"/>
              </a:rPr>
              <a:t>in vain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882880" y="3571920"/>
            <a:ext cx="356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  <a:ea typeface="华文宋体"/>
              </a:rPr>
              <a:t>make a new begin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78320" y="4029120"/>
            <a:ext cx="27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华文宋体"/>
              </a:rPr>
              <a:t>in huge numb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569040" y="4486320"/>
            <a:ext cx="359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  <a:ea typeface="华文宋体"/>
              </a:rPr>
              <a:t>make agreements wi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414960" y="4867200"/>
            <a:ext cx="198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华文宋体"/>
              </a:rPr>
              <a:t>as a result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337920" y="5324400"/>
            <a:ext cx="117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  <a:ea typeface="华文宋体"/>
              </a:rPr>
              <a:t>live 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272320" y="5705640"/>
            <a:ext cx="139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华文宋体"/>
              </a:rPr>
              <a:t>die out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127160" y="523800"/>
            <a:ext cx="22701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13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轮流，反过来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14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对…有影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15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出售，减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16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出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17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不打扰；不理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18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冒险；碰运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19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以…结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568320" y="547560"/>
            <a:ext cx="141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  <a:ea typeface="华文宋体"/>
              </a:rPr>
              <a:t>in turn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110760" y="981000"/>
            <a:ext cx="273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  <a:ea typeface="华文宋体"/>
              </a:rPr>
              <a:t>have an effect 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185640" y="1362240"/>
            <a:ext cx="121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  <a:ea typeface="华文宋体"/>
              </a:rPr>
              <a:t>on sa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272320" y="1743120"/>
            <a:ext cx="127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put o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47760" y="2200320"/>
            <a:ext cx="236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leave sb. al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644280" y="2733840"/>
            <a:ext cx="223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take a ch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883240" y="3114720"/>
            <a:ext cx="197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end up wi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685800" y="2743200"/>
            <a:ext cx="7153200" cy="289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Comic Sans MS"/>
              </a:rPr>
              <a:t>Multiple choices </a:t>
            </a:r>
            <a:endParaRPr b="0" lang="en-US" sz="7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 spd="slow">
    <p:pull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304920" y="304920"/>
            <a:ext cx="1285920" cy="48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Unit 16</a:t>
            </a:r>
            <a:endParaRPr b="1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66" name=""/>
          <p:cNvSpPr/>
          <p:nvPr/>
        </p:nvSpPr>
        <p:spPr>
          <a:xfrm>
            <a:off x="153720" y="1209600"/>
            <a:ext cx="886464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riendship is like money : easier made than___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kept        B. to be kept    C. keeping   D. being kep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 There are three waiting –rooms in the new station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_________about 1, 000 passeng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seating      B. sat       C. seated       D. sit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. __________everything, the wolves had nowhere to h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mselv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Hunted                         B. Hunting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Having hunted            D. Were hun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. She came in,  ________ by a group of childr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following       B. followed    C. to follow   D. foll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301520" y="12096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053000" y="25052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129320" y="33433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86360" y="50198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291600" y="295200"/>
            <a:ext cx="867996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5. ---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y __________to the museum with me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--That’s a good ide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not go    B. don’t go      C. going        D. not go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. __________from space, the earth looks like a “bl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lanet”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Seeing      B. To see     C. Seen        D. Having se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. __________a reply , he decided to write another let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o h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Having not received          B. Not receiv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Not having received          D. Not receiv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. Remember___________my best regards to him wh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you wri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sending       B. send      C. sent       D.to se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500920" y="2192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281600" y="15908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357920" y="28861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958120" y="44863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3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76680" y="447840"/>
            <a:ext cx="89316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9.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ather than__________on a crowded bus, he alwa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efers__________a bicyc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ride ; ride                  B. ridding ; r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ride ; to ride             D. to ride ; ri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. __________in thought, he almost ran into the ca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 front of h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Losing        B. Having lost     C. Lost   D. To l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1. It  is useless _________argue with such a cruel pers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to try      B. trying      C. have tried    D. had tri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2. John is young, but we never knew _________you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 body with___________ a wise he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so ; so     B. such ; such      C. such ; so    D. so; su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81800" y="3715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57920" y="21240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110040" y="34196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387120" y="42577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0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289440" y="295200"/>
            <a:ext cx="868752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3. With the _________number of cars we have had t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uild many new roa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increased                      B. increasing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being creased               D. in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4. Her mother has greatly taken pride________wh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is son achieved in the exa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with       B. for       C. in          D. of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5. I will come on condition___________my parents a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vited, to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that          B. what           C. which         D. wh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6. I felt sad because he pretended__________me in th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tree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not to have seen               B. not to s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to have seen                      D. not see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881440" y="2192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615720" y="18194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167800" y="32670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234840" y="44863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89280" y="152280"/>
            <a:ext cx="892260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7.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ithout the air to hold some of the sun’s heat, th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arth at night____________, too cold for us to liv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would be freezing cold       B. will be freezing cold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would be frozen cold          D. can freeze cold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8. _________the little girl opened the window, a love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ird flew i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Though    B. The moment      C. Whether   D. Unl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9. ________the past, our life is much bett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Comparing with             B.  Be compa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To compare with             D. Compared wi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0. ---What can we do to help Jack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--All we can do is to try__________that he ought t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ork hard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making him to realize     B. making him real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to make him realize         D. to make him to real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339000" y="6001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357560" y="18194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205640" y="31147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939200" y="48672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s</cp:lastModifiedBy>
  <dcterms:modified xsi:type="dcterms:W3CDTF">2005-06-19T12:49:41Z</dcterms:modified>
  <cp:revision>11</cp:revision>
  <dc:subject/>
  <dc:title>PowerPoint Presentation</dc:title>
</cp:coreProperties>
</file>