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81FA-5F0A-472B-80F3-B9ECABDE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41BE-57BC-4ACF-8DEB-5F0DD4D0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7DB9-A7E5-469C-BE68-8181D2E5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B566-7699-4198-B35C-859CB2C5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D1F8-6848-4B5A-981A-1A0B3E66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A2D7-DC15-431C-974C-143AE222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9BFE-A699-4C1A-AF18-E2164F58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FBA5-A86E-484E-A07C-E2553313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CF67-7AF6-4765-8493-C323C7D0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FBE2-E793-427E-BB83-C1E4F996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4D79-7D11-4259-BCB2-3A97E95F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2DF8-ECDF-4C9C-96F4-3CA5441D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BF4A-ABB0-4C2A-895D-229BBEE198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0400" y="295200"/>
            <a:ext cx="8674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 people are in a position that they can 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cision about a person they h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ight as well to go stand upon the beach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e with the s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offered me with six times what you have j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ered,I would still take my pound of fle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an you hope for mercy yourself when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neith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hylock cuts deeply enough,I’ll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him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ll my he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76212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63600" y="67644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1600200"/>
            <a:ext cx="4572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48120" y="2124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2133720"/>
            <a:ext cx="3808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2895480"/>
            <a:ext cx="6094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0152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502920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81440" y="479124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586728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82000" y="593424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3352680"/>
            <a:ext cx="6858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93040" y="228600"/>
            <a:ext cx="8183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onio told him that all his ships were at the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he had no money at pre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sanio tried to keep Antonio from accept the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s,but Antonio treated them as a jo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is young,but I never knew so young a body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wise a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nyone tries to murder any citizen of Veni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thing what he owns shall be taken a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hall not have you killed,so that you would s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fference of our spir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228600"/>
            <a:ext cx="38088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53240" y="82872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95880" y="204804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ccep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733920"/>
            <a:ext cx="609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19160" y="31910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4952880"/>
            <a:ext cx="838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34680" y="46386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586728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14440" y="593424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762120"/>
            <a:ext cx="53352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7632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9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046880" y="558720"/>
            <a:ext cx="28112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就我所知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毕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在这个特别的情况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可怜…，怜惜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做…没用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还是做某事的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向某人宣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指控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撕毁，取消（合同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偿还，报答，报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与…相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有一个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任…摆布，由…掌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跪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40800" y="53352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as far as I know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8320" y="990720"/>
            <a:ext cx="16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after all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8520" y="1371600"/>
            <a:ext cx="35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in this particular c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39720" y="1905120"/>
            <a:ext cx="55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have mercy on …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或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how mercy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6080" y="3124080"/>
            <a:ext cx="336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pass judgment on s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31520" y="2666880"/>
            <a:ext cx="41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may/might as well do s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5560" y="3962520"/>
            <a:ext cx="12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ear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40280" y="441972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pay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5680" y="4800600"/>
            <a:ext cx="29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be/fall in love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20960" y="5181480"/>
            <a:ext cx="26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on one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6280" y="56386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at the mercy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31320" y="6095880"/>
            <a:ext cx="37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o down on one’s kn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57040" y="222408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’s useless doing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0040" y="3571920"/>
            <a:ext cx="21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e accused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3520" y="30492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9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-218880" y="990720"/>
            <a:ext cx="9740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I won’t lend you the car ________ you return it to 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morrow mor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now that                           B. even if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on condition that              D. un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Your house is  three time_________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e size    B. what if    C. as bigger as   D. the siz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________from his appearance, he doesn’t look like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honest m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Judging     B. Judged   C. To judge  D. Being ju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________late in the morning, Bob turned of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sleep     B. Sleeping     C. Sleep     D. Having sl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10600" y="905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63240" y="2733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53000" y="3419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29320" y="4791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91240" y="219240"/>
            <a:ext cx="87883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house rent is expensive. I’ve got about hal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 I had at home and I’m paying ________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s three times much       B. as much three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much as three times       D. three times as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How do you find the dishes in my restaurant ?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 ordered it ahead of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I read it in an 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I’ve never had such delicious dishes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It’s surprising that you asked me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He asked me 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pass him the red pe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hat I pass him the red pe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for passing him the red penci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if I passed him the red pe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432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63640" y="1895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6304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87280" y="528480"/>
            <a:ext cx="8318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ter everybody __________, the meeting beg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as seated   B. seated   C. was sat   D. took s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Did they_______any agreemen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rrive at   B. come  to   C. reach  D.  A, B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It is no use ________forward to _______Jack s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look; hearing      B. looking ;hearing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look ; hear         D. looking ; hear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---When will the train arrive at Liverpoo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The train attendant told me_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e train will arrive after half an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he train was going to arrive in half an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he train is going to arrive in half an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he train would arrive in half an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96200" y="447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77240" y="1362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10040" y="2200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2992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74880" y="219240"/>
            <a:ext cx="9126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ercy was shown_________the war priso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on              B. upon           C. to             D.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Have you tasted the ________of the frog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pork             B. flesh         C. beef         D. m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The judge ordered the prisoner _______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ets free          B. set free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 set free         D. would be set f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I was surprised that they finished _________half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work in such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less than                  B. no more t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not more than         D. more t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“Very well, dear, you ________have the evening dres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im suggested his w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hall         B. will        C. can       D. m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53400" y="66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24440" y="9050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2500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1080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29720" y="4867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1680" y="219240"/>
            <a:ext cx="8718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tle Tommy was reluctant to tell the headm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he had done the day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B. how        C. where      D.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Hope _______the best ; prepare_______the wor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or; /        B. / ; for       C. for ; for      D. with ;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His parents didn’t have enough money to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s higher edu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pay          B. pay for        C. pay off       D. pay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8652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43720" y="137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58360" y="2286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9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51:25Z</dcterms:modified>
  <cp:revision>19</cp:revision>
  <dc:subject/>
  <dc:title>PowerPoint Presentation</dc:title>
</cp:coreProperties>
</file>