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BEE-C6FD-409B-94C9-7EF9C277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175-22D4-49F3-A301-474F7BE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85B-D6DA-4F75-8FF2-91341835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2D1-3EDC-42E0-B8F7-53598285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E89-C10A-4DD6-9DE2-8B56753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CF8-6132-47F8-AFDE-D77600D9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004-7D37-419D-B7CB-D8C3DCD0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4CC-5392-4B6F-8FE8-37A81A0D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883-4DB8-4E7A-97DB-2BB2C46F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4C0-CDB1-4864-BD7E-D8B8996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487-6EB0-4B6B-944E-40BA762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2AE-2769-4986-81DB-AA41EB3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168-1EC2-41F8-9DAA-EACFBA1E2A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6240" y="219240"/>
            <a:ext cx="8259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people are trying to help,but I wish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n’t treat me as if I am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in the classroom,Xiaowen looks just like all 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uses a wheelchair to get around and ofte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a little longer to do everyda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re are more opportunities for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o make a contribution for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ollege,gifted disabled studentsreceiv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y need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143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8880" y="6001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1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80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048120"/>
            <a:ext cx="1522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326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952880"/>
            <a:ext cx="609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85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61722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617220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1280" y="5934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40" y="763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without disabilities also lea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ooperating to reach for their goals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very important for us to know that someone f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way is also struggling as we 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wo years,mentally disabled athletes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ether to take part in the Special Olymp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disability was considered being shamefu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ntally disabled received little treatmen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we have now realised that the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hat can be done to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57200"/>
            <a:ext cx="228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752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86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7800" y="18954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1240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7120" y="3114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1480" y="4714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0060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64771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040" y="60102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2720" y="1143000"/>
            <a:ext cx="208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穿上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做出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达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…里起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适应，调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习惯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多种方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…的比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角逐，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9880" y="105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dres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9360" y="15145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ke a contrib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3920" y="19717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matt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52120" y="23526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ach one’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0200" y="2833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lay a ro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400" y="3267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dju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2320" y="364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8120" y="4029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par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44863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more than on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680" y="4943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rticipa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5000" y="54007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pe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3400" y="585792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pe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-164520" y="1285920"/>
            <a:ext cx="963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Mrs. Smith is a woman with rich experience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rom whom    B. from which     C. whom      D.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_is quite natural , a beginner can’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 difficult task in an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B. As       C. Which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What will your mother give you as your birth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he promised to get a new bike ________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           B. for           C. on           D.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73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560" y="2505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456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880" y="219240"/>
            <a:ext cx="882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it with me and I’ll see what I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left             B. When leav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f you leave          D.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g snake , the little girl stood und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n ; screamed                 B. Seen ; sc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eeing ; screaming             D. Seeing ; scre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experiment ___________they had made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 succeeded 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ich     B. at which   C. which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manager had to go to Beijing on busines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3, _________happened to be his only so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    B. when       C. that  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9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564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53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320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720" y="371520"/>
            <a:ext cx="879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familiar with the boo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Yes. There was a time ________this book was q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hen     C. with which     D. ab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 newly built museum is ________larger tha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ny       B. great       C. much          D.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e are considering ________you to work with u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iting         B. invite         C. to invite    D. inv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He has only got one shirt, because all _________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rest shirts            B. the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left                        D. the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6560" y="75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78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74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80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800" y="371520"/>
            <a:ext cx="883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treat me __________a child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             B. for            C. at               D.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’ll send____________on her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y mother a gift            B. a gift for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 gift at my mother       D. a gift by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little girl is dirty from head to foot because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n the mud all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laying                 B. has 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s been playing         D. is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Would you like me to bring you a cup of coff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 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great pleasure!      B. Yes, you c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ood idea!                      D. That’s very kind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0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80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46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880" y="447840"/>
            <a:ext cx="897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nearly an hour___________the sleeping 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  B. before        C. since       D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What are you busy doing these day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the coming mid-term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paring                  B. Prepar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repare                D. To prepar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e looked around and found a man _________a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ick up                    B. to be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ick up                D.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4280" y="37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80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0160" y="371520"/>
            <a:ext cx="818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go with us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t ___________the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depend                  B. is all de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depends                 D. is all de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ich do you enjoy __________your spare ti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fing the Internet or reading no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pend                   B. spend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spend               D.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09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06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23Z</dcterms:modified>
  <cp:revision>6</cp:revision>
  <dc:subject/>
  <dc:title>PowerPoint Presentation</dc:title>
</cp:coreProperties>
</file>