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5F9-B416-47F8-8961-848B6C47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969-99EA-4268-BDFA-F62687BB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56F2-EE18-485A-A429-64036FC3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5AEC-F928-4C77-B75B-4A84263C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E72E-DD49-4ADB-8A80-5805387E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0B70-6AE9-4F05-B05E-696751D7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0284-FC49-4D2B-BD9D-9A3729CF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4113-7B89-4B9A-8F60-310CF254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04BF-2935-4284-AECD-D6117DC9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54B8-0724-4935-BA95-2472EE58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97A9-9062-4FDD-9C7F-C6BAA3E0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8FC-950A-4793-9D05-E455BD8A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9F02-9D57-4EE5-9AEF-9034358F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8293-1BA9-40F5-8DBD-B3BCE7F8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5ECE-098C-4DC0-B1EA-2017A100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1DD3-1999-4E92-A19B-8E3CC7C9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915C-4B64-4F0A-AD93-1873E11B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16C2-9296-4992-BF8D-9868C899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A0F-80F0-47C0-9C17-6B3363D0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58D4-0D25-415D-B351-46E6A7B6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25EE-2887-4DE9-8616-40DAEAF8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81F-CE0D-4BD5-92B3-38697B5F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2C31-F365-411A-8327-21BAB544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45CF-19AA-496F-8467-646118A2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A193-1351-4CA8-A83C-DDC7B3A80AB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944C-BF21-41B7-AEB3-7F2F7E3B85E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Arial"/>
              </a:rPr>
              <a:t>Unit 5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0" y="2438280"/>
            <a:ext cx="47242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Silver Scree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one with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the Wi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ffectional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Gone%20with%20the%20wind" descr=""/>
          <p:cNvPicPr/>
          <p:nvPr/>
        </p:nvPicPr>
        <p:blipFill>
          <a:blip r:embed="rId1"/>
          <a:stretch/>
        </p:blipFill>
        <p:spPr>
          <a:xfrm>
            <a:off x="0" y="0"/>
            <a:ext cx="444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Harry%20Potter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Homework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Write a curriculum vitae (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履历表）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of  your favorite actor/actress/director/producer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GulimChe"/>
                <a:ea typeface="GulimChe"/>
              </a:rPr>
              <a:t>Get as much information as much as possible through the Inter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BS00580_" descr=""/>
          <p:cNvPicPr/>
          <p:nvPr/>
        </p:nvPicPr>
        <p:blipFill>
          <a:blip r:embed="rId1"/>
          <a:stretch/>
        </p:blipFill>
        <p:spPr>
          <a:xfrm>
            <a:off x="5029200" y="4267080"/>
            <a:ext cx="2819520" cy="2522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76720" y="48006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228600" y="1676520"/>
            <a:ext cx="8915040" cy="4571640"/>
            <a:chOff x="228600" y="1676520"/>
            <a:chExt cx="8915040" cy="4571640"/>
          </a:xfrm>
        </p:grpSpPr>
        <p:grpSp>
          <p:nvGrpSpPr>
            <p:cNvPr id="122" name=""/>
            <p:cNvGrpSpPr/>
            <p:nvPr/>
          </p:nvGrpSpPr>
          <p:grpSpPr>
            <a:xfrm>
              <a:off x="235080" y="1681560"/>
              <a:ext cx="8900640" cy="4560840"/>
              <a:chOff x="235080" y="1681560"/>
              <a:chExt cx="8900640" cy="456084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235080" y="1681560"/>
                <a:ext cx="1922400" cy="844200"/>
                <a:chOff x="235080" y="1681560"/>
                <a:chExt cx="1922400" cy="8442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34800" y="1681560"/>
                  <a:ext cx="172296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irst nam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35080" y="1681560"/>
                  <a:ext cx="1922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2157840" y="1681560"/>
                <a:ext cx="1649160" cy="844200"/>
                <a:chOff x="2157840" y="1681560"/>
                <a:chExt cx="1649160" cy="844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257560" y="1681560"/>
                  <a:ext cx="144972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157840" y="1681560"/>
                  <a:ext cx="164916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807720" y="1681560"/>
                <a:ext cx="1231920" cy="844200"/>
                <a:chOff x="3807720" y="1681560"/>
                <a:chExt cx="1231920" cy="844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906720" y="1681560"/>
                  <a:ext cx="10328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ur-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name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807720" y="1681560"/>
                  <a:ext cx="12319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040000" y="1681560"/>
                <a:ext cx="1635120" cy="844200"/>
                <a:chOff x="5040000" y="1681560"/>
                <a:chExt cx="1635120" cy="844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139000" y="1681560"/>
                  <a:ext cx="14360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40000" y="1681560"/>
                  <a:ext cx="16351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675840" y="1681560"/>
                <a:ext cx="1301400" cy="844200"/>
                <a:chOff x="6675840" y="1681560"/>
                <a:chExt cx="1301400" cy="844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6775560" y="1681560"/>
                  <a:ext cx="110232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Gend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75840" y="1681560"/>
                  <a:ext cx="1301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977600" y="1681560"/>
                <a:ext cx="1158120" cy="844200"/>
                <a:chOff x="7977600" y="1681560"/>
                <a:chExt cx="1158120" cy="8442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8077320" y="1681560"/>
                  <a:ext cx="9590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977600" y="1681560"/>
                  <a:ext cx="11581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235080" y="2526120"/>
                <a:ext cx="1922400" cy="843840"/>
                <a:chOff x="235080" y="2526120"/>
                <a:chExt cx="1922400" cy="843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34800" y="2526120"/>
                  <a:ext cx="172296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irthday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35080" y="2526120"/>
                  <a:ext cx="192240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157840" y="2526120"/>
                <a:ext cx="1649160" cy="843840"/>
                <a:chOff x="2157840" y="2526120"/>
                <a:chExt cx="1649160" cy="8438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257560" y="2526120"/>
                  <a:ext cx="144972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57840" y="2526120"/>
                  <a:ext cx="164916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807720" y="2526120"/>
                <a:ext cx="1231920" cy="843840"/>
                <a:chOff x="3807720" y="2526120"/>
                <a:chExt cx="1231920" cy="8438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906720" y="2526120"/>
                  <a:ext cx="103284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irth-plac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807720" y="2526120"/>
                  <a:ext cx="123192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5040000" y="2526120"/>
                <a:ext cx="4095360" cy="843840"/>
                <a:chOff x="5040000" y="2526120"/>
                <a:chExt cx="4095360" cy="8438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139000" y="2526120"/>
                  <a:ext cx="389664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040000" y="2526120"/>
                  <a:ext cx="409536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35080" y="3370680"/>
                <a:ext cx="1922400" cy="675360"/>
                <a:chOff x="235080" y="3370680"/>
                <a:chExt cx="1922400" cy="6753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800" y="3370680"/>
                  <a:ext cx="172296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chooling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35080" y="3370680"/>
                  <a:ext cx="1922400" cy="67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157840" y="3370680"/>
                <a:ext cx="6977880" cy="675360"/>
                <a:chOff x="2157840" y="3370680"/>
                <a:chExt cx="6977880" cy="6753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257560" y="3370680"/>
                  <a:ext cx="677880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57840" y="3370680"/>
                  <a:ext cx="6977880" cy="67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35080" y="4046760"/>
                <a:ext cx="1922400" cy="675000"/>
                <a:chOff x="235080" y="4046760"/>
                <a:chExt cx="1922400" cy="675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34800" y="4046760"/>
                  <a:ext cx="17229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areer in film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35080" y="4046760"/>
                  <a:ext cx="192240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157840" y="4046760"/>
                <a:ext cx="6977880" cy="675000"/>
                <a:chOff x="2157840" y="4046760"/>
                <a:chExt cx="6977880" cy="675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257560" y="4046760"/>
                  <a:ext cx="67788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157840" y="4046760"/>
                  <a:ext cx="697788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35080" y="4722480"/>
                <a:ext cx="1922400" cy="675000"/>
                <a:chOff x="235080" y="4722480"/>
                <a:chExt cx="1922400" cy="675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4800" y="4722480"/>
                  <a:ext cx="17229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ilms &amp; rol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35080" y="4722480"/>
                  <a:ext cx="192240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157840" y="4722480"/>
                <a:ext cx="6977880" cy="675000"/>
                <a:chOff x="2157840" y="4722480"/>
                <a:chExt cx="6977880" cy="6750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257560" y="4722480"/>
                  <a:ext cx="67788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157840" y="4722480"/>
                  <a:ext cx="697788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5080" y="5398200"/>
                <a:ext cx="1922400" cy="844200"/>
                <a:chOff x="235080" y="5398200"/>
                <a:chExt cx="1922400" cy="8442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34800" y="5398200"/>
                  <a:ext cx="172296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Achievemen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(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宋体"/>
                    </a:rPr>
                    <a:t>成就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5080" y="5398200"/>
                  <a:ext cx="1922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157840" y="5398200"/>
                <a:ext cx="6977880" cy="844200"/>
                <a:chOff x="2157840" y="5398200"/>
                <a:chExt cx="6977880" cy="844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257560" y="5398200"/>
                  <a:ext cx="677880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157840" y="5398200"/>
                  <a:ext cx="697788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228600" y="1676520"/>
              <a:ext cx="8915040" cy="4571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2666880" y="60948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curriculum vita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19320" y="2209680"/>
            <a:ext cx="63244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THANK YOU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anic2" descr=""/>
          <p:cNvPicPr/>
          <p:nvPr/>
        </p:nvPicPr>
        <p:blipFill>
          <a:blip r:embed="rId1"/>
          <a:stretch/>
        </p:blipFill>
        <p:spPr>
          <a:xfrm>
            <a:off x="0" y="0"/>
            <a:ext cx="35593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or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res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recto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y a role of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win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scar Award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llywood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m typ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ffectional film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爱情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tective film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侦探片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racula film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恐怖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thical film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伦理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usicals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音乐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artoon film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卡通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cience and fiction film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科幻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ction film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动作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artial film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战争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orror film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惊险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81480" y="304560"/>
            <a:ext cx="3276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Titanic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5257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fectional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TITANICB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Matri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 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matrix" descr=""/>
          <p:cNvPicPr/>
          <p:nvPr/>
        </p:nvPicPr>
        <p:blipFill>
          <a:blip r:embed="rId1"/>
          <a:stretch/>
        </p:blipFill>
        <p:spPr>
          <a:xfrm>
            <a:off x="0" y="0"/>
            <a:ext cx="447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ding Ne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to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findingnemo_d" descr=""/>
          <p:cNvPicPr/>
          <p:nvPr/>
        </p:nvPicPr>
        <p:blipFill>
          <a:blip r:embed="rId1"/>
          <a:stretch/>
        </p:blipFill>
        <p:spPr>
          <a:xfrm>
            <a:off x="0" y="0"/>
            <a:ext cx="39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007 Die Another D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007_dieanotherday_b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Jurassic Pa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Jurassic%20park" descr=""/>
          <p:cNvPicPr/>
          <p:nvPr/>
        </p:nvPicPr>
        <p:blipFill>
          <a:blip r:embed="rId1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piderman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spiderman2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3:04:31Z</dcterms:created>
  <dc:creator> </dc:creator>
  <dc:description/>
  <dc:language>en-US</dc:language>
  <cp:lastModifiedBy> </cp:lastModifiedBy>
  <dcterms:modified xsi:type="dcterms:W3CDTF">2003-10-15T01:11:02Z</dcterms:modified>
  <cp:revision>8</cp:revision>
  <dc:subject/>
  <dc:title>Unit 5</dc:title>
</cp:coreProperties>
</file>