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30.png" ContentType="image/png"/>
  <Override PartName="/ppt/media/image27.jpeg" ContentType="image/jpeg"/>
  <Override PartName="/ppt/media/image13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31.wmf" ContentType="image/x-wmf"/>
  <Override PartName="/ppt/media/image1.wmf" ContentType="image/x-wmf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DB4-B440-4E26-9043-6F88D5F6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6A9-6BF8-43B2-99D1-B8370969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A91-5F24-4E0B-ADE5-CC468AA4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AE1-DEDE-4E18-99B9-88CF0680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9BA-2535-4616-A295-BBC023F4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8CB-3B17-4C34-8745-E482F6C7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272-8837-423B-911E-CB3E2752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FC0-4A6C-4E3D-8C05-BA4E1139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1B4-2191-4437-8AB7-04A0268B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F12-26F3-4850-8CE2-F73C6774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F03-A669-494C-A70A-68DE06C0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774-5151-4651-ACD5-27155D3A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9D80-F0C2-4D6D-8C79-5DF007FE3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2.wmf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-304920"/>
            <a:ext cx="70102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Escape From the Zo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6324480" cy="2616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43720" y="472428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浙江省宁波鄞江中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629400" y="5105520"/>
            <a:ext cx="19843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唐亚芬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陈亚红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未标题-1" descr=""/>
          <p:cNvPicPr/>
          <p:nvPr/>
        </p:nvPicPr>
        <p:blipFill>
          <a:blip r:embed="rId1"/>
          <a:stretch/>
        </p:blipFill>
        <p:spPr>
          <a:xfrm>
            <a:off x="0" y="228600"/>
            <a:ext cx="4724280" cy="3535200"/>
          </a:xfrm>
          <a:prstGeom prst="rect">
            <a:avLst/>
          </a:prstGeom>
          <a:ln w="0">
            <a:noFill/>
          </a:ln>
        </p:spPr>
      </p:pic>
      <p:pic>
        <p:nvPicPr>
          <p:cNvPr id="85" name="未标题-2" descr=""/>
          <p:cNvPicPr/>
          <p:nvPr/>
        </p:nvPicPr>
        <p:blipFill>
          <a:blip r:embed="rId2"/>
          <a:stretch/>
        </p:blipFill>
        <p:spPr>
          <a:xfrm>
            <a:off x="4572000" y="0"/>
            <a:ext cx="3886200" cy="4317840"/>
          </a:xfrm>
          <a:prstGeom prst="rect">
            <a:avLst/>
          </a:prstGeom>
          <a:ln w="0">
            <a:noFill/>
          </a:ln>
        </p:spPr>
      </p:pic>
      <p:pic>
        <p:nvPicPr>
          <p:cNvPr id="86" name="未标题-3" descr=""/>
          <p:cNvPicPr/>
          <p:nvPr/>
        </p:nvPicPr>
        <p:blipFill>
          <a:blip r:embed="rId3"/>
          <a:stretch/>
        </p:blipFill>
        <p:spPr>
          <a:xfrm>
            <a:off x="2514600" y="3433680"/>
            <a:ext cx="4572000" cy="3424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9000" y="4114800"/>
            <a:ext cx="205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c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ee,f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29400" y="196920"/>
            <a:ext cx="184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st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urn off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45440" y="41641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2440" y="4168800"/>
            <a:ext cx="2338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end 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c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1240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1143000"/>
            <a:ext cx="519120" cy="409680"/>
          </a:xfrm>
          <a:prstGeom prst="leftArrow">
            <a:avLst>
              <a:gd name="adj1" fmla="val 50000"/>
              <a:gd name="adj2" fmla="val 3167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809880"/>
            <a:ext cx="838080" cy="333360"/>
          </a:xfrm>
          <a:prstGeom prst="leftArrow">
            <a:avLst>
              <a:gd name="adj1" fmla="val 50000"/>
              <a:gd name="adj2" fmla="val 6285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未标题-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332240" cy="3243240"/>
          </a:xfrm>
          <a:prstGeom prst="rect">
            <a:avLst/>
          </a:prstGeom>
          <a:ln w="0">
            <a:noFill/>
          </a:ln>
        </p:spPr>
      </p:pic>
      <p:pic>
        <p:nvPicPr>
          <p:cNvPr id="95" name="未标题-5" descr=""/>
          <p:cNvPicPr/>
          <p:nvPr/>
        </p:nvPicPr>
        <p:blipFill>
          <a:blip r:embed="rId2"/>
          <a:stretch/>
        </p:blipFill>
        <p:spPr>
          <a:xfrm>
            <a:off x="3733920" y="0"/>
            <a:ext cx="4419360" cy="3309840"/>
          </a:xfrm>
          <a:prstGeom prst="rect">
            <a:avLst/>
          </a:prstGeom>
          <a:ln w="0">
            <a:noFill/>
          </a:ln>
        </p:spPr>
      </p:pic>
      <p:pic>
        <p:nvPicPr>
          <p:cNvPr id="96" name="未标题-6" descr=""/>
          <p:cNvPicPr/>
          <p:nvPr/>
        </p:nvPicPr>
        <p:blipFill>
          <a:blip r:embed="rId3"/>
          <a:stretch/>
        </p:blipFill>
        <p:spPr>
          <a:xfrm>
            <a:off x="2819520" y="3581280"/>
            <a:ext cx="3962160" cy="296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5640" y="3657600"/>
            <a:ext cx="258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ick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wing,th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,pick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,sh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8920" y="2209680"/>
            <a:ext cx="221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l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eighb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8920" y="4753080"/>
            <a:ext cx="202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,f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int,f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t,car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2895480"/>
            <a:ext cx="228600" cy="976320"/>
          </a:xfrm>
          <a:prstGeom prst="up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257800"/>
            <a:ext cx="838080" cy="152280"/>
          </a:xfrm>
          <a:prstGeom prst="leftArrow">
            <a:avLst>
              <a:gd name="adj1" fmla="val 50000"/>
              <a:gd name="adj2" fmla="val 137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2209680"/>
            <a:ext cx="976320" cy="257400"/>
          </a:xfrm>
          <a:prstGeom prst="leftArrow">
            <a:avLst>
              <a:gd name="adj1" fmla="val 50000"/>
              <a:gd name="adj2" fmla="val 9482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2667240" cy="2239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557880" cy="5106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952880" y="4419720"/>
            <a:ext cx="2667240" cy="196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S20006" descr=""/>
          <p:cNvPicPr/>
          <p:nvPr/>
        </p:nvPicPr>
        <p:blipFill>
          <a:blip r:embed="rId1"/>
          <a:stretch/>
        </p:blipFill>
        <p:spPr>
          <a:xfrm>
            <a:off x="0" y="0"/>
            <a:ext cx="1581120" cy="4809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28800" y="252360"/>
            <a:ext cx="7137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.What do you think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Mrs Cousins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.Do you have any other way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3480" y="3429000"/>
            <a:ext cx="647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3.Can we shoot the lion 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ea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8915400" cy="3178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3809880" cy="1995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057400" y="2514600"/>
            <a:ext cx="6781680" cy="2133720"/>
          </a:xfrm>
          <a:prstGeom prst="rect">
            <a:avLst/>
          </a:prstGeom>
          <a:solidFill>
            <a:srgbClr val="66ff33">
              <a:alpha val="50000"/>
            </a:srgbClr>
          </a:solidFill>
          <a:ln w="936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33520"/>
            <a:ext cx="3352680" cy="10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Good-bye!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057400"/>
            <a:ext cx="5335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1828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44756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3124440" cy="203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352680" cy="155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1295280"/>
            <a:ext cx="156852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828800" y="2057400"/>
            <a:ext cx="3048120" cy="178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181480" y="1600200"/>
            <a:ext cx="199080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639200" y="1143000"/>
            <a:ext cx="15048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380880" y="3733920"/>
            <a:ext cx="2286000" cy="137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6400800" y="3505320"/>
            <a:ext cx="246708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3276720" y="4495680"/>
            <a:ext cx="31240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80880" y="5559480"/>
            <a:ext cx="2438640" cy="1298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5410080" cy="2835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14400" y="914400"/>
            <a:ext cx="655308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hat happened in the text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772400" y="304920"/>
            <a:ext cx="72720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8195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Lion esca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72400" y="5715000"/>
            <a:ext cx="839880" cy="839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93720" y="552600"/>
            <a:ext cx="1767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cap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586480" y="0"/>
            <a:ext cx="3557520" cy="5106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3504960" cy="294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505320" y="3962520"/>
            <a:ext cx="2666880" cy="1969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2819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67080" y="609480"/>
            <a:ext cx="4876920" cy="3272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3400" y="441360"/>
            <a:ext cx="5360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x month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75 centimet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tree fel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angero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pal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f a different shap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48520" y="2666880"/>
            <a:ext cx="1447560" cy="1069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299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2495520" cy="3811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1640" y="301680"/>
            <a:ext cx="3016800" cy="69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is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urn off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k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and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c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ick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wing,attr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un and sh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flipH="1" rot="10800000"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8280" y="685800"/>
            <a:ext cx="922896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Mrs Cousins only telephoned the polic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he got inside the kit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.When the police arrived ten minutes la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e lion could be seen in the bushes eating the m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When the two keepers came they took a lo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lastic pipe and fitted something into one e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ointed at the lion and f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.The lion made a sudden angry nois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struggled to its feet, it 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They put the lion in a strong cage and carr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t to   the tr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.The keeper played a joke on Mrs  Cous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96080" y="1752480"/>
            <a:ext cx="760680" cy="11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952880" y="1371600"/>
            <a:ext cx="7621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X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05520" y="4800600"/>
            <a:ext cx="7617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X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248520" y="3429000"/>
            <a:ext cx="760320" cy="1119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934320" y="5738760"/>
            <a:ext cx="760320" cy="1119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657600" y="5257800"/>
            <a:ext cx="760320" cy="1119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3560" y="2057400"/>
            <a:ext cx="62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L----C----B----F----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J----I----D----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K----E----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615000" y="3200400"/>
            <a:ext cx="2529000" cy="365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480" y="533520"/>
            <a:ext cx="342900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Key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1:01:32Z</dcterms:created>
  <dc:creator>鄞江中学</dc:creator>
  <dc:description/>
  <dc:language>en-US</dc:language>
  <cp:lastModifiedBy>鄞江中学</cp:lastModifiedBy>
  <dcterms:modified xsi:type="dcterms:W3CDTF">2002-04-22T23:05:46Z</dcterms:modified>
  <cp:revision>38</cp:revision>
  <dc:subject/>
  <dc:title>没有幻灯片标题</dc:title>
</cp:coreProperties>
</file>