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gif" ContentType="image/gif"/>
  <Override PartName="/ppt/media/image4.gif" ContentType="image/gif"/>
  <Override PartName="/ppt/media/image5.gif" ContentType="image/gif"/>
  <Override PartName="/ppt/media/image10.gif" ContentType="image/gif"/>
  <Override PartName="/ppt/media/image6.gif" ContentType="image/gif"/>
  <Override PartName="/ppt/media/image11.gif" ContentType="image/gif"/>
  <Override PartName="/ppt/media/image7.gif" ContentType="image/gif"/>
  <Override PartName="/ppt/media/image8.gif" ContentType="image/gif"/>
  <Override PartName="/ppt/media/image9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666FD-412C-4A9D-A37A-4B9680061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C2A71-A32E-4B6D-B976-1150EE1C2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34A62-B4A6-42EC-A9EA-76D6BBC86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260EA-F89E-41F7-AD66-20BA98C88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7C908-553B-45DC-9AF5-3BE3DB96E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31837-8E96-43F2-B0ED-7FFE20234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1AC61-ECF7-483C-9FCA-0081BC9B8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D0C66-36AA-42BD-AA36-BA590BC7F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B428D-EB2F-4C5F-A621-657742907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D3521-D143-416F-B93A-47B5DA47F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74D99-D821-4DAB-BDE6-B9DE40E9E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7F0C2-9364-4E40-A362-7A1ACB0FF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A145A-D4A2-49AD-9D79-FBECF444B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E1026-ABED-453E-9F47-B0135FC29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3AAFF-E235-4CEE-A0BA-6A5EA869C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95B3D-21AC-4A36-BDD9-5C9949111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70422-C7D5-4F44-BC3A-B468D5919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E4803-8612-4F19-8A00-377A6A86A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63447-AEEE-4BB4-8610-E255830F8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1574C-238C-4079-B3AF-AFC377AFE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8A274-F455-4216-8114-EBB71420E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508B7-EB66-422F-8544-21CA58323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8D199-E279-40FA-B46A-3F71D9916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0F9B7-7B57-4793-B077-A836722AD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100000">
              <a:srgbClr val="9aeaf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F2E7C-AA05-40E5-83D5-834D2F6A5E47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100000">
              <a:srgbClr val="9aeaf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25571-2B3C-4352-BF7B-EB8C40284A71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audio" Target="file:///tmp/home/.config/libreoffice/4/user/gallery/whoosh.wav" TargetMode="External"/><Relationship Id="rId3" Type="http://schemas.microsoft.com/office/2007/relationships/media" Target="file:///tmp/home/.config/libreoffice/4/user/gallery/whoosh.wav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ccff"/>
            </a:gs>
            <a:gs pos="100000">
              <a:srgbClr val="9aeaf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SUN_02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 txBox="1"/>
          <p:nvPr/>
        </p:nvSpPr>
        <p:spPr>
          <a:xfrm rot="28800">
            <a:off x="2514600" y="1905120"/>
            <a:ext cx="4086360" cy="1093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20644"/>
                <a:gd name="adj2" fmla="val 95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ffffff"/>
                </a:solidFill>
                <a:effectLst>
                  <a:outerShdw dist="53966" dir="2700000" blurRad="0" rotWithShape="0">
                    <a:srgbClr val="c0c0c0"/>
                  </a:outerShdw>
                </a:effectLst>
                <a:latin typeface="Ravie"/>
              </a:rPr>
              <a:t>Lesson 53</a:t>
            </a:r>
            <a:endParaRPr b="1" i="1" lang="en-US" sz="4800" spc="1" strike="noStrike">
              <a:ln w="9360">
                <a:solidFill>
                  <a:srgbClr val="0000ff"/>
                </a:solidFill>
                <a:miter/>
              </a:ln>
              <a:solidFill>
                <a:srgbClr val="ffffff"/>
              </a:solidFill>
              <a:effectLst>
                <a:outerShdw dist="53966" dir="2700000" blurRad="0" rotWithShape="0">
                  <a:srgbClr val="c0c0c0"/>
                </a:outerShdw>
              </a:effectLst>
              <a:latin typeface="Ravie"/>
              <a:ea typeface="Ravie"/>
            </a:endParaRPr>
          </a:p>
        </p:txBody>
      </p:sp>
      <p:pic>
        <p:nvPicPr>
          <p:cNvPr id="100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228600" y="64008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4467960" y="4811760"/>
            <a:ext cx="34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9aeafe"/>
                </a:solidFill>
                <a:latin typeface="zypyyb"/>
                <a:ea typeface="zypyyb"/>
              </a:rPr>
              <a:t>By TianFengcha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495680" y="5334120"/>
            <a:ext cx="4648320" cy="13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00ccff"/>
                </a:solidFill>
                <a:latin typeface="幼圆"/>
                <a:ea typeface="幼圆"/>
              </a:rPr>
              <a:t>No.1 Middle School of Jiaojiang Taizhou,Zhejia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100000">
              <a:srgbClr val="9aeaf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838080" y="609480"/>
            <a:ext cx="77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ahoma"/>
              </a:rPr>
              <a:t>Listen to the tape and then answer th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315440" y="1143000"/>
            <a:ext cx="377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ahoma"/>
              </a:rPr>
              <a:t>following ques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301760" y="2133720"/>
            <a:ext cx="666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ff"/>
                </a:solidFill>
                <a:latin typeface="Tahoma"/>
              </a:rPr>
              <a:t>1.What are Jane and Zhou Lan talking abou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432080" y="2590920"/>
            <a:ext cx="502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66"/>
                </a:solidFill>
                <a:latin typeface="Tahoma"/>
              </a:rPr>
              <a:t>They are talking about their pla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447920" y="2971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286640" y="3124080"/>
            <a:ext cx="737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ff"/>
                </a:solidFill>
                <a:latin typeface="Tahoma"/>
              </a:rPr>
              <a:t>2.Why won’t Zhou Lan go walking around Lond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476720" y="3616200"/>
            <a:ext cx="31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66"/>
                </a:solidFill>
                <a:latin typeface="Tahoma"/>
              </a:rPr>
              <a:t>Because it’s too w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287720" y="4224240"/>
            <a:ext cx="564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ff"/>
                </a:solidFill>
                <a:latin typeface="Tahoma"/>
              </a:rPr>
              <a:t>3.Where will Jane and Zhou Lan go t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409760" y="4724280"/>
            <a:ext cx="315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66"/>
                </a:solidFill>
                <a:latin typeface="Tahoma"/>
              </a:rPr>
              <a:t>The Science Muse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SUN_034" descr=""/>
          <p:cNvPicPr/>
          <p:nvPr/>
        </p:nvPicPr>
        <p:blipFill>
          <a:blip r:embed="rId1"/>
          <a:stretch/>
        </p:blipFill>
        <p:spPr>
          <a:xfrm>
            <a:off x="1219320" y="6019920"/>
            <a:ext cx="761976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ccff"/>
            </a:gs>
            <a:gs pos="100000">
              <a:srgbClr val="9aeaf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2584800" y="228600"/>
            <a:ext cx="357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Language poi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932400" y="1066680"/>
            <a:ext cx="164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ahoma"/>
              </a:rPr>
              <a:t>1.feel l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292040" y="1371600"/>
            <a:ext cx="355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Tahoma"/>
              </a:rPr>
              <a:t>(1)seem to be </a:t>
            </a:r>
            <a:r>
              <a:rPr b="0" lang="zh-CN" sz="2400" spc="-1" strike="noStrike">
                <a:solidFill>
                  <a:srgbClr val="ff0066"/>
                </a:solidFill>
                <a:latin typeface="Tahoma"/>
              </a:rPr>
              <a:t>象是；摸起来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447920" y="2743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264680" y="1676520"/>
            <a:ext cx="243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I feel like a foo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241640" y="1981080"/>
            <a:ext cx="280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It feels like cott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966600" y="2286000"/>
            <a:ext cx="345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Tahoma"/>
              </a:rPr>
              <a:t>(2)have a desire for </a:t>
            </a:r>
            <a:r>
              <a:rPr b="0" lang="zh-CN" sz="2400" spc="-1" strike="noStrike">
                <a:solidFill>
                  <a:srgbClr val="ff0066"/>
                </a:solidFill>
                <a:latin typeface="Tahoma"/>
              </a:rPr>
              <a:t>想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230840" y="2590920"/>
            <a:ext cx="51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ahoma"/>
              </a:rPr>
              <a:t>We’ll go for a walk if you feel like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240560" y="2971800"/>
            <a:ext cx="50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I don’t feel like (eating) a big me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966960" y="3276720"/>
            <a:ext cx="217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ahoma"/>
              </a:rPr>
              <a:t>2.so/as far 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309320" y="3581280"/>
            <a:ext cx="293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Tahoma"/>
              </a:rPr>
              <a:t>(1)</a:t>
            </a:r>
            <a:r>
              <a:rPr b="0" lang="zh-CN" sz="2400" spc="-1" strike="noStrike">
                <a:solidFill>
                  <a:srgbClr val="ff0066"/>
                </a:solidFill>
                <a:latin typeface="Tahoma"/>
              </a:rPr>
              <a:t>就</a:t>
            </a:r>
            <a:r>
              <a:rPr b="0" lang="zh-CN" sz="2400" spc="-1" strike="noStrike">
                <a:solidFill>
                  <a:srgbClr val="ff0066"/>
                </a:solidFill>
                <a:latin typeface="Tahoma"/>
              </a:rPr>
              <a:t>···</a:t>
            </a:r>
            <a:r>
              <a:rPr b="0" lang="zh-CN" sz="2400" spc="-1" strike="noStrike">
                <a:solidFill>
                  <a:srgbClr val="ff0066"/>
                </a:solidFill>
                <a:latin typeface="Tahoma"/>
              </a:rPr>
              <a:t>来说， 在</a:t>
            </a:r>
            <a:r>
              <a:rPr b="0" lang="zh-CN" sz="2400" spc="-1" strike="noStrike">
                <a:solidFill>
                  <a:srgbClr val="ff0066"/>
                </a:solidFill>
                <a:latin typeface="Tahoma"/>
              </a:rPr>
              <a:t>···</a:t>
            </a:r>
            <a:r>
              <a:rPr b="0" lang="zh-CN" sz="2400" spc="-1" strike="noStrike">
                <a:solidFill>
                  <a:srgbClr val="ff0066"/>
                </a:solidFill>
                <a:latin typeface="Tahoma"/>
              </a:rPr>
              <a:t>范围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150560" y="3886200"/>
            <a:ext cx="73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So far as I know he will be away for three month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128960" y="4191120"/>
            <a:ext cx="800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As far as I could see, it is a matter of great importa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36240" y="4495680"/>
            <a:ext cx="448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ahoma"/>
              </a:rPr>
              <a:t>He’ll help you as far as he ca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883240" y="4800600"/>
            <a:ext cx="91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Tahoma"/>
              </a:rPr>
              <a:t>(2)</a:t>
            </a:r>
            <a:r>
              <a:rPr b="0" lang="zh-CN" sz="2400" spc="-1" strike="noStrike">
                <a:solidFill>
                  <a:srgbClr val="ff0066"/>
                </a:solidFill>
                <a:latin typeface="Tahoma"/>
              </a:rPr>
              <a:t>至某一明确地点；同样远的距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173960" y="5138640"/>
            <a:ext cx="515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He walked as far as the post offi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295280" y="556272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ahoma"/>
              </a:rPr>
              <a:t>We didn’t go as far as other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143000" y="5410080"/>
            <a:ext cx="71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WS_044" descr=""/>
          <p:cNvPicPr/>
          <p:nvPr/>
        </p:nvPicPr>
        <p:blipFill>
          <a:blip r:embed="rId1"/>
          <a:stretch/>
        </p:blipFill>
        <p:spPr>
          <a:xfrm>
            <a:off x="7467480" y="4572000"/>
            <a:ext cx="1222560" cy="2035080"/>
          </a:xfrm>
          <a:prstGeom prst="rect">
            <a:avLst/>
          </a:prstGeom>
          <a:ln w="0">
            <a:noFill/>
          </a:ln>
        </p:spPr>
      </p:pic>
      <p:pic>
        <p:nvPicPr>
          <p:cNvPr id="132" name="line10" descr=""/>
          <p:cNvPicPr/>
          <p:nvPr/>
        </p:nvPicPr>
        <p:blipFill>
          <a:blip r:embed="rId2"/>
          <a:stretch/>
        </p:blipFill>
        <p:spPr>
          <a:xfrm>
            <a:off x="2514600" y="838080"/>
            <a:ext cx="3703680" cy="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ccff"/>
            </a:gs>
            <a:gs pos="100000">
              <a:srgbClr val="9aeaf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1352880" y="585720"/>
            <a:ext cx="403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99"/>
                </a:solidFill>
                <a:latin typeface="Tahoma"/>
              </a:rPr>
              <a:t>3.would rather do…</a:t>
            </a:r>
            <a:r>
              <a:rPr b="1" lang="zh-CN" sz="2400" spc="-1" strike="noStrike">
                <a:solidFill>
                  <a:srgbClr val="ff3399"/>
                </a:solidFill>
                <a:latin typeface="Tahoma"/>
              </a:rPr>
              <a:t>宁愿干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57320" y="947880"/>
            <a:ext cx="572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He would rather not go to see the fil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219320" y="1447920"/>
            <a:ext cx="775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He would rather go there on foot than ride a bicyc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126800" y="2286000"/>
            <a:ext cx="395856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5050"/>
                </a:solidFill>
                <a:latin typeface="Tahoma"/>
              </a:rPr>
              <a:t>C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ahoma"/>
              </a:rPr>
              <a:t>I prefer walking to cycl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ahoma"/>
              </a:rPr>
              <a:t>He prefer tea to coffe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ahoma"/>
              </a:rPr>
              <a:t>I wouldn’t like to do that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145880" y="1828800"/>
            <a:ext cx="458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’d rather have tea than coffe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686960" y="4267080"/>
            <a:ext cx="383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99"/>
                </a:solidFill>
                <a:latin typeface="Tahoma"/>
              </a:rPr>
              <a:t>4.personally </a:t>
            </a:r>
            <a:r>
              <a:rPr b="1" lang="zh-CN" sz="2400" spc="-1" strike="noStrike">
                <a:solidFill>
                  <a:srgbClr val="ff3399"/>
                </a:solidFill>
                <a:latin typeface="Tahoma"/>
              </a:rPr>
              <a:t>就自己而言；亲自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082880" y="4800600"/>
            <a:ext cx="630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Personally, I don’t think much of your ide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015200" y="5334120"/>
            <a:ext cx="665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He showed me around the school personal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ZW_015" descr=""/>
          <p:cNvPicPr/>
          <p:nvPr/>
        </p:nvPicPr>
        <p:blipFill>
          <a:blip r:embed="rId1"/>
          <a:stretch/>
        </p:blipFill>
        <p:spPr>
          <a:xfrm>
            <a:off x="6781680" y="2286000"/>
            <a:ext cx="892440" cy="1828800"/>
          </a:xfrm>
          <a:prstGeom prst="rect">
            <a:avLst/>
          </a:prstGeom>
          <a:ln w="0">
            <a:noFill/>
          </a:ln>
        </p:spPr>
      </p:pic>
      <p:pic>
        <p:nvPicPr>
          <p:cNvPr id="142" name="ZW_020" descr=""/>
          <p:cNvPicPr/>
          <p:nvPr/>
        </p:nvPicPr>
        <p:blipFill>
          <a:blip r:embed="rId2"/>
          <a:stretch/>
        </p:blipFill>
        <p:spPr>
          <a:xfrm>
            <a:off x="457200" y="5791320"/>
            <a:ext cx="789120" cy="70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ccff"/>
            </a:gs>
            <a:gs pos="100000">
              <a:srgbClr val="9aeaf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922320" y="304920"/>
            <a:ext cx="611820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99"/>
                </a:solidFill>
                <a:latin typeface="Tahoma"/>
              </a:rPr>
              <a:t>Make up sentences using the follow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99"/>
                </a:solidFill>
                <a:latin typeface="Tahoma"/>
              </a:rPr>
              <a:t>sentence structur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929160" y="1143000"/>
            <a:ext cx="196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ahoma"/>
              </a:rPr>
              <a:t>1.I feel like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919080" y="1523880"/>
            <a:ext cx="30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ahoma"/>
              </a:rPr>
              <a:t>2.I’d rather(not)do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916920" y="1905120"/>
            <a:ext cx="293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ahoma"/>
              </a:rPr>
              <a:t>3.As far as I know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35640" y="2286000"/>
            <a:ext cx="238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ahoma"/>
              </a:rPr>
              <a:t>4.I’m ready to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923040" y="274320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99"/>
                </a:solidFill>
                <a:latin typeface="Tahoma"/>
              </a:rPr>
              <a:t>Transl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836720" y="3124080"/>
            <a:ext cx="504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ahoma"/>
              </a:rPr>
              <a:t>1.</a:t>
            </a:r>
            <a:r>
              <a:rPr b="0" lang="zh-CN" sz="2400" spc="-1" strike="noStrike">
                <a:solidFill>
                  <a:srgbClr val="3333cc"/>
                </a:solidFill>
                <a:latin typeface="Tahoma"/>
              </a:rPr>
              <a:t>我想</a:t>
            </a:r>
            <a:r>
              <a:rPr b="0" lang="zh-CN" sz="2400" spc="-1" strike="noStrike">
                <a:solidFill>
                  <a:srgbClr val="3333cc"/>
                </a:solidFill>
                <a:latin typeface="Tahoma"/>
              </a:rPr>
              <a:t>(feel like)</a:t>
            </a:r>
            <a:r>
              <a:rPr b="0" lang="zh-CN" sz="2400" spc="-1" strike="noStrike">
                <a:solidFill>
                  <a:srgbClr val="3333cc"/>
                </a:solidFill>
                <a:latin typeface="Tahoma"/>
              </a:rPr>
              <a:t>去看电影，你愿意同我一道去吗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958320" y="3505320"/>
            <a:ext cx="785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Tahoma"/>
              </a:rPr>
              <a:t>I feel like going to the cinema.Would you like to go with m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594520" y="3886200"/>
            <a:ext cx="37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ahoma"/>
              </a:rPr>
              <a:t>2.</a:t>
            </a:r>
            <a:r>
              <a:rPr b="0" lang="zh-CN" sz="2400" spc="-1" strike="noStrike">
                <a:solidFill>
                  <a:srgbClr val="3333cc"/>
                </a:solidFill>
                <a:latin typeface="Tahoma"/>
              </a:rPr>
              <a:t>就我自己而言，我宁愿发</a:t>
            </a:r>
            <a:r>
              <a:rPr b="0" lang="zh-CN" sz="2400" spc="-1" strike="noStrike">
                <a:solidFill>
                  <a:srgbClr val="3333cc"/>
                </a:solidFill>
                <a:latin typeface="Tahoma"/>
              </a:rPr>
              <a:t>e-mail</a:t>
            </a:r>
            <a:r>
              <a:rPr b="0" lang="zh-CN" sz="2400" spc="-1" strike="noStrike">
                <a:solidFill>
                  <a:srgbClr val="3333cc"/>
                </a:solidFill>
                <a:latin typeface="Tahoma"/>
              </a:rPr>
              <a:t>给他而不愿写信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951120" y="4343400"/>
            <a:ext cx="636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Tahoma"/>
              </a:rPr>
              <a:t>Personally, I’d rather e-mail him than write him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105000" y="4800600"/>
            <a:ext cx="298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ahoma"/>
              </a:rPr>
              <a:t>3.</a:t>
            </a:r>
            <a:r>
              <a:rPr b="0" lang="zh-CN" sz="2400" spc="-1" strike="noStrike">
                <a:solidFill>
                  <a:srgbClr val="3333cc"/>
                </a:solidFill>
                <a:latin typeface="Tahoma"/>
              </a:rPr>
              <a:t>我打算</a:t>
            </a:r>
            <a:r>
              <a:rPr b="0" lang="zh-CN" sz="2400" spc="-1" strike="noStrike">
                <a:solidFill>
                  <a:srgbClr val="3333cc"/>
                </a:solidFill>
                <a:latin typeface="Tahoma"/>
              </a:rPr>
              <a:t>(intend to)</a:t>
            </a:r>
            <a:r>
              <a:rPr b="0" lang="zh-CN" sz="2400" spc="-1" strike="noStrike">
                <a:solidFill>
                  <a:srgbClr val="3333cc"/>
                </a:solidFill>
                <a:latin typeface="Tahoma"/>
              </a:rPr>
              <a:t>明天去看有关太空和卫星的展览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915480" y="5340240"/>
            <a:ext cx="724140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Tahoma"/>
              </a:rPr>
              <a:t>I intend to see the exhibition about space and satelli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Tahoma"/>
              </a:rPr>
              <a:t>tomorrow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W_006" descr=""/>
          <p:cNvPicPr/>
          <p:nvPr/>
        </p:nvPicPr>
        <p:blipFill>
          <a:blip r:embed="rId1"/>
          <a:stretch/>
        </p:blipFill>
        <p:spPr>
          <a:xfrm>
            <a:off x="6781680" y="1143000"/>
            <a:ext cx="1063800" cy="13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ccff"/>
            </a:gs>
            <a:gs pos="100000">
              <a:srgbClr val="9aeaf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RW_011" descr=""/>
          <p:cNvPicPr/>
          <p:nvPr/>
        </p:nvPicPr>
        <p:blipFill>
          <a:blip r:embed="rId1"/>
          <a:stretch/>
        </p:blipFill>
        <p:spPr>
          <a:xfrm>
            <a:off x="7772400" y="457200"/>
            <a:ext cx="1143000" cy="91440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685800" y="-571680"/>
            <a:ext cx="779292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66"/>
                </a:solidFill>
                <a:latin typeface="Tahoma"/>
              </a:rPr>
              <a:t>Make </a:t>
            </a:r>
            <a:r>
              <a:rPr b="0" i="1" lang="en-US" sz="2800" spc="-1" strike="noStrike">
                <a:solidFill>
                  <a:srgbClr val="ff3399"/>
                </a:solidFill>
                <a:latin typeface="Tahoma"/>
              </a:rPr>
              <a:t>up</a:t>
            </a:r>
            <a:r>
              <a:rPr b="0" i="1" lang="en-US" sz="2800" spc="-1" strike="noStrike">
                <a:solidFill>
                  <a:srgbClr val="ff0066"/>
                </a:solidFill>
                <a:latin typeface="Tahoma"/>
              </a:rPr>
              <a:t> dialogues using the following situat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85800" y="3886200"/>
            <a:ext cx="914400" cy="609480"/>
          </a:xfrm>
          <a:prstGeom prst="cloudCallout">
            <a:avLst>
              <a:gd name="adj1" fmla="val 56250"/>
              <a:gd name="adj2" fmla="val -12994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752480" y="3048120"/>
            <a:ext cx="1676520" cy="1904760"/>
          </a:xfrm>
          <a:prstGeom prst="cloudCallout">
            <a:avLst>
              <a:gd name="adj1" fmla="val -117800"/>
              <a:gd name="adj2" fmla="val 8308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1752480"/>
            <a:ext cx="4191120" cy="5105520"/>
          </a:xfrm>
          <a:prstGeom prst="cloudCallout">
            <a:avLst>
              <a:gd name="adj1" fmla="val -36287"/>
              <a:gd name="adj2" fmla="val -57305"/>
            </a:avLst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6633"/>
                </a:solidFill>
                <a:latin typeface="Tahoma"/>
              </a:rPr>
              <a:t>Situation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ahoma"/>
              </a:rPr>
              <a:t>Students A &amp; B are talking about going to see a film about space and satellites at Jiaojiang Theatre on Saturday even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H="1" flipV="1">
            <a:off x="5333760" y="1219320"/>
            <a:ext cx="3657600" cy="5410080"/>
          </a:xfrm>
          <a:prstGeom prst="cloudCallout">
            <a:avLst>
              <a:gd name="adj1" fmla="val 65578"/>
              <a:gd name="adj2" fmla="val 4770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952880" y="1905120"/>
            <a:ext cx="3962520" cy="4647960"/>
          </a:xfrm>
          <a:prstGeom prst="cloudCallout">
            <a:avLst>
              <a:gd name="adj1" fmla="val -49680"/>
              <a:gd name="adj2" fmla="val -63115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943600" y="3200400"/>
            <a:ext cx="3276720" cy="3200400"/>
          </a:xfrm>
          <a:prstGeom prst="cloudCallout">
            <a:avLst>
              <a:gd name="adj1" fmla="val -80569"/>
              <a:gd name="adj2" fmla="val -84574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181480" y="2057400"/>
            <a:ext cx="3962520" cy="4800600"/>
          </a:xfrm>
          <a:prstGeom prst="cloudCallout">
            <a:avLst>
              <a:gd name="adj1" fmla="val 35055"/>
              <a:gd name="adj2" fmla="val -61773"/>
            </a:avLst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33"/>
                </a:solidFill>
                <a:latin typeface="Tahoma"/>
              </a:rPr>
              <a:t>Situation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Tom and Lin Ming are talking about making a model spaceship on Sun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RW_012" descr=""/>
          <p:cNvPicPr/>
          <p:nvPr/>
        </p:nvPicPr>
        <p:blipFill>
          <a:blip r:embed="rId2"/>
          <a:stretch/>
        </p:blipFill>
        <p:spPr>
          <a:xfrm>
            <a:off x="152280" y="533520"/>
            <a:ext cx="800280" cy="63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ccff"/>
            </a:gs>
            <a:gs pos="100000">
              <a:srgbClr val="9aeaf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SUN_04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 txBox="1"/>
          <p:nvPr/>
        </p:nvSpPr>
        <p:spPr>
          <a:xfrm>
            <a:off x="3529080" y="2952720"/>
            <a:ext cx="2085840" cy="95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French Script MT"/>
              </a:rPr>
              <a:t>Goodbye</a:t>
            </a:r>
            <a:endParaRPr b="1" i="1" lang="en-US" sz="6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French Script MT"/>
              <a:ea typeface="French Script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0T07:59:53Z</dcterms:created>
  <dc:creator>Terence</dc:creator>
  <dc:description/>
  <dc:language>en-US</dc:language>
  <cp:lastModifiedBy>Terence</cp:lastModifiedBy>
  <dcterms:modified xsi:type="dcterms:W3CDTF">2002-02-23T11:18:42Z</dcterms:modified>
  <cp:revision>19</cp:revision>
  <dc:subject/>
  <dc:title>PowerPoint 演示文稿</dc:title>
</cp:coreProperties>
</file>