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1.wmf" ContentType="image/x-wmf"/>
  <Override PartName="/ppt/media/image19.wmf" ContentType="image/x-wmf"/>
  <Override PartName="/ppt/media/image9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868-641E-4B2D-9F34-B6434A1A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417-AE49-4319-B2EE-8B77531B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6FD-EC2B-4D78-820B-CD4437BD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712-F88D-4BFA-8C79-AAD8F45B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E77-919B-4F6F-8ED6-0E4B5F51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4E5-2251-4333-AE83-00A90A5B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12E-C8D8-4A50-B3E5-C86AB42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EA6-D014-462B-B3FD-03A1F645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905-0962-4B6B-9807-A0D5D49B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D153-8381-4351-A7C9-FCEDB5DB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68C-C572-4932-BFA2-1BA9C74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4E46-E2C7-4935-8ACA-5B08DF68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FF88-1ED0-43AE-8FB3-4195487975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Times New Roman"/>
              </a:rPr>
              <a:t>JUNIOR ENGL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29000" y="24379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5050"/>
                </a:solidFill>
                <a:latin typeface="Times New Roman"/>
              </a:rPr>
              <a:t>Book   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5715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烟台十九中学  王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E03254_" descr=""/>
          <p:cNvPicPr/>
          <p:nvPr/>
        </p:nvPicPr>
        <p:blipFill>
          <a:blip r:embed="rId2"/>
          <a:stretch/>
        </p:blipFill>
        <p:spPr>
          <a:xfrm>
            <a:off x="0" y="137160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380880"/>
            <a:ext cx="800100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ew   Lesson : Imperative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s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962520"/>
            <a:ext cx="5943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谓语动词用原形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表示请求，命令，叮嘱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D07153_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62320" y="281952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祈使句的特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9fb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304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For    Exampl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1_152" descr=""/>
          <p:cNvPicPr/>
          <p:nvPr/>
        </p:nvPicPr>
        <p:blipFill>
          <a:blip r:embed="rId1"/>
          <a:stretch/>
        </p:blipFill>
        <p:spPr>
          <a:xfrm>
            <a:off x="0" y="4205160"/>
            <a:ext cx="4114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371600" y="1295280"/>
            <a:ext cx="7620120" cy="3751560"/>
            <a:chOff x="1371600" y="1295280"/>
            <a:chExt cx="7620120" cy="3751560"/>
          </a:xfrm>
        </p:grpSpPr>
        <p:sp>
          <p:nvSpPr>
            <p:cNvPr id="74" name=""/>
            <p:cNvSpPr/>
            <p:nvPr/>
          </p:nvSpPr>
          <p:spPr>
            <a:xfrm>
              <a:off x="1371600" y="1295280"/>
              <a:ext cx="7620120" cy="31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1.Come  here,please.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过来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2.Sit down,please. 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坐下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3.please write your name on the blackboard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343400"/>
              <a:ext cx="731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        </a:t>
              </a:r>
              <a:r>
                <a:rPr b="0" lang="zh-CN" sz="4000" spc="-1" strike="noStrike">
                  <a:solidFill>
                    <a:srgbClr val="ff33cc"/>
                  </a:solidFill>
                  <a:latin typeface="Times New Roman"/>
                </a:rPr>
                <a:t>请把你的名字写在黑板上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609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祈使句变为否定句：在谓语动词前加</a:t>
            </a:r>
            <a:r>
              <a:rPr b="0" lang="zh-CN" sz="4800" spc="-1" strike="noStrike">
                <a:solidFill>
                  <a:srgbClr val="ff5050"/>
                </a:solidFill>
                <a:latin typeface="Times New Roman"/>
              </a:rPr>
              <a:t>don’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362320"/>
            <a:ext cx="731520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For   examp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1.Don’t come here,ple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2.Don’t sit down,ple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3.Please don’t write your n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cc3300"/>
                </a:solidFill>
                <a:latin typeface="Times New Roman"/>
              </a:rPr>
              <a:t>on the blackbo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BD05219_" descr=""/>
          <p:cNvPicPr/>
          <p:nvPr/>
        </p:nvPicPr>
        <p:blipFill>
          <a:blip r:embed="rId1"/>
          <a:stretch/>
        </p:blipFill>
        <p:spPr>
          <a:xfrm>
            <a:off x="6934320" y="1523880"/>
            <a:ext cx="16761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2590920"/>
            <a:ext cx="80010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odel: open,the door, ( window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: Please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:Please don’t open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lease open the wind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E07677_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13372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91440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Exercises:Make sentences after the mod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304920"/>
            <a:ext cx="86104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1.play basketball, ( football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2.stand,under the tree, ( on the   chai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3.sit, on the desk, (on the  floor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E02043_" descr=""/>
          <p:cNvPicPr/>
          <p:nvPr/>
        </p:nvPicPr>
        <p:blipFill>
          <a:blip r:embed="rId2"/>
          <a:stretch/>
        </p:blipFill>
        <p:spPr>
          <a:xfrm>
            <a:off x="762120" y="3886200"/>
            <a:ext cx="3733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773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祈使句的特点：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谓语动词用原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否定时在谓语动词  前加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Times New Roman"/>
              </a:rPr>
              <a:t>do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E01682_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3520" y="533520"/>
            <a:ext cx="7848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T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A:Complete th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______ 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帮助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me to do housework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Please 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(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擦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___________ (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不要关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)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B:Put the following into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关上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不要站在桌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请课后打篮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L00393_" descr=""/>
          <p:cNvPicPr/>
          <p:nvPr/>
        </p:nvPicPr>
        <p:blipFill>
          <a:blip r:embed="rId2"/>
          <a:stretch/>
        </p:blipFill>
        <p:spPr>
          <a:xfrm>
            <a:off x="6454800" y="1905120"/>
            <a:ext cx="2689200" cy="3414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600" y="1752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2362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3048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 sh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44197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lose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1055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don’t stand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play basketball afte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BD06152_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4953240" cy="5943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2971800"/>
            <a:ext cx="2590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Thank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33cc"/>
                </a:solidFill>
                <a:latin typeface="Times New Roman"/>
              </a:rPr>
              <a:t>By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b020" descr=""/>
          <p:cNvPicPr/>
          <p:nvPr/>
        </p:nvPicPr>
        <p:blipFill>
          <a:blip r:embed="rId4"/>
          <a:srcRect l="4169" t="4723" r="4169" b="43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6520" y="1371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Lesson  Eleve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7328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Listen   and    S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            </a:t>
            </a:r>
            <a:r>
              <a:rPr b="0" lang="en-US" sz="4800" spc="-1" strike="noStrike">
                <a:solidFill>
                  <a:srgbClr val="ff3300"/>
                </a:solidFill>
                <a:latin typeface="Odessa LET"/>
              </a:rPr>
              <a:t>( I )( II )( III )( IV</a:t>
            </a:r>
            <a:r>
              <a:rPr b="0" lang="en-US" sz="4800" spc="-1" strike="noStrike">
                <a:solidFill>
                  <a:srgbClr val="ff3300"/>
                </a:solidFill>
                <a:latin typeface="Rage Italic LET"/>
              </a:rPr>
              <a:t>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6186600"/>
            <a:ext cx="3733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Made  By  Wang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2120" y="1600200"/>
            <a:ext cx="83818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1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他在干什么？ 他在擦黑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2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你在干什么？ 我在黑板上写我的名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3.</a:t>
            </a:r>
            <a:r>
              <a:rPr b="0" lang="zh-CN" sz="36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她在干什么？ 她在读今天的报纸</a:t>
            </a:r>
            <a:r>
              <a:rPr b="0" lang="zh-CN" sz="4000" spc="-1" strike="noStrike">
                <a:solidFill>
                  <a:srgbClr val="ff5050"/>
                </a:solidFill>
                <a:latin typeface="方正楷体简体"/>
                <a:ea typeface="方正楷体简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57200"/>
            <a:ext cx="556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</a:rPr>
              <a:t>Go         over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301" descr=""/>
          <p:cNvPicPr/>
          <p:nvPr/>
        </p:nvPicPr>
        <p:blipFill>
          <a:blip r:embed="rId2"/>
          <a:srcRect l="0" t="0" r="0" b="7100"/>
          <a:stretch/>
        </p:blipFill>
        <p:spPr>
          <a:xfrm>
            <a:off x="1981080" y="4100400"/>
            <a:ext cx="7162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720" y="30492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371600"/>
            <a:ext cx="784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What is he doing?  He is clea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 blackboar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What are you doing?   I’m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my name on the blackboard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What is she doing?     She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reading today’s newspap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N02542_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O01862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838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Listen   and   say  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447920"/>
            <a:ext cx="5943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Clean the blackboard,ple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 is cleaning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Write your name on the 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she do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She’s writing her nam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bo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NA00763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228600"/>
            <a:ext cx="5257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Read the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you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I’m reading today’s news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Shut the window, plea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he do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: He’s shutting the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1280" y="380880"/>
            <a:ext cx="525780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e map of China 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of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Look at the map of Chi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look at the ma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D06675_" descr=""/>
          <p:cNvPicPr/>
          <p:nvPr/>
        </p:nvPicPr>
        <p:blipFill>
          <a:blip r:embed="rId2"/>
          <a:stretch/>
        </p:blipFill>
        <p:spPr>
          <a:xfrm>
            <a:off x="0" y="2362320"/>
            <a:ext cx="3635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143000"/>
            <a:ext cx="525780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(I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e window, plea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This one or that o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Shut this window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shut that 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460_" descr=""/>
          <p:cNvPicPr/>
          <p:nvPr/>
        </p:nvPicPr>
        <p:blipFill>
          <a:blip r:embed="rId2"/>
          <a:stretch/>
        </p:blipFill>
        <p:spPr>
          <a:xfrm>
            <a:off x="5464080" y="1600200"/>
            <a:ext cx="3679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7:58:42Z</dcterms:created>
  <dc:creator>lyp</dc:creator>
  <dc:description/>
  <dc:language>en-US</dc:language>
  <cp:lastModifiedBy>lyp</cp:lastModifiedBy>
  <dcterms:modified xsi:type="dcterms:W3CDTF">2001-06-01T10:08:08Z</dcterms:modified>
  <cp:revision>53</cp:revision>
  <dc:subject/>
  <dc:title>PowerPoint 演示文稿</dc:title>
</cp:coreProperties>
</file>