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25.gif" ContentType="image/gif"/>
  <Override PartName="/ppt/media/image13.jpeg" ContentType="image/jpeg"/>
  <Override PartName="/ppt/media/image7.gif" ContentType="image/gif"/>
  <Override PartName="/ppt/media/image5.gif" ContentType="image/gif"/>
  <Override PartName="/ppt/media/image11.jpeg" ContentType="image/jpeg"/>
  <Override PartName="/ppt/media/image9.jpeg" ContentType="image/jpeg"/>
  <Override PartName="/ppt/media/image6.jpeg" ContentType="image/jpeg"/>
  <Override PartName="/ppt/media/image4.gif" ContentType="image/gif"/>
  <Override PartName="/ppt/media/image26.gif" ContentType="image/gif"/>
  <Override PartName="/ppt/media/image20.jpeg" ContentType="image/jpeg"/>
  <Override PartName="/ppt/media/image15.jpeg" ContentType="image/jpeg"/>
  <Override PartName="/ppt/media/image14.gif" ContentType="image/gif"/>
  <Override PartName="/ppt/media/image22.wmf" ContentType="image/x-wmf"/>
  <Override PartName="/ppt/media/image21.png" ContentType="image/png"/>
  <Override PartName="/ppt/media/image19.jpeg" ContentType="image/jpeg"/>
  <Override PartName="/ppt/media/image18.jpeg" ContentType="image/jpeg"/>
  <Override PartName="/ppt/media/image16.jpeg" ContentType="image/jpeg"/>
  <Override PartName="/ppt/media/image1.gif" ContentType="image/gif"/>
  <Override PartName="/ppt/media/image24.gif" ContentType="image/gif"/>
  <Override PartName="/ppt/media/image2.png" ContentType="image/png"/>
  <Override PartName="/ppt/media/image3.png" ContentType="image/png"/>
  <Override PartName="/ppt/media/image17.jpeg" ContentType="image/jpeg"/>
  <Override PartName="/ppt/media/image23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CBF2-B8B3-4479-9B0E-D2E7937BC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8F77-9331-4910-9E5A-82C9FD72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96AD-BEE7-46E7-90FF-2F3C89268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C068A-6694-42DD-89B6-6EDFD66A7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0AF5-2F86-4460-9978-6D6CD2A3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02C6-755F-4660-BB15-A11488511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A91-4A73-44E3-912E-637CA3A7A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9ED5-9737-4BB8-A36C-57D3CBF2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5566-40C3-4A27-BC63-2C030D3B1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CD5F-6FAD-4DE2-8A6E-AEB24ABEC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07EB-6F8D-4212-A14B-BBD18E02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7FA5-DCB9-4ECD-B10D-322B6C562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A041C-06C0-47E2-84BB-AA6F9CC0014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edu.xinxing.org/bbs/list.asp?boardid=15" TargetMode="External"/><Relationship Id="rId2" Type="http://schemas.openxmlformats.org/officeDocument/2006/relationships/hyperlink" Target="http://edu.xinxing.org/bbs/list.asp?boardid=15" TargetMode="External"/><Relationship Id="rId3" Type="http://schemas.openxmlformats.org/officeDocument/2006/relationships/hyperlink" Target="http://edu.xinxing.org/bbs/list.asp?boardid=15" TargetMode="External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du.xinxing.org/bbs/list.asp?boardid=13" TargetMode="External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30.xml"/><Relationship Id="rId2" Type="http://schemas.openxmlformats.org/officeDocument/2006/relationships/image" Target="../media/image25.gi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hyperlink" Target="http://affiliates.allposters.com/link/redirect.asp?item=424439&amp;AID=898556&amp;PSTID=2&amp;LTID=1" TargetMode="External"/><Relationship Id="rId4" Type="http://schemas.openxmlformats.org/officeDocument/2006/relationships/image" Target="../media/image6.jpeg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2" descr="2.gif (3620 字节)"/>
          <p:cNvPicPr/>
          <p:nvPr/>
        </p:nvPicPr>
        <p:blipFill>
          <a:blip r:embed="rId1"/>
          <a:stretch/>
        </p:blipFill>
        <p:spPr>
          <a:xfrm>
            <a:off x="1066680" y="2720880"/>
            <a:ext cx="5867640" cy="3222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295280" y="838080"/>
            <a:ext cx="632484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Lesson 13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971640" y="765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What does WB order for his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187280" y="2349360"/>
            <a:ext cx="5185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,     banana ice c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ot dog, a potato salad, apple p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 ,ice cream and jam sa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042920" y="7254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How does WB find his new jo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58920" y="265284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gretfu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116000" y="76500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Listen to the tape and answer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22384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Where are WB and Carl having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371628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caf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restau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WB’ h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40328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71640" y="765000"/>
            <a:ext cx="72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  What does WB order for his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349360"/>
            <a:ext cx="518508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,     banana ice cr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ot dog, a potato salad, apple pi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 ham salad ,ice cream and jam sau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371628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042920" y="72540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 How does WB find his new job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258920" y="265284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regretful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exci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ired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258920" y="3429000"/>
            <a:ext cx="9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9480" y="457200"/>
            <a:ext cx="4724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ep 3. Dialog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1295280"/>
            <a:ext cx="792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Now let’s listen to the tape again and then try to answer this question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2895480"/>
            <a:ext cx="8305560" cy="293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What are Wang Bing’s plans for the futur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宋体"/>
                <a:hlinkClick r:id="rId1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040280" y="3139920"/>
            <a:ext cx="9144000" cy="360"/>
          </a:xfrm>
          <a:prstGeom prst="rect">
            <a:avLst/>
          </a:prstGeom>
          <a:solidFill>
            <a:srgbClr val="659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040280" y="3139920"/>
            <a:ext cx="357120" cy="579600"/>
            <a:chOff x="4040280" y="3139920"/>
            <a:chExt cx="357120" cy="579600"/>
          </a:xfrm>
        </p:grpSpPr>
        <p:sp>
          <p:nvSpPr>
            <p:cNvPr id="125" name=""/>
            <p:cNvSpPr/>
            <p:nvPr/>
          </p:nvSpPr>
          <p:spPr>
            <a:xfrm>
              <a:off x="4040280" y="3139920"/>
              <a:ext cx="3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4040280" y="3139920"/>
              <a:ext cx="357120" cy="579600"/>
              <a:chOff x="4040280" y="3139920"/>
              <a:chExt cx="357120" cy="579600"/>
            </a:xfrm>
          </p:grpSpPr>
          <p:sp>
            <p:nvSpPr>
              <p:cNvPr id="127" name=""/>
              <p:cNvSpPr/>
              <p:nvPr/>
            </p:nvSpPr>
            <p:spPr>
              <a:xfrm>
                <a:off x="4040280" y="3139920"/>
                <a:ext cx="35712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40280" y="3139920"/>
                <a:ext cx="357120" cy="579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 u="sng">
                    <a:solidFill>
                      <a:srgbClr val="ccccff"/>
                    </a:solidFill>
                    <a:uFillTx/>
                    <a:latin typeface="宋体"/>
                    <a:hlinkClick r:id="rId2"/>
                  </a:rPr>
                  <a:t>  </a:t>
                </a:r>
                <a:r>
                  <a:rPr b="0" lang="zh-CN" sz="3200" spc="-1" strike="noStrike">
                    <a:solidFill>
                      <a:srgbClr val="000000"/>
                    </a:solidFill>
                    <a:latin typeface="宋体"/>
                  </a:rPr>
                  <a:t> </a:t>
                </a:r>
                <a:r>
                  <a:rPr b="0" lang="zh-CN" sz="900" spc="-1" strike="noStrike">
                    <a:solidFill>
                      <a:srgbClr val="000000"/>
                    </a:solidFill>
                    <a:latin typeface="宋体"/>
                  </a:rPr>
                  <a:t>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29" name="200331721335034573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172200" y="4876920"/>
            <a:ext cx="1981080" cy="119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304920"/>
            <a:ext cx="8076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Step </a:t>
            </a:r>
            <a:r>
              <a:rPr b="1" lang="en-US" sz="3600" spc="-1" strike="noStrike" u="sng">
                <a:solidFill>
                  <a:srgbClr val="3333cc"/>
                </a:solidFill>
                <a:uFillTx/>
                <a:latin typeface="Times New Roman"/>
              </a:rPr>
              <a:t>4.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 Reading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1219320"/>
            <a:ext cx="80769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sk each other the questions in Ex. 1 on page 157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12408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1. Where are Wang Bing and Carl? What are they do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" y="4648320"/>
            <a:ext cx="8077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y are having lunch in a café in Los Ange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609480" y="533520"/>
            <a:ext cx="784872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Have they known each other before or have they just met for the first tim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 What do customers usually do before ordering a mea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752480"/>
            <a:ext cx="73911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y have known each other before. Because Wang Bing has already known Carl’s na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8080" y="5105520"/>
            <a:ext cx="7696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y usually look at the menu fir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80880" y="914400"/>
            <a:ext cx="83059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 Are the two men both hungry? Who is hungrier? 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. What have they order for lun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62120" y="2209680"/>
            <a:ext cx="72388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Yes. But Wang Bing is hungrier. He says he can eat an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4268880"/>
            <a:ext cx="830556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arl orders a ham salad and banana ice cream with hot chocolate sauce. Wang Bing orders a hot dog with a potato salad, apple pie with ice cream and jam sau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533520" y="533520"/>
            <a:ext cx="82296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6. Are they workers or students? Why do you think s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7. Where is Carl working, in town or in the countryside? How do you kn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182880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They are workers. Because Carl asks Wang Bing “Are you excited about your new job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85800" y="4724280"/>
            <a:ext cx="6781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Carl works in town. He tells Wang Bing to come into town now and th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04920" y="1752480"/>
            <a:ext cx="807696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Pre-reading discussion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kind of food do people eat  in the wes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buSzPct val="1131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What kind of food do people eat in Chin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9144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Step 1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57200" y="609480"/>
            <a:ext cx="868680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8. What does Wang Bing ask Carl to do before he mov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9. Did Carl accept Wang Bing’s invitation? What does he sa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905120"/>
            <a:ext cx="77724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 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He invites Carl to dinner at his flat before he mov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4419720"/>
            <a:ext cx="76960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Yes, he did. He asked Wang Bing to fix a d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183200" y="3146400"/>
            <a:ext cx="9144000" cy="360"/>
          </a:xfrm>
          <a:prstGeom prst="rect">
            <a:avLst/>
          </a:prstGeom>
          <a:solidFill>
            <a:srgbClr val="6595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20033172203859741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086600" y="5638680"/>
            <a:ext cx="1143000" cy="8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68360" y="1159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"/>
              </a:rPr>
              <a:t>Language points</a:t>
            </a:r>
            <a:r>
              <a:rPr b="1" lang="en-US" sz="40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990720"/>
            <a:ext cx="9144000" cy="33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 Have you ordered yet 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rder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n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request to supply goods or         meal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vt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Give an order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396252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这里是动词，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另外在餐厅里还有一句话是比较常用的，侍者通常会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Can I take the order now?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也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点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意思，但是是名词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537372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443320" y="6216120"/>
            <a:ext cx="365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order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的用法总结如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720720" y="293760"/>
            <a:ext cx="69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命令，吩咐，订（定）购，叫菜，点菜。例如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4114800"/>
            <a:ext cx="79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octor ordered him to stay in bed for a couple of days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大夫嘱咐他卧床一两天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80880" y="5486400"/>
            <a:ext cx="876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2) The manager ordered that the gate should be locked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经理嘱咐大门要锁好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1523880"/>
            <a:ext cx="693396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I’ve ordered lunch for 12:3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Has the waiter brought you ord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We are coming to collect our ord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11280" y="720720"/>
            <a:ext cx="7200720" cy="25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You can book tickets by telephon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可以电话订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4) He ordered a cup of coffee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要了一杯咖啡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3505320"/>
            <a:ext cx="7632720" cy="30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n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命令，订货（可数），秩序，顺序（不可数）。例如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Place an </a:t>
            </a:r>
            <a:r>
              <a:rPr b="0" lang="zh-CN" sz="3200" spc="-1" strike="noStrike">
                <a:solidFill>
                  <a:srgbClr val="cc3300"/>
                </a:solidFill>
                <a:latin typeface="Tahoma"/>
              </a:rPr>
              <a:t>order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for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= order sth.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  </a:t>
            </a:r>
            <a:r>
              <a:rPr b="0" lang="zh-CN" sz="3200" spc="-1" strike="noStrike">
                <a:solidFill>
                  <a:srgbClr val="4629a3"/>
                </a:solidFill>
                <a:latin typeface="Tahoma"/>
              </a:rPr>
              <a:t>=have an order of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0" y="533520"/>
            <a:ext cx="914400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1)The policemen received an order and set out at once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警察接到命令立刻出发了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He has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placed an order fo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100 copies of the book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已经预定了一百本这种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8360" y="3886200"/>
            <a:ext cx="8640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3) He found everything in the house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n good ord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他发现屋子里秩序井然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4) Arrange the books 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</a:rPr>
              <a:t>in order of size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按大小顺序摆好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11280" y="717480"/>
            <a:ext cx="792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还常构成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order to do something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in order that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。例如：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66560" y="2602080"/>
            <a:ext cx="8066160" cy="34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He works hard in order to (so as to) succeed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成功努力工作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(2) I lent him 5 pounds in order that he might buy the book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借给他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英镑以便让他买这本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7.gif (7651 字节)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334360" y="0"/>
            <a:ext cx="8096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66840" y="228600"/>
            <a:ext cx="7086600" cy="27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, --- Are you hungr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--- Yes, I sure a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=Of course, I am hung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1905120"/>
            <a:ext cx="80661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re = of course/ certainly/ sur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29a3"/>
                </a:solidFill>
                <a:latin typeface="Tahoma"/>
              </a:rPr>
              <a:t>Yes , I </a:t>
            </a:r>
            <a:r>
              <a:rPr b="0" lang="en-US" sz="3200" spc="-1" strike="noStrike">
                <a:solidFill>
                  <a:srgbClr val="cc3300"/>
                </a:solidFill>
                <a:latin typeface="Tahoma"/>
              </a:rPr>
              <a:t>sure / certainly/surely</a:t>
            </a:r>
            <a:r>
              <a:rPr b="0" lang="en-US" sz="3200" spc="-1" strike="noStrike">
                <a:solidFill>
                  <a:srgbClr val="4629a3"/>
                </a:solidFill>
                <a:latin typeface="Tahoma"/>
              </a:rPr>
              <a:t> am / (c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31827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: Can I borrow your camera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Sure / Sure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5773680"/>
            <a:ext cx="87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3)    A: Are you sure Helen will com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Yes, I am sur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4554360"/>
            <a:ext cx="80661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2) A: Is she very beautifu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: Yes, she sure i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91320" y="304920"/>
            <a:ext cx="35812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e.g.-Is he tal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-Sure/Surely he 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228600"/>
            <a:ext cx="9144000" cy="81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go without: endure the lack of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没有，缺少；忍受没有……之苦；没有……也能忍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总是起床很晚，所以常常不吃早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often goes without breakfast as he always gets up l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is no money for a holiday this year; we’ll have to go withou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t /That goes without saying (that…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team is sure to win . That goes without say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 It goes without saying that the team is sure to win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33520" y="914400"/>
            <a:ext cx="81532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Right now I could eat an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00200"/>
            <a:ext cx="8229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I’m so hungry that I could eat a whole o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33520" y="251460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 similar expression “eat a horse”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3505320"/>
            <a:ext cx="82296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ake your 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=write down which food you want and pass it to the kitc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380880" y="457200"/>
            <a:ext cx="795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, Anything to follow?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523880"/>
            <a:ext cx="9526680" cy="26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是一个省略句，意思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</a:rPr>
              <a:t>Do you want anything to follow? / Would you like to have anything else?/</a:t>
            </a:r>
            <a:r>
              <a:rPr b="1" lang="zh-CN" sz="3200" spc="-1" strike="noStrike">
                <a:solidFill>
                  <a:srgbClr val="3333cc"/>
                </a:solidFill>
                <a:latin typeface="宋体"/>
              </a:rPr>
              <a:t> Would you like anything to follow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990720" y="3429000"/>
            <a:ext cx="75438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对话中经常有类似的省略， 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: I want to buy a shirt and a pair  of trousers.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B: Anything els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: No, nothing el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012-3-2" descr=""/>
          <p:cNvPicPr/>
          <p:nvPr/>
        </p:nvPicPr>
        <p:blipFill>
          <a:blip r:embed="rId1"/>
          <a:stretch/>
        </p:blipFill>
        <p:spPr>
          <a:xfrm>
            <a:off x="4191120" y="1295280"/>
            <a:ext cx="3908160" cy="498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057400" y="990720"/>
            <a:ext cx="167652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p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438280"/>
            <a:ext cx="274320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ce cream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4952880"/>
            <a:ext cx="2895480" cy="82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jam sauc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04920" y="30492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look forward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04920" y="990720"/>
            <a:ext cx="82296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:a set expression for anticipating a pleasant event in the fut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320" y="2133720"/>
            <a:ext cx="883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e.g.I’m looking forward to seeing you s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28600" y="3352680"/>
            <a:ext cx="80773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 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now and again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now and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from time to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some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=at 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609480" y="426960"/>
            <a:ext cx="7705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. My only regret is that it's quite a long way from all my friends.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唯一的遗憾是离我的朋友们太远了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79280" y="22096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里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gre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和前面的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样也是一词多意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regret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做名词表示遗憾，懊悔（作不可数名词）；感到遗憾的事，歉意（作可数名词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9640" y="4464720"/>
            <a:ext cx="860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) We heard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with regret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that you were not successful in your pla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听到你的计划没有成功，我们感到遗憾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04920" y="380880"/>
            <a:ext cx="8499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)My only regret is that I could not devote more time to the just cause.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我唯一的憾事是不能花更多的时间于这一正义事业上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2895480"/>
            <a:ext cx="95328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ve a care what you say or you may regret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2)You'll regret having said those words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3)I regret to tell you that your father is badly 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4) I regret to say that we have no goo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s for you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380880"/>
            <a:ext cx="5943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Step V. Consolid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080" y="1219320"/>
            <a:ext cx="7543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ge 157.Look at Ex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7" descr="7.gif (16798 字节)"/>
          <p:cNvPicPr/>
          <p:nvPr/>
        </p:nvPicPr>
        <p:blipFill>
          <a:blip r:embed="rId1"/>
          <a:stretch/>
        </p:blipFill>
        <p:spPr>
          <a:xfrm>
            <a:off x="5334120" y="2895480"/>
            <a:ext cx="2361960" cy="20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1" descr="1.gif (17760 字节)"/>
          <p:cNvPicPr/>
          <p:nvPr/>
        </p:nvPicPr>
        <p:blipFill>
          <a:blip r:embed="rId1"/>
          <a:stretch/>
        </p:blipFill>
        <p:spPr>
          <a:xfrm>
            <a:off x="457200" y="304920"/>
            <a:ext cx="2438280" cy="25905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62120" y="2971800"/>
            <a:ext cx="1904760" cy="764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1" descr="1.gif (4766 字节)"/>
          <p:cNvPicPr/>
          <p:nvPr/>
        </p:nvPicPr>
        <p:blipFill>
          <a:blip r:embed="rId2"/>
          <a:stretch/>
        </p:blipFill>
        <p:spPr>
          <a:xfrm>
            <a:off x="3809880" y="304920"/>
            <a:ext cx="3124440" cy="2298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343400" y="2743200"/>
            <a:ext cx="2362320" cy="703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hot do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ARM146_a" descr="Salad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3886200"/>
            <a:ext cx="3276720" cy="20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838080" y="5973840"/>
            <a:ext cx="205740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ala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4" descr="4.gif (6127 字节)"/>
          <p:cNvPicPr/>
          <p:nvPr/>
        </p:nvPicPr>
        <p:blipFill>
          <a:blip r:embed="rId5"/>
          <a:stretch/>
        </p:blipFill>
        <p:spPr>
          <a:xfrm>
            <a:off x="4343400" y="3733920"/>
            <a:ext cx="2514600" cy="20415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4419720" y="5911920"/>
            <a:ext cx="2438280" cy="642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amburg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990720" y="685800"/>
            <a:ext cx="6400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vg0038" descr=""/>
          <p:cNvPicPr/>
          <p:nvPr/>
        </p:nvPicPr>
        <p:blipFill>
          <a:blip r:embed="rId1"/>
          <a:stretch/>
        </p:blipFill>
        <p:spPr>
          <a:xfrm>
            <a:off x="228600" y="609480"/>
            <a:ext cx="4267080" cy="4186440"/>
          </a:xfrm>
          <a:prstGeom prst="rect">
            <a:avLst/>
          </a:prstGeom>
          <a:ln w="0">
            <a:noFill/>
          </a:ln>
        </p:spPr>
      </p:pic>
      <p:pic>
        <p:nvPicPr>
          <p:cNvPr id="59" name="vg0002" descr=""/>
          <p:cNvPicPr/>
          <p:nvPr/>
        </p:nvPicPr>
        <p:blipFill>
          <a:blip r:embed="rId2"/>
          <a:stretch/>
        </p:blipFill>
        <p:spPr>
          <a:xfrm>
            <a:off x="5105520" y="2171880"/>
            <a:ext cx="3657600" cy="407664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-1905120" y="5105520"/>
            <a:ext cx="7772400" cy="533160"/>
            <a:chOff x="-1905120" y="5105520"/>
            <a:chExt cx="7772400" cy="533160"/>
          </a:xfrm>
        </p:grpSpPr>
        <p:grpSp>
          <p:nvGrpSpPr>
            <p:cNvPr id="61" name=""/>
            <p:cNvGrpSpPr/>
            <p:nvPr/>
          </p:nvGrpSpPr>
          <p:grpSpPr>
            <a:xfrm>
              <a:off x="-1905120" y="5105520"/>
              <a:ext cx="7772400" cy="533160"/>
              <a:chOff x="-1905120" y="5105520"/>
              <a:chExt cx="7772400" cy="533160"/>
            </a:xfrm>
          </p:grpSpPr>
          <p:sp>
            <p:nvSpPr>
              <p:cNvPr id="62" name=""/>
              <p:cNvSpPr/>
              <p:nvPr/>
            </p:nvSpPr>
            <p:spPr>
              <a:xfrm>
                <a:off x="-1905120" y="5105520"/>
                <a:ext cx="77724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mixed</a:t>
                </a:r>
                <a:r>
                  <a:rPr b="1" lang="en-US" sz="32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vegetable</a:t>
                </a:r>
                <a:r>
                  <a:rPr b="0" lang="en-US" sz="2400" spc="-1" strike="noStrike">
                    <a:solidFill>
                      <a:srgbClr val="cc33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-1905120" y="5105520"/>
                <a:ext cx="7772400" cy="53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4" name=""/>
            <p:cNvSpPr/>
            <p:nvPr/>
          </p:nvSpPr>
          <p:spPr>
            <a:xfrm>
              <a:off x="-1905120" y="5105520"/>
              <a:ext cx="777240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267080" y="990720"/>
            <a:ext cx="4876920" cy="914040"/>
            <a:chOff x="4267080" y="990720"/>
            <a:chExt cx="4876920" cy="914040"/>
          </a:xfrm>
        </p:grpSpPr>
        <p:grpSp>
          <p:nvGrpSpPr>
            <p:cNvPr id="66" name=""/>
            <p:cNvGrpSpPr/>
            <p:nvPr/>
          </p:nvGrpSpPr>
          <p:grpSpPr>
            <a:xfrm>
              <a:off x="4267080" y="990720"/>
              <a:ext cx="4876920" cy="913680"/>
              <a:chOff x="4267080" y="990720"/>
              <a:chExt cx="4876920" cy="913680"/>
            </a:xfrm>
          </p:grpSpPr>
          <p:sp>
            <p:nvSpPr>
              <p:cNvPr id="67" name=""/>
              <p:cNvSpPr/>
              <p:nvPr/>
            </p:nvSpPr>
            <p:spPr>
              <a:xfrm>
                <a:off x="4267080" y="990720"/>
                <a:ext cx="4876920" cy="913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1" lang="en-US" sz="3200" spc="-1" strike="noStrike">
                    <a:solidFill>
                      <a:srgbClr val="000000"/>
                    </a:solidFill>
                    <a:latin typeface="Times New Roman"/>
                  </a:rPr>
                  <a:t>green beans 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267080" y="990720"/>
                <a:ext cx="4876920" cy="91368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" name=""/>
            <p:cNvSpPr/>
            <p:nvPr/>
          </p:nvSpPr>
          <p:spPr>
            <a:xfrm>
              <a:off x="4267080" y="990720"/>
              <a:ext cx="4876920" cy="914040"/>
            </a:xfrm>
            <a:prstGeom prst="rect">
              <a:avLst/>
            </a:prstGeom>
            <a:noFill/>
            <a:ln w="0">
              <a:solidFill>
                <a:srgbClr val="008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vg0006" descr=""/>
          <p:cNvPicPr/>
          <p:nvPr/>
        </p:nvPicPr>
        <p:blipFill>
          <a:blip r:embed="rId1"/>
          <a:stretch/>
        </p:blipFill>
        <p:spPr>
          <a:xfrm>
            <a:off x="609480" y="685800"/>
            <a:ext cx="3581640" cy="2895480"/>
          </a:xfrm>
          <a:prstGeom prst="rect">
            <a:avLst/>
          </a:prstGeom>
          <a:ln w="0">
            <a:noFill/>
          </a:ln>
        </p:spPr>
      </p:pic>
      <p:pic>
        <p:nvPicPr>
          <p:cNvPr id="72" name="vg0012" descr=""/>
          <p:cNvPicPr/>
          <p:nvPr/>
        </p:nvPicPr>
        <p:blipFill>
          <a:blip r:embed="rId2"/>
          <a:stretch/>
        </p:blipFill>
        <p:spPr>
          <a:xfrm>
            <a:off x="5029200" y="990720"/>
            <a:ext cx="3200400" cy="2209680"/>
          </a:xfrm>
          <a:prstGeom prst="rect">
            <a:avLst/>
          </a:prstGeom>
          <a:ln w="0">
            <a:noFill/>
          </a:ln>
        </p:spPr>
      </p:pic>
      <p:pic>
        <p:nvPicPr>
          <p:cNvPr id="73" name="vg0009" descr=""/>
          <p:cNvPicPr/>
          <p:nvPr/>
        </p:nvPicPr>
        <p:blipFill>
          <a:blip r:embed="rId3"/>
          <a:stretch/>
        </p:blipFill>
        <p:spPr>
          <a:xfrm>
            <a:off x="685800" y="4267080"/>
            <a:ext cx="342900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vg0011" descr=""/>
          <p:cNvPicPr/>
          <p:nvPr/>
        </p:nvPicPr>
        <p:blipFill>
          <a:blip r:embed="rId4"/>
          <a:stretch/>
        </p:blipFill>
        <p:spPr>
          <a:xfrm flipH="1">
            <a:off x="4723920" y="4267080"/>
            <a:ext cx="4038840" cy="22100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609480" y="22860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hopped Chinese ch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876920" y="304920"/>
            <a:ext cx="380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tus root pie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365760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rrots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1" descr="1.gif (1015 字节)"/>
          <p:cNvPicPr/>
          <p:nvPr/>
        </p:nvPicPr>
        <p:blipFill>
          <a:blip r:embed="rId5"/>
          <a:stretch/>
        </p:blipFill>
        <p:spPr>
          <a:xfrm>
            <a:off x="6705720" y="4343400"/>
            <a:ext cx="16002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77724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vg0018" descr=""/>
          <p:cNvPicPr/>
          <p:nvPr/>
        </p:nvPicPr>
        <p:blipFill>
          <a:blip r:embed="rId1"/>
          <a:stretch/>
        </p:blipFill>
        <p:spPr>
          <a:xfrm>
            <a:off x="685800" y="4267080"/>
            <a:ext cx="2362320" cy="2057400"/>
          </a:xfrm>
          <a:prstGeom prst="rect">
            <a:avLst/>
          </a:prstGeom>
          <a:ln w="0">
            <a:noFill/>
          </a:ln>
        </p:spPr>
      </p:pic>
      <p:pic>
        <p:nvPicPr>
          <p:cNvPr id="81" name="vg0033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3429000" cy="1905120"/>
          </a:xfrm>
          <a:prstGeom prst="rect">
            <a:avLst/>
          </a:prstGeom>
          <a:ln w="0">
            <a:noFill/>
          </a:ln>
        </p:spPr>
      </p:pic>
      <p:pic>
        <p:nvPicPr>
          <p:cNvPr id="82" name="vg0025" descr=""/>
          <p:cNvPicPr/>
          <p:nvPr/>
        </p:nvPicPr>
        <p:blipFill>
          <a:blip r:embed="rId3"/>
          <a:stretch/>
        </p:blipFill>
        <p:spPr>
          <a:xfrm>
            <a:off x="6019920" y="4394160"/>
            <a:ext cx="2514600" cy="2006640"/>
          </a:xfrm>
          <a:prstGeom prst="rect">
            <a:avLst/>
          </a:prstGeom>
          <a:ln w="0">
            <a:noFill/>
          </a:ln>
        </p:spPr>
      </p:pic>
      <p:pic>
        <p:nvPicPr>
          <p:cNvPr id="83" name="vg0028" descr=""/>
          <p:cNvPicPr/>
          <p:nvPr/>
        </p:nvPicPr>
        <p:blipFill>
          <a:blip r:embed="rId4"/>
          <a:stretch/>
        </p:blipFill>
        <p:spPr>
          <a:xfrm>
            <a:off x="3540240" y="4343400"/>
            <a:ext cx="2006640" cy="2057400"/>
          </a:xfrm>
          <a:prstGeom prst="rect">
            <a:avLst/>
          </a:prstGeom>
          <a:ln w="0">
            <a:noFill/>
          </a:ln>
        </p:spPr>
      </p:pic>
      <p:pic>
        <p:nvPicPr>
          <p:cNvPr id="84" name="vg0037" descr=""/>
          <p:cNvPicPr/>
          <p:nvPr/>
        </p:nvPicPr>
        <p:blipFill>
          <a:blip r:embed="rId5"/>
          <a:stretch/>
        </p:blipFill>
        <p:spPr>
          <a:xfrm>
            <a:off x="6934320" y="1295280"/>
            <a:ext cx="1676160" cy="1981440"/>
          </a:xfrm>
          <a:prstGeom prst="rect">
            <a:avLst/>
          </a:prstGeom>
          <a:ln w="0">
            <a:noFill/>
          </a:ln>
        </p:spPr>
      </p:pic>
      <p:pic>
        <p:nvPicPr>
          <p:cNvPr id="85" name="vg0032" descr=""/>
          <p:cNvPicPr/>
          <p:nvPr/>
        </p:nvPicPr>
        <p:blipFill>
          <a:blip r:embed="rId6"/>
          <a:stretch/>
        </p:blipFill>
        <p:spPr>
          <a:xfrm>
            <a:off x="4191120" y="1295280"/>
            <a:ext cx="2361960" cy="19051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35812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a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6094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inage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pin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60948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reen shallo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373392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in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81280" y="35812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garl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9880" y="6094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n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011-1-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0372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066680" y="6033960"/>
            <a:ext cx="6477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caf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609480"/>
            <a:ext cx="228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en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47920" y="1371600"/>
            <a:ext cx="1904760" cy="2514600"/>
          </a:xfrm>
          <a:prstGeom prst="line">
            <a:avLst/>
          </a:prstGeom>
          <a:ln w="4140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105520" y="1295280"/>
            <a:ext cx="236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waitres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838080" y="765000"/>
            <a:ext cx="764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  <a:ea typeface="华文新魏"/>
              </a:rPr>
              <a:t>Step 2 Listen to the tape and answer the question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223848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 Where are WB and Carl having lunch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03280" y="3716280"/>
            <a:ext cx="47530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caf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a restaur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buClr>
                <a:srgbClr val="ff0000"/>
              </a:buClr>
              <a:buFont typeface="Arial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 WB’ hom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434280" y="3048120"/>
            <a:ext cx="27097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5T05:37:48Z</dcterms:created>
  <dc:creator>罗燕玲</dc:creator>
  <dc:description/>
  <dc:language>en-US</dc:language>
  <cp:lastModifiedBy>jxl</cp:lastModifiedBy>
  <dcterms:modified xsi:type="dcterms:W3CDTF">2004-08-24T04:02:36Z</dcterms:modified>
  <cp:revision>33</cp:revision>
  <dc:subject/>
  <dc:title>PowerPoint 演示文稿</dc:title>
</cp:coreProperties>
</file>