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3.gif" ContentType="image/gif"/>
  <Override PartName="/ppt/media/image2.png" ContentType="image/png"/>
  <Override PartName="/ppt/media/image4.jpeg" ContentType="image/jpeg"/>
  <Override PartName="/ppt/media/image5.jpeg" ContentType="image/jpeg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5DEA-19CD-4FCF-91C1-139D8DC5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C95C-CE93-4624-9F1F-2440A9C0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3717-710F-4861-963B-247A404DE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69D0-F3B9-490A-83BF-DFB0E8353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E4BC-8E0D-40C5-B93B-AD732398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8AFB-A64D-414C-8D5F-F126F02A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8816-8881-4E89-8A3D-3CB788F5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0BBA-A90F-4D76-B36C-274DD18D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C301-6CA0-4A31-81C9-0F3BE820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E16E-A837-4BE0-8E8B-34F6B040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B141-5DDC-47DB-8FAD-D703FB92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C41C-77A8-4512-B22D-A91996CB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D1AB-053C-409F-985C-C146A07AEA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77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77080" y="5300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5440" y="2205000"/>
            <a:ext cx="616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  <a:ea typeface="华文新魏"/>
              </a:rPr>
              <a:t>Love for united lo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822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06960" y="549360"/>
            <a:ext cx="727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5.What’s the situation of AIDS in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world toda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6012000" y="4797360"/>
            <a:ext cx="2770200" cy="1657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32640" y="2324160"/>
            <a:ext cx="75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1.Thousands of children become infected with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3720" y="3405240"/>
            <a:ext cx="86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2.The disease is spreading fast in Africa and parts of A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211640" y="1557360"/>
            <a:ext cx="1450800" cy="3384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71240" y="4869000"/>
            <a:ext cx="550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华文新魏"/>
              </a:rPr>
              <a:t>A lack of proper health care, pre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华文新魏"/>
              </a:rPr>
              <a:t>and edu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8440" y="765000"/>
            <a:ext cx="826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3300"/>
                </a:solidFill>
                <a:latin typeface="Arial"/>
              </a:rPr>
              <a:t>6.Why there is little hope for children like Xiaohua?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zh-CN" sz="2400" spc="-1" strike="noStrike">
                <a:solidFill>
                  <a:srgbClr val="cc3300"/>
                </a:solidFill>
                <a:latin typeface="Arial"/>
              </a:rPr>
              <a:t>what does she do after knowing she has had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7093080" y="5300640"/>
            <a:ext cx="1728720" cy="1225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24360" y="1773360"/>
            <a:ext cx="724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1.Because the drugs that are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华文新魏"/>
              </a:rPr>
              <a:t>availabl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 are mu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too expens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86920" y="263700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1)not discou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5840" y="3213000"/>
            <a:ext cx="46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2)tell others about her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84040" y="3716280"/>
            <a:ext cx="54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3)encourage people to learn how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protect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84760" y="4508640"/>
            <a:ext cx="479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4)visit other AIDS patient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cheer them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5120" y="5300640"/>
            <a:ext cx="33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5)want to be a do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85480" y="5805360"/>
            <a:ext cx="418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6)try to create a network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help AIDS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720" y="429264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2.What she d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16360" y="2781360"/>
            <a:ext cx="71280" cy="3384360"/>
          </a:xfrm>
          <a:custGeom>
            <a:avLst/>
            <a:gdLst>
              <a:gd name="textAreaLeft" fmla="*/ 45720 w 71280"/>
              <a:gd name="textAreaRight" fmla="*/ 71640 w 71280"/>
              <a:gd name="textAreaTop" fmla="*/ 88200 h 3384360"/>
              <a:gd name="textAreaBottom" fmla="*/ 3296160 h 33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rcRect l="74177" t="3471" r="14328" b="78413"/>
          <a:stretch/>
        </p:blipFill>
        <p:spPr>
          <a:xfrm>
            <a:off x="7596360" y="1557360"/>
            <a:ext cx="11538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0480" y="692280"/>
            <a:ext cx="8419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7.In the sixth paragraph, the sentence “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disease is not the only thing that AIDS pat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have to suffer from”. What does it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6227640" y="4797360"/>
            <a:ext cx="2554560" cy="1657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489480" y="2637000"/>
            <a:ext cx="532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It means that they a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have to deal with people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fear of the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8360" y="3860640"/>
            <a:ext cx="270036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8136000" cy="51894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4480" y="212760"/>
            <a:ext cx="790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AIDS patients also have to deal with people’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fear of the dis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084720" y="260280"/>
            <a:ext cx="2490840" cy="2565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38240" y="3068640"/>
            <a:ext cx="772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f you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er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an AIDS patient, what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er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our plan for your limited future lif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8360" y="620640"/>
            <a:ext cx="36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Let’s discuss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2808360" cy="4896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8360" y="476280"/>
            <a:ext cx="36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Let’s discuss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22560" y="3357720"/>
            <a:ext cx="40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at can we do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elp AIDS pati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076720" y="692280"/>
            <a:ext cx="3584520" cy="2292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093080" y="4797360"/>
            <a:ext cx="172872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52840" y="2421000"/>
            <a:ext cx="54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Forte"/>
              </a:rPr>
              <a:t>Enjoy the fil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19447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5796000" y="4780080"/>
            <a:ext cx="2768400" cy="1674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54000" y="3500280"/>
            <a:ext cx="346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oper Black"/>
                <a:ea typeface="华文新魏"/>
              </a:rPr>
              <a:t>Live and let l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3360" y="2060640"/>
            <a:ext cx="81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oper Black"/>
                <a:ea typeface="华文新魏"/>
              </a:rPr>
              <a:t>Give love and care to the AIDS patie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1728720" cy="16286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046680" y="4076640"/>
            <a:ext cx="284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善待生命，共享人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5940360" y="4611600"/>
            <a:ext cx="2841840" cy="18432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050480" y="981000"/>
            <a:ext cx="255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Broadway"/>
                <a:ea typeface="华文新魏"/>
              </a:rPr>
              <a:t>Ho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0520" y="1989000"/>
            <a:ext cx="670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1.Get more information abou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HIV/AIDS from the Intern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3500280"/>
            <a:ext cx="7739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 Unicode MS"/>
              </a:rPr>
              <a:t>2.Preview Integrating Skills (p. 54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25560" y="1268280"/>
            <a:ext cx="816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What is the biggest wealth in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 rot="1029000">
            <a:off x="7740360" y="620280"/>
            <a:ext cx="861840" cy="1670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18280" y="2708280"/>
            <a:ext cx="779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Comic Sans MS"/>
              </a:rPr>
              <a:t>The biggest wealth is healt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148360" y="4221000"/>
            <a:ext cx="345600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492720" y="2637000"/>
            <a:ext cx="17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Xiaoh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227640" y="4149720"/>
            <a:ext cx="2392560" cy="2392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19640" y="2637000"/>
            <a:ext cx="37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suffers from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新魏"/>
              </a:rPr>
              <a:t>AID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rcRect l="74177" t="3471" r="14328" b="78413"/>
          <a:stretch/>
        </p:blipFill>
        <p:spPr>
          <a:xfrm>
            <a:off x="539640" y="1268280"/>
            <a:ext cx="2880000" cy="41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79240" y="32688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IDS  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0680" y="907920"/>
            <a:ext cx="832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Which statements are true and which are fa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5000" y="1700280"/>
            <a:ext cx="8541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1.Only bad people get 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2.We can become 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infected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with HIV by swimming in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pool, holding hands or kissing someone with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3.In 2002, there were 42 million people living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HIV/AIDS in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4.People who have not 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injected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drugs do not ne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to get tested for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5.If I had HIV, I would know because I would feel si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6.HIV/AIDS is difficult to c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7.It is safe to be friends with people who are l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with HIV/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8.HIV is 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2852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1773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2133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4292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3645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5734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653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5084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8792" t="5217" r="4800" b="5348"/>
          <a:stretch/>
        </p:blipFill>
        <p:spPr>
          <a:xfrm rot="1047000">
            <a:off x="8100720" y="5013000"/>
            <a:ext cx="7189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46160" y="33336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Born Dy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8600" y="765000"/>
            <a:ext cx="8221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Fast reading: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ad the text fast and find the main idea for each p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8840" y="227664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1(Para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8840" y="335592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2(Para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8840" y="421956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3(Para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8840" y="508464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4(Para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9200" y="5948280"/>
            <a:ext cx="250164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5(Paras.5-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73760" y="4292640"/>
            <a:ext cx="216180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at is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76640" y="3284640"/>
            <a:ext cx="4550040" cy="8254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General introduction to Xiaoh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living with 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77000" y="5084640"/>
            <a:ext cx="368424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w do people get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75560" y="5734080"/>
            <a:ext cx="4074480" cy="8254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oday’s situations of AID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wor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75920" y="1916280"/>
            <a:ext cx="4143240" cy="11912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w does a person live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IDS and how do others d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ith a person with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84360" y="2852640"/>
            <a:ext cx="151128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40000" y="3860640"/>
            <a:ext cx="1655640" cy="648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56000" y="4724280"/>
            <a:ext cx="151128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84360" y="5589720"/>
            <a:ext cx="1511280" cy="576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916360" y="2565000"/>
            <a:ext cx="1152360" cy="3311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2600" y="1773360"/>
            <a:ext cx="82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1.What does the title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"Born Dying"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43120" y="1876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4427640" y="4005360"/>
            <a:ext cx="4282920" cy="2376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81480" y="2924280"/>
            <a:ext cx="636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It means when a person is bo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with AIDS, he is dy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1680" y="476280"/>
            <a:ext cx="652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sten and read the text again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 the following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732720" y="333360"/>
            <a:ext cx="2052360" cy="2808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0880" y="692280"/>
            <a:ext cx="368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2.What is AI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2120" y="2565360"/>
            <a:ext cx="702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IDS is a disease that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reaks down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body’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mmune system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and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 person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efenseles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against inf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d illn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rcRect l="3248" t="7720" r="0" b="7617"/>
          <a:stretch/>
        </p:blipFill>
        <p:spPr>
          <a:xfrm>
            <a:off x="5219640" y="4724280"/>
            <a:ext cx="356256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227640" y="333360"/>
            <a:ext cx="2578320" cy="3382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5480" y="736560"/>
            <a:ext cx="571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3.How do people get AI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and how does HIV spre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3248" t="7720" r="0" b="7617"/>
          <a:stretch/>
        </p:blipFill>
        <p:spPr>
          <a:xfrm>
            <a:off x="6227640" y="4797360"/>
            <a:ext cx="2554560" cy="1657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8360" y="2276640"/>
            <a:ext cx="514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People get AIDS after having b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infected with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0520" y="45799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华文新魏"/>
              </a:rPr>
              <a:t>HIV sprea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12040" y="3716280"/>
            <a:ext cx="56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through blood and other body liq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17440" y="4508640"/>
            <a:ext cx="40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by having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华文新魏"/>
              </a:rPr>
              <a:t>u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protected s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87280" y="530064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through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556000" y="3778920"/>
            <a:ext cx="582120" cy="1961280"/>
            <a:chOff x="2556000" y="3778920"/>
            <a:chExt cx="582120" cy="1961280"/>
          </a:xfrm>
        </p:grpSpPr>
        <p:sp>
          <p:nvSpPr>
            <p:cNvPr id="107" name=""/>
            <p:cNvSpPr/>
            <p:nvPr/>
          </p:nvSpPr>
          <p:spPr>
            <a:xfrm>
              <a:off x="2556000" y="3932280"/>
              <a:ext cx="144360" cy="16552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42840 h 1655280"/>
                <a:gd name="textAreaBottom" fmla="*/ 1612440 h 165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21476400">
              <a:off x="2626920" y="3787560"/>
              <a:ext cx="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40960" y="537192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40960" y="457992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31200" y="569880"/>
            <a:ext cx="81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4.What’s the difference between AIDS and HIV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6227640" y="4797360"/>
            <a:ext cx="2554560" cy="1657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41440" y="220500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华文新魏"/>
              </a:rPr>
              <a:t>H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35280" y="2276640"/>
            <a:ext cx="649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is a kind of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  <a:ea typeface="华文新魏"/>
              </a:rPr>
              <a:t>viru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 which can cause A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3080" y="36450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华文新魏"/>
              </a:rPr>
              <a:t>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24200" y="3316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36360" y="3645000"/>
            <a:ext cx="598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is a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incurabl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 illness which is ca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by HIV and will cause people to d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08:16:49Z</dcterms:created>
  <dc:creator>Terence</dc:creator>
  <dc:description/>
  <dc:language>en-US</dc:language>
  <cp:lastModifiedBy>Terence</cp:lastModifiedBy>
  <dcterms:modified xsi:type="dcterms:W3CDTF">2004-11-09T03:39:48Z</dcterms:modified>
  <cp:revision>24</cp:revision>
  <dc:subject/>
  <dc:title>幻灯片 1</dc:title>
</cp:coreProperties>
</file>