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040-2566-4E63-8ADC-949A4146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19B-1770-48DD-8003-90C7F81F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F65-E212-4819-9358-DBBD1F50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7DE-A009-40D6-989E-1FED93C0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8CF-8422-49D3-95DD-5B0FEF6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B2A-CA3C-47FA-BE03-3E026FBF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22B-6448-4890-8A4E-B406BC76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A05-BE38-494F-A3FA-F5413DB5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B95-69A1-4C98-AC2B-8FDA8527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55F-91C3-45F1-B903-30506F2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7C8-E9F1-4F30-9EB1-AE3E07B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B9F-3A1D-4CBB-ACB3-7FE32FE1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BBFE-6891-4C66-82DC-DA94283FD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100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浙江椒江一中　田逢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8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11T01:33:40Z</dcterms:modified>
  <cp:revision>25</cp:revision>
  <dc:subject/>
  <dc:title>幻灯片 1</dc:title>
</cp:coreProperties>
</file>