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494-FD72-4777-8266-AA807150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899-988C-43CE-9C55-130BCF5E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A8E-1444-46F2-B5AB-169DB7CE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3DD-A38C-4B78-9F37-FA9C1E00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534-D4DE-4AD2-9087-3AF141D6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280-2145-4BBC-B375-5A5FC7AB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B1C-CE9A-4456-B3EF-809197EC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3FA-2E87-4A4C-AB01-62A820F8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721-7237-4CB3-96CE-7A8DDF02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F76-6F50-4DAC-97B4-343FACF7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BD6-1885-4BCD-8795-C82F1334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692-2B59-4F68-86B8-6D5233D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3C63-D551-46CF-9BC9-B351D5BC82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7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09T03:39:48Z</dcterms:modified>
  <cp:revision>24</cp:revision>
  <dc:subject/>
  <dc:title>幻灯片 1</dc:title>
</cp:coreProperties>
</file>