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9.jpeg" ContentType="image/jpeg"/>
  <Override PartName="/ppt/media/image3.gif" ContentType="image/gif"/>
  <Override PartName="/ppt/media/image2.png" ContentType="image/png"/>
  <Override PartName="/ppt/media/image4.jpeg" ContentType="image/jpeg"/>
  <Override PartName="/ppt/media/image5.jpeg" ContentType="image/jpe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01D3-D69F-4D46-829D-C1D502781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74FB-EC77-4779-ACC4-B6847C3A5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34A0-A801-40F5-8287-B0B9CC5F7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8D9B-8B24-41EF-BAE4-861A041F7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E1E61-1176-4E37-B7C4-5310517CB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136B-6C2A-4AD0-8214-12D16AB98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7361-5103-4EBD-8E83-73156DC9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6D21-B276-49D2-B615-2A52E3141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89A1-42E9-418C-ABAC-0BADC138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6546-F895-44B2-88DA-5A46689D4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65F-D1B6-46E7-B90A-C0EDF385D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1568-C844-481F-89B2-327B123C9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4736F-37DF-4C16-8DDB-4CB7CEF0E95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6877080" y="530064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5440" y="2205000"/>
            <a:ext cx="616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Arial"/>
                <a:ea typeface="华文新魏"/>
              </a:rPr>
              <a:t>Love for united lov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11000" y="6165720"/>
            <a:ext cx="104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华文新魏"/>
              </a:rPr>
              <a:t>浙江椒江一中　田逢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3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3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8224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06960" y="549360"/>
            <a:ext cx="727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5.What’s the situation of AIDS in th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world toda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012000" y="4797360"/>
            <a:ext cx="2770200" cy="16574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332640" y="2324160"/>
            <a:ext cx="756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Thousands of children become 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720" y="3405240"/>
            <a:ext cx="86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The disease is spreading fast in Africa and parts of As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211640" y="1557360"/>
            <a:ext cx="1450800" cy="338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471240" y="4869000"/>
            <a:ext cx="5501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 lack of proper health care, prev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and edu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88440" y="765000"/>
            <a:ext cx="8265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6.Why there is little hope for children like Xiaohua?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zh-CN" sz="2400" spc="-1" strike="noStrike">
                <a:solidFill>
                  <a:srgbClr val="cc3300"/>
                </a:solidFill>
                <a:latin typeface="Arial"/>
              </a:rPr>
              <a:t>what does she do after knowing she has had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7093080" y="5300640"/>
            <a:ext cx="1728720" cy="1225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24360" y="1773360"/>
            <a:ext cx="724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1.Because the drugs that ar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available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are mu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too expens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986920" y="263700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1)not discou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985840" y="3213000"/>
            <a:ext cx="468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2)tell others about her dise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84040" y="3716280"/>
            <a:ext cx="54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3)encourage people to learn how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 them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984760" y="4508640"/>
            <a:ext cx="479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4)visit other AIDS patient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cheer them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985120" y="5300640"/>
            <a:ext cx="33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5)want to be a doc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985480" y="5805360"/>
            <a:ext cx="4182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(6)try to create a network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help AIDS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24720" y="4292640"/>
            <a:ext cx="258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2.What she do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916360" y="2781360"/>
            <a:ext cx="71280" cy="3384360"/>
          </a:xfrm>
          <a:custGeom>
            <a:avLst/>
            <a:gdLst>
              <a:gd name="textAreaLeft" fmla="*/ 45720 w 71280"/>
              <a:gd name="textAreaRight" fmla="*/ 71640 w 71280"/>
              <a:gd name="textAreaTop" fmla="*/ 88200 h 3384360"/>
              <a:gd name="textAreaBottom" fmla="*/ 3296160 h 33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7596360" y="1557360"/>
            <a:ext cx="11538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30480" y="692280"/>
            <a:ext cx="84193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7.In the sixth paragraph, the sentence “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disease is not the only thing that AIDS pati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  </a:t>
            </a: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have to suffer from”. What does it me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489480" y="2637000"/>
            <a:ext cx="5327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that they al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have to deal with people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468360" y="3860640"/>
            <a:ext cx="2700360" cy="18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8360" y="1197000"/>
            <a:ext cx="8136000" cy="5189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5"/>
          <a:stretch/>
        </p:blipFill>
        <p:spPr>
          <a:xfrm>
            <a:off x="468360" y="1197000"/>
            <a:ext cx="8136000" cy="518472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74480" y="212760"/>
            <a:ext cx="7905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AIDS patients also have to deal with people’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fear of the dis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5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0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084720" y="260280"/>
            <a:ext cx="2490840" cy="2565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38240" y="3068640"/>
            <a:ext cx="7724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If you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an AIDS patient, what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were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your plan for your limited future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28360" y="62064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808360" cy="48960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28360" y="476280"/>
            <a:ext cx="363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Let’s discuss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922560" y="3357720"/>
            <a:ext cx="4019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What can we do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help AIDS pati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5076720" y="692280"/>
            <a:ext cx="3584520" cy="2292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7093080" y="4797360"/>
            <a:ext cx="1728720" cy="16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752840" y="2421000"/>
            <a:ext cx="54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ff"/>
                </a:solidFill>
                <a:latin typeface="Forte"/>
              </a:rPr>
              <a:t>Enjoy the fil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1944720" cy="18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796000" y="4780080"/>
            <a:ext cx="2768400" cy="167472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754000" y="3500280"/>
            <a:ext cx="3467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Live and let liv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23360" y="2060640"/>
            <a:ext cx="81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oper Black"/>
                <a:ea typeface="华文新魏"/>
              </a:rPr>
              <a:t>Give love and care to the AIDS patients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39640" y="333360"/>
            <a:ext cx="1728720" cy="16286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046680" y="4076640"/>
            <a:ext cx="284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善待生命，共享人生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5940360" y="4611600"/>
            <a:ext cx="2841840" cy="18432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050480" y="981000"/>
            <a:ext cx="255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Broadway"/>
                <a:ea typeface="华文新魏"/>
              </a:rPr>
              <a:t>Home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30520" y="1989000"/>
            <a:ext cx="670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1.Get more information abou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华文新魏"/>
              </a:rPr>
              <a:t>HIV/AIDS from the Intern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00000" y="3500280"/>
            <a:ext cx="77392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t">
            <a:sp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Arial Unicode MS"/>
              </a:rPr>
              <a:t>2.Preview Integrating Skills (p. 54)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-25560" y="1268280"/>
            <a:ext cx="8168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What is the biggest wealth in the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 rot="1029000">
            <a:off x="7740360" y="620280"/>
            <a:ext cx="861840" cy="1670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818280" y="2708280"/>
            <a:ext cx="779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ff"/>
                </a:solidFill>
                <a:latin typeface="Comic Sans MS"/>
              </a:rPr>
              <a:t>The biggest wealth is health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5148360" y="4221000"/>
            <a:ext cx="3456000" cy="209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492720" y="2637000"/>
            <a:ext cx="176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Xiaohu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6227640" y="4149720"/>
            <a:ext cx="2392560" cy="2392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219640" y="2637000"/>
            <a:ext cx="374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suffers from 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rcRect l="74177" t="3471" r="14328" b="78413"/>
          <a:stretch/>
        </p:blipFill>
        <p:spPr>
          <a:xfrm>
            <a:off x="539640" y="1268280"/>
            <a:ext cx="2880000" cy="41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279240" y="326880"/>
            <a:ext cx="261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IDS  QUIZ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00680" y="907920"/>
            <a:ext cx="832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a50021"/>
                </a:solidFill>
                <a:latin typeface="Arial"/>
              </a:rPr>
              <a:t>Which statements are true and which are fals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15000" y="1700280"/>
            <a:ext cx="8541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1.Only bad people get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2.We can become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f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with HIV by swimming in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pool, holding hands or kissing someone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3.In 2002, there were 42 million people living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HIV/AIDS in th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4.People who have not 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</a:rPr>
              <a:t>injected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drugs do not ne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to get tested for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5.If I had HIV, I would know because I would feel si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6.HIV/AIDS is difficult to c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7.It is safe to be friends with people who are l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         </a:t>
            </a: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with HIV/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(    )8.HIV is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8360" y="285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177336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1337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4292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68360" y="3645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73408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68360" y="465300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08464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rcRect l="8792" t="5217" r="4800" b="5348"/>
          <a:stretch/>
        </p:blipFill>
        <p:spPr>
          <a:xfrm rot="1047000">
            <a:off x="8100720" y="5013000"/>
            <a:ext cx="71892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46160" y="33336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Born Dy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18600" y="765000"/>
            <a:ext cx="82216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Fast reading: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Read the text fast and find the main idea for each pa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8840" y="2276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1(Para.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8840" y="335592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2(Para.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18840" y="421956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3(Para.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18840" y="5084640"/>
            <a:ext cx="206136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4(Para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9200" y="5948280"/>
            <a:ext cx="25016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Part5(Paras.5-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073760" y="4292640"/>
            <a:ext cx="216180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hat is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076640" y="3284640"/>
            <a:ext cx="455004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General introduction to Xiaoh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living with AI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77000" y="5084640"/>
            <a:ext cx="3684240" cy="45972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 people get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075560" y="5734080"/>
            <a:ext cx="4074480" cy="82548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oday’s situations of AID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the worl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75920" y="1916280"/>
            <a:ext cx="4143240" cy="11912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How does a person live wi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IDS and how do others de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with a person with AI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84360" y="2852640"/>
            <a:ext cx="1511280" cy="647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40000" y="3860640"/>
            <a:ext cx="1655640" cy="648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4724280"/>
            <a:ext cx="1511280" cy="57636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484360" y="5589720"/>
            <a:ext cx="1511280" cy="57600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2916360" y="2565000"/>
            <a:ext cx="1152360" cy="331164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2600" y="1773360"/>
            <a:ext cx="824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1.What does the title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"Born Dying"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mea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43120" y="187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4427640" y="4005360"/>
            <a:ext cx="4282920" cy="2376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1480" y="2924280"/>
            <a:ext cx="636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It means when a person is bor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华文新魏"/>
              </a:rPr>
              <a:t>with AIDS, he is dy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1680" y="476280"/>
            <a:ext cx="652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isten and read the text again t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swer the following ques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732720" y="333360"/>
            <a:ext cx="2052360" cy="28083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0880" y="692280"/>
            <a:ext cx="368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3300"/>
                </a:solidFill>
                <a:latin typeface="Arial"/>
              </a:rPr>
              <a:t>2.What is AID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02120" y="2565360"/>
            <a:ext cx="7020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IDS is a disease that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breaks down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the body’s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immune system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nd lea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 person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defenseless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 against infe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nd illness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5219640" y="4724280"/>
            <a:ext cx="3562560" cy="17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3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6227640" y="333360"/>
            <a:ext cx="2578320" cy="33829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5480" y="736560"/>
            <a:ext cx="5712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3.How do people get AID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1" i="1" lang="en-US" sz="3200" spc="-1" strike="noStrike">
                <a:solidFill>
                  <a:srgbClr val="cc3300"/>
                </a:solidFill>
                <a:latin typeface="Arial"/>
              </a:rPr>
              <a:t>and how does HIV spre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468360" y="227664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People get AIDS after having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  <a:ea typeface="华文新魏"/>
              </a:rPr>
              <a:t>infected with HI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0520" y="4579920"/>
            <a:ext cx="20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华文新魏"/>
              </a:rPr>
              <a:t>HIV sprea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2040" y="3716280"/>
            <a:ext cx="56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lood and other body liqu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17440" y="4508640"/>
            <a:ext cx="404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by having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华文新魏"/>
              </a:rPr>
              <a:t>un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protected s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87280" y="530064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华文新魏"/>
              </a:rPr>
              <a:t>through bir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556000" y="3778920"/>
            <a:ext cx="582120" cy="1961280"/>
            <a:chOff x="2556000" y="3778920"/>
            <a:chExt cx="582120" cy="1961280"/>
          </a:xfrm>
        </p:grpSpPr>
        <p:sp>
          <p:nvSpPr>
            <p:cNvPr id="108" name=""/>
            <p:cNvSpPr/>
            <p:nvPr/>
          </p:nvSpPr>
          <p:spPr>
            <a:xfrm>
              <a:off x="2556000" y="3932280"/>
              <a:ext cx="144360" cy="165528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42840 h 1655280"/>
                <a:gd name="textAreaBottom" fmla="*/ 1612440 h 1655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rot="21476400">
              <a:off x="2626920" y="3787560"/>
              <a:ext cx="5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640960" y="5371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③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640960" y="4579920"/>
              <a:ext cx="384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②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31200" y="569880"/>
            <a:ext cx="818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3300"/>
                </a:solidFill>
                <a:latin typeface="Arial"/>
              </a:rPr>
              <a:t>4.What’s the difference between AIDS and HI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0920" y="260280"/>
            <a:ext cx="8642160" cy="633744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rcRect l="3248" t="7720" r="0" b="7617"/>
          <a:stretch/>
        </p:blipFill>
        <p:spPr>
          <a:xfrm>
            <a:off x="6227640" y="4797360"/>
            <a:ext cx="2554560" cy="16574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1440" y="2205000"/>
            <a:ext cx="94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HI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35280" y="2276640"/>
            <a:ext cx="649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kind of </a:t>
            </a:r>
            <a:r>
              <a:rPr b="0" lang="en-US" sz="2800" spc="-1" strike="noStrike">
                <a:solidFill>
                  <a:srgbClr val="cc3300"/>
                </a:solidFill>
                <a:latin typeface="Arial"/>
                <a:ea typeface="华文新魏"/>
              </a:rPr>
              <a:t>viru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which can cause A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13080" y="3645000"/>
            <a:ext cx="124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  <a:ea typeface="华文新魏"/>
              </a:rPr>
              <a:t>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24200" y="3316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36360" y="3645000"/>
            <a:ext cx="5983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is a 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  <a:ea typeface="华文新魏"/>
              </a:rPr>
              <a:t>incurable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 illness which is cau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  <a:ea typeface="华文新魏"/>
              </a:rPr>
              <a:t>by HIV and will cause people to di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8T08:16:49Z</dcterms:created>
  <dc:creator>Terence</dc:creator>
  <dc:description/>
  <dc:language>en-US</dc:language>
  <cp:lastModifiedBy>Terence</cp:lastModifiedBy>
  <dcterms:modified xsi:type="dcterms:W3CDTF">2004-11-11T01:33:40Z</dcterms:modified>
  <cp:revision>25</cp:revision>
  <dc:subject/>
  <dc:title>幻灯片 1</dc:title>
</cp:coreProperties>
</file>