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BE1-450D-4E45-AA3C-1A6541B9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AF0-0FC9-4AF0-B2C4-BEDEE2CE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90E-5950-4433-8600-27FDA513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7A7-4B08-44D3-903B-91BB41F5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191-E34C-40CF-9625-92C1D39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53B-11A4-4218-B1C2-54FAF331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21F-B426-4F5F-9C9D-687144F2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E3F-CE7F-40AE-8975-48ABFEBA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ADF-4164-451D-B1AC-3A005B19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D55-996E-43E1-9F48-55271DCC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E74-B69B-491F-AAB2-F609416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4BE-77AF-423E-BB8D-77EA49A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EA34-6963-4127-A510-BF486B59ED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100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浙江椒江一中　田逢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8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11T01:33:40Z</dcterms:modified>
  <cp:revision>25</cp:revision>
  <dc:subject/>
  <dc:title>幻灯片 1</dc:title>
</cp:coreProperties>
</file>