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DD0C5-87A0-4FBC-B631-EA001385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F1C5-1118-49A2-93EC-FA0FAA82B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1A01-36DF-486D-A682-864C62545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772-B876-4529-BA53-7E4CBCEED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5D334-4EAB-4A19-9832-A7DF79AC3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559B-E2A0-49BA-BE98-4530CF9C7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A63C-07BB-49EF-9F91-CA20C0268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129D-4A9C-44AF-9EA4-C9EBD89FF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A47D-A2C3-41CC-BDFE-90B964D3D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9991-2F19-4B17-92B7-6A818EF2C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87E6-8BF5-45DB-A136-EBEF3348C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F4E7-3ACE-4234-9FE4-9FF8B4A8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477DF-19EF-41FD-B30C-CAD4B2F20A3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5440" y="2205000"/>
            <a:ext cx="61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Love for united l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06960" y="549360"/>
            <a:ext cx="72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5.What’s the situation of AIDS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world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012000" y="4797360"/>
            <a:ext cx="2770200" cy="165744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332640" y="23241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Thousands of children become 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720" y="340524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The disease is spreading fast in Africa and parts of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1450800" cy="33843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471240" y="4869000"/>
            <a:ext cx="55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 lack of proper health care,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8440" y="765000"/>
            <a:ext cx="82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6.Why there is little hope for children like Xiaohua?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what does she do after knowing she has had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7093080" y="5300640"/>
            <a:ext cx="1728720" cy="1225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24360" y="1773360"/>
            <a:ext cx="72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Because the drugs that ar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availab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are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too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986920" y="26370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1)not dis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5840" y="32130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2)tell others about h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4040" y="3716280"/>
            <a:ext cx="54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3)encourage people to learn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4760" y="4508640"/>
            <a:ext cx="47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4)visit other AIDS pati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cheer the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5120" y="530064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5)want to be a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5480" y="5805360"/>
            <a:ext cx="41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6)try to create a networ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help AIDS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4720" y="4292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What she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916360" y="2781360"/>
            <a:ext cx="71280" cy="3384360"/>
          </a:xfrm>
          <a:custGeom>
            <a:avLst/>
            <a:gdLst>
              <a:gd name="textAreaLeft" fmla="*/ 45720 w 71280"/>
              <a:gd name="textAreaRight" fmla="*/ 71640 w 7128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7596360" y="1557360"/>
            <a:ext cx="1153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330480" y="692280"/>
            <a:ext cx="84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7.In the sixth paragraph, the sentence “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isease is not the only thing that AIDS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have to suffer from”.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3489480" y="2637000"/>
            <a:ext cx="53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that they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have to deal with peopl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2700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36000" cy="5189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474480" y="21276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IDS patients also have to deal with people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490840" cy="25653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38240" y="3068640"/>
            <a:ext cx="772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n AIDS patient, wha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r plan for your limited future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28360" y="62064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808360" cy="489600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28360" y="47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22560" y="3357720"/>
            <a:ext cx="40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can we do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lp AIDS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584520" cy="229212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752840" y="2421000"/>
            <a:ext cx="54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orte"/>
              </a:rPr>
              <a:t>Enjoy the fil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1944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796000" y="4780080"/>
            <a:ext cx="2768400" cy="167472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754000" y="3500280"/>
            <a:ext cx="34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Live and let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23360" y="2060640"/>
            <a:ext cx="81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Give love and care to the AIDS pati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728720" cy="16286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046680" y="4076640"/>
            <a:ext cx="28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善待生命，共享人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940360" y="4611600"/>
            <a:ext cx="2841840" cy="18432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050480" y="981000"/>
            <a:ext cx="25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Broadway"/>
                <a:ea typeface="华文新魏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0520" y="1989000"/>
            <a:ext cx="67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1.Get more information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HIV/AIDS from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000" y="3500280"/>
            <a:ext cx="773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2.Preview Integrating Skills (p. 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-25560" y="1268280"/>
            <a:ext cx="81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What is the biggest wealth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 rot="1029000">
            <a:off x="7740360" y="620280"/>
            <a:ext cx="861840" cy="16700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818280" y="270828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The biggest wealth is heal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148360" y="4221000"/>
            <a:ext cx="3456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3492720" y="2637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ao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392560" cy="23922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26370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suffers from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539640" y="1268280"/>
            <a:ext cx="28800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79240" y="3268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DS 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00680" y="907920"/>
            <a:ext cx="83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Which statements are true and which are fa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15000" y="1700280"/>
            <a:ext cx="854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1.Only bad people get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2.We can become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f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with HIV by swimming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ool, holding hands or kissing someone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3.In 2002, there were 42 million people liv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IV/AID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4.People who have not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j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drugs do no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 get tested for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5.If I had HIV, I would know because I would feel s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6.HIV/AIDS is difficult to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7.It is safe to be friends with people who ar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with HIV/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8.HIV is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17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573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65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508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rcRect l="8792" t="5217" r="4800" b="5348"/>
          <a:stretch/>
        </p:blipFill>
        <p:spPr>
          <a:xfrm rot="1047000">
            <a:off x="8100720" y="5013000"/>
            <a:ext cx="71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6160" y="33336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orn D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8600" y="765000"/>
            <a:ext cx="822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ast reading: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ad the text fast and find the main idea for each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8840" y="2276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1(Para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8840" y="335592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2(Para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8840" y="421956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3(Para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8840" y="5084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4(Para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9200" y="5948280"/>
            <a:ext cx="25016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5(Paras.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073760" y="4292640"/>
            <a:ext cx="216180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6640" y="3284640"/>
            <a:ext cx="455004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General introduction to Xiaoh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ving with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7000" y="5084640"/>
            <a:ext cx="36842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 people ge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5560" y="5734080"/>
            <a:ext cx="407448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day’s situations of AID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75920" y="1916280"/>
            <a:ext cx="414324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es a person liv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IDS and how do others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th a person with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484360" y="2852640"/>
            <a:ext cx="151128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40000" y="3860640"/>
            <a:ext cx="1655640" cy="64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56000" y="4724280"/>
            <a:ext cx="151128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484360" y="5589720"/>
            <a:ext cx="151128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916360" y="2565000"/>
            <a:ext cx="1152360" cy="331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62600" y="1773360"/>
            <a:ext cx="82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1.What does the titl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"Born Dying"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43120" y="187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4427640" y="4005360"/>
            <a:ext cx="4282920" cy="23763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681480" y="292428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when a person is bo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with AIDS, he is dy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1680" y="47628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read the text agai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052360" cy="2808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0880" y="692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2.What is AI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02120" y="2565360"/>
            <a:ext cx="70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IDS is a disease t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reaks dow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ody’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mmune system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erso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fenseles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gainst inf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ill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5219640" y="4724280"/>
            <a:ext cx="35625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78320" cy="33829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5480" y="736560"/>
            <a:ext cx="571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3.How do people get 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and how does HIV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68360" y="227664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People get AIDS after having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0520" y="45799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HIV sprea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912040" y="371628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lood and other body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7440" y="450864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by hav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ed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87280" y="5300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2556000" y="3778920"/>
            <a:ext cx="582120" cy="1961280"/>
            <a:chOff x="2556000" y="3778920"/>
            <a:chExt cx="582120" cy="1961280"/>
          </a:xfrm>
        </p:grpSpPr>
        <p:sp>
          <p:nvSpPr>
            <p:cNvPr id="107" name=""/>
            <p:cNvSpPr/>
            <p:nvPr/>
          </p:nvSpPr>
          <p:spPr>
            <a:xfrm>
              <a:off x="2556000" y="3932280"/>
              <a:ext cx="144360" cy="165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2840 h 1655280"/>
                <a:gd name="textAreaBottom" fmla="*/ 1612440 h 16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1476400">
              <a:off x="2626920" y="37875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40960" y="5371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960" y="4579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331200" y="56988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4.What’s the difference between AIDS and HI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541440" y="22050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276640"/>
            <a:ext cx="64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kind of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华文新魏"/>
              </a:rPr>
              <a:t>viru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which can cause A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13080" y="3645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24200" y="331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360" y="3645000"/>
            <a:ext cx="59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incur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illness which is ca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by HIV and will cause people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8:16:49Z</dcterms:created>
  <dc:creator>Terence</dc:creator>
  <dc:description/>
  <dc:language>en-US</dc:language>
  <cp:lastModifiedBy>Terence</cp:lastModifiedBy>
  <dcterms:modified xsi:type="dcterms:W3CDTF">2004-11-09T03:39:48Z</dcterms:modified>
  <cp:revision>24</cp:revision>
  <dc:subject/>
  <dc:title>幻灯片 1</dc:title>
</cp:coreProperties>
</file>