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76F1-885F-43FE-BAAB-145D7CBA8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8524-1F22-4184-8193-C30AAB17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3C11-0084-4428-B0BA-5F6400B66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0BDA-1C82-44BC-BD85-BDD342375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73346-D5ED-4396-BB9C-7554E7B0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6766-031E-4808-BA34-107CE8E4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B845-237B-45C3-924D-2D5B73F55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91144-C1D4-4625-A336-ABFF6AAF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CAFB5-34D8-4CF4-9A67-B1AEDC3EC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8C6A1-F5C4-4783-BF72-4251E502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13D3B-B7BD-40B7-B39E-8064F1B9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C1FF-301F-4478-BEF0-07AC110B6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6C961-BBA0-44FA-BDB9-978D7A86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5C4C-C337-4E95-80D8-F6A507C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6872-14B6-4631-9276-DDB414FF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AC84-786B-4D9D-89E6-087ADAA99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A166A-A7E6-4A2E-A8EE-8F54A9AB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4B5D-F5DA-4518-94F3-733F743AA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18E4-A916-47DE-8C0D-33869865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1C9E-8602-4988-8585-38D160FF6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A767-4707-402F-81E9-B739602D6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E286-D400-4855-A1A3-998F133D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1C6B-DD68-47F2-B5B4-A0C6449B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6EBE-CEF7-4859-A86C-F90A1407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E898D-CF33-4F21-836A-69EDA111A252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8BFE7-29B9-430D-9D75-7C7DCAF294D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cc66"/>
                </a:solidFill>
                <a:latin typeface="Arial"/>
              </a:rPr>
              <a:t>Unit 5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286000" y="2438280"/>
            <a:ext cx="472428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Silver Screen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Gone with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the Win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Gone%20with%20the%20wind" descr=""/>
          <p:cNvPicPr/>
          <p:nvPr/>
        </p:nvPicPr>
        <p:blipFill>
          <a:blip r:embed="rId1"/>
          <a:stretch/>
        </p:blipFill>
        <p:spPr>
          <a:xfrm>
            <a:off x="0" y="0"/>
            <a:ext cx="444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Harry%20Potter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Homework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142640"/>
            <a:ext cx="8839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Write a curriculum vitae (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履历表）</a:t>
            </a:r>
            <a:r>
              <a:rPr b="0" i="1" lang="zh-CN" sz="4400" spc="-1" strike="noStrike">
                <a:solidFill>
                  <a:srgbClr val="ffffff"/>
                </a:solidFill>
                <a:latin typeface="Times New Roman"/>
              </a:rPr>
              <a:t>of  your favorite actor/actress/director/produce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GulimChe"/>
                <a:ea typeface="GulimChe"/>
              </a:rPr>
              <a:t>Get as much information as much as possible through the Interne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BS00580_" descr=""/>
          <p:cNvPicPr/>
          <p:nvPr/>
        </p:nvPicPr>
        <p:blipFill>
          <a:blip r:embed="rId1"/>
          <a:stretch/>
        </p:blipFill>
        <p:spPr>
          <a:xfrm>
            <a:off x="5029200" y="4267080"/>
            <a:ext cx="2819520" cy="252252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276720" y="480060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228600" y="1676520"/>
            <a:ext cx="8915040" cy="4571640"/>
            <a:chOff x="228600" y="1676520"/>
            <a:chExt cx="8915040" cy="4571640"/>
          </a:xfrm>
        </p:grpSpPr>
        <p:grpSp>
          <p:nvGrpSpPr>
            <p:cNvPr id="122" name=""/>
            <p:cNvGrpSpPr/>
            <p:nvPr/>
          </p:nvGrpSpPr>
          <p:grpSpPr>
            <a:xfrm>
              <a:off x="235080" y="1681560"/>
              <a:ext cx="8900640" cy="4560840"/>
              <a:chOff x="235080" y="1681560"/>
              <a:chExt cx="8900640" cy="4560840"/>
            </a:xfrm>
          </p:grpSpPr>
          <p:grpSp>
            <p:nvGrpSpPr>
              <p:cNvPr id="123" name=""/>
              <p:cNvGrpSpPr/>
              <p:nvPr/>
            </p:nvGrpSpPr>
            <p:grpSpPr>
              <a:xfrm>
                <a:off x="235080" y="1681560"/>
                <a:ext cx="1922400" cy="844200"/>
                <a:chOff x="235080" y="1681560"/>
                <a:chExt cx="1922400" cy="84420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34800" y="168156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rst nam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235080" y="168156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157840" y="1681560"/>
                <a:ext cx="1649160" cy="844200"/>
                <a:chOff x="2157840" y="1681560"/>
                <a:chExt cx="1649160" cy="84420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57560" y="1681560"/>
                  <a:ext cx="14497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57840" y="1681560"/>
                  <a:ext cx="164916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807720" y="1681560"/>
                <a:ext cx="1231920" cy="844200"/>
                <a:chOff x="3807720" y="1681560"/>
                <a:chExt cx="1231920" cy="844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906720" y="1681560"/>
                  <a:ext cx="10328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ur-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name 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807720" y="1681560"/>
                  <a:ext cx="12319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5040000" y="1681560"/>
                <a:ext cx="1635120" cy="844200"/>
                <a:chOff x="5040000" y="1681560"/>
                <a:chExt cx="1635120" cy="84420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5139000" y="1681560"/>
                  <a:ext cx="1436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5040000" y="1681560"/>
                  <a:ext cx="1635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6675840" y="1681560"/>
                <a:ext cx="1301400" cy="844200"/>
                <a:chOff x="6675840" y="1681560"/>
                <a:chExt cx="1301400" cy="84420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6775560" y="1681560"/>
                  <a:ext cx="110232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Gender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675840" y="1681560"/>
                  <a:ext cx="1301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977600" y="1681560"/>
                <a:ext cx="1158120" cy="844200"/>
                <a:chOff x="7977600" y="1681560"/>
                <a:chExt cx="1158120" cy="8442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8077320" y="1681560"/>
                  <a:ext cx="95904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977600" y="1681560"/>
                  <a:ext cx="115812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235080" y="2526120"/>
                <a:ext cx="1922400" cy="843840"/>
                <a:chOff x="235080" y="2526120"/>
                <a:chExt cx="1922400" cy="84384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4800" y="2526120"/>
                  <a:ext cx="172296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day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235080" y="2526120"/>
                  <a:ext cx="192240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57840" y="2526120"/>
                <a:ext cx="1649160" cy="843840"/>
                <a:chOff x="2157840" y="2526120"/>
                <a:chExt cx="1649160" cy="84384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57560" y="2526120"/>
                  <a:ext cx="144972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57840" y="2526120"/>
                  <a:ext cx="16491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807720" y="2526120"/>
                <a:ext cx="1231920" cy="843840"/>
                <a:chOff x="3807720" y="2526120"/>
                <a:chExt cx="1231920" cy="84384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906720" y="2526120"/>
                  <a:ext cx="10328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Birth-place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807720" y="2526120"/>
                  <a:ext cx="123192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5040000" y="2526120"/>
                <a:ext cx="4095360" cy="843840"/>
                <a:chOff x="5040000" y="2526120"/>
                <a:chExt cx="4095360" cy="84384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5139000" y="2526120"/>
                  <a:ext cx="3896640" cy="84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5040000" y="2526120"/>
                  <a:ext cx="4095360" cy="843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35080" y="3370680"/>
                <a:ext cx="1922400" cy="675360"/>
                <a:chOff x="235080" y="3370680"/>
                <a:chExt cx="1922400" cy="675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800" y="3370680"/>
                  <a:ext cx="172296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Schooling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35080" y="3370680"/>
                  <a:ext cx="192240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157840" y="3370680"/>
                <a:ext cx="6977880" cy="675360"/>
                <a:chOff x="2157840" y="3370680"/>
                <a:chExt cx="6977880" cy="675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257560" y="3370680"/>
                  <a:ext cx="6778800" cy="675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157840" y="3370680"/>
                  <a:ext cx="6977880" cy="675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235080" y="4046760"/>
                <a:ext cx="1922400" cy="675000"/>
                <a:chOff x="235080" y="4046760"/>
                <a:chExt cx="1922400" cy="675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4800" y="404676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Career in film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235080" y="404676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57840" y="4046760"/>
                <a:ext cx="6977880" cy="675000"/>
                <a:chOff x="2157840" y="4046760"/>
                <a:chExt cx="6977880" cy="675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57560" y="404676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57840" y="404676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235080" y="4722480"/>
                <a:ext cx="1922400" cy="675000"/>
                <a:chOff x="235080" y="4722480"/>
                <a:chExt cx="1922400" cy="675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4800" y="4722480"/>
                  <a:ext cx="172296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Films &amp; roles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235080" y="4722480"/>
                  <a:ext cx="192240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157840" y="4722480"/>
                <a:ext cx="6977880" cy="675000"/>
                <a:chOff x="2157840" y="4722480"/>
                <a:chExt cx="6977880" cy="67500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257560" y="4722480"/>
                  <a:ext cx="6778800" cy="675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157840" y="4722480"/>
                  <a:ext cx="6977880" cy="675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5080" y="5398200"/>
                <a:ext cx="1922400" cy="844200"/>
                <a:chOff x="235080" y="5398200"/>
                <a:chExt cx="1922400" cy="84420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34800" y="5398200"/>
                  <a:ext cx="172296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Achievement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(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宋体"/>
                    </a:rPr>
                    <a:t>成就</a:t>
                  </a:r>
                  <a:r>
                    <a:rPr b="1" lang="zh-CN" sz="18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)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5080" y="5398200"/>
                  <a:ext cx="192240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2157840" y="5398200"/>
                <a:ext cx="6977880" cy="844200"/>
                <a:chOff x="2157840" y="5398200"/>
                <a:chExt cx="6977880" cy="84420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2257560" y="5398200"/>
                  <a:ext cx="6778800" cy="84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2157840" y="5398200"/>
                  <a:ext cx="6977880" cy="844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7" name=""/>
            <p:cNvSpPr/>
            <p:nvPr/>
          </p:nvSpPr>
          <p:spPr>
            <a:xfrm>
              <a:off x="228600" y="1676520"/>
              <a:ext cx="8915040" cy="45716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 txBox="1"/>
          <p:nvPr/>
        </p:nvSpPr>
        <p:spPr>
          <a:xfrm>
            <a:off x="2666880" y="609480"/>
            <a:ext cx="36576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curriculum vitae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219320" y="2209680"/>
            <a:ext cx="632448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THANK YOU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anic2" descr=""/>
          <p:cNvPicPr/>
          <p:nvPr/>
        </p:nvPicPr>
        <p:blipFill>
          <a:blip r:embed="rId1"/>
          <a:stretch/>
        </p:blipFill>
        <p:spPr>
          <a:xfrm>
            <a:off x="0" y="0"/>
            <a:ext cx="355932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76360" y="6091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or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ctress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irector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lay a role of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win 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scar Award</a:t>
            </a: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Hollywood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lm typ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ffectional film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爱情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etective film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侦探片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Dracula film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恐怖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Ethical film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伦理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usicals  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音乐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Cartoon film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卡通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Science and fiction film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科幻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ction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动作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Martial film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战争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Horror film                       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惊险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181480" y="304560"/>
            <a:ext cx="327672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cc66"/>
                </a:solidFill>
                <a:latin typeface="Arial"/>
              </a:rPr>
              <a:t>Titanic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47960" y="1828440"/>
            <a:ext cx="5257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fectional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TITANICB" descr=""/>
          <p:cNvPicPr/>
          <p:nvPr/>
        </p:nvPicPr>
        <p:blipFill>
          <a:blip r:embed="rId1"/>
          <a:stretch/>
        </p:blipFill>
        <p:spPr>
          <a:xfrm>
            <a:off x="0" y="0"/>
            <a:ext cx="419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he Matrix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 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matrix" descr=""/>
          <p:cNvPicPr/>
          <p:nvPr/>
        </p:nvPicPr>
        <p:blipFill>
          <a:blip r:embed="rId1"/>
          <a:stretch/>
        </p:blipFill>
        <p:spPr>
          <a:xfrm>
            <a:off x="0" y="0"/>
            <a:ext cx="44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inding Nem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rto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findingnemo_d" descr=""/>
          <p:cNvPicPr/>
          <p:nvPr/>
        </p:nvPicPr>
        <p:blipFill>
          <a:blip r:embed="rId1"/>
          <a:stretch/>
        </p:blipFill>
        <p:spPr>
          <a:xfrm>
            <a:off x="0" y="0"/>
            <a:ext cx="399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007 Die Another Da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007_dieanotherday_b" descr=""/>
          <p:cNvPicPr/>
          <p:nvPr/>
        </p:nvPicPr>
        <p:blipFill>
          <a:blip r:embed="rId1"/>
          <a:stretch/>
        </p:blipFill>
        <p:spPr>
          <a:xfrm>
            <a:off x="0" y="0"/>
            <a:ext cx="3200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Jurassic Pa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rror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Jurassic%20park" descr=""/>
          <p:cNvPicPr/>
          <p:nvPr/>
        </p:nvPicPr>
        <p:blipFill>
          <a:blip r:embed="rId1"/>
          <a:stretch/>
        </p:blipFill>
        <p:spPr>
          <a:xfrm>
            <a:off x="0" y="0"/>
            <a:ext cx="3962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piderman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ience and fiction fil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spiderman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3T13:04:31Z</dcterms:created>
  <dc:creator> </dc:creator>
  <dc:description/>
  <dc:language>en-US</dc:language>
  <cp:lastModifiedBy> </cp:lastModifiedBy>
  <dcterms:modified xsi:type="dcterms:W3CDTF">2003-10-15T01:11:02Z</dcterms:modified>
  <cp:revision>8</cp:revision>
  <dc:subject/>
  <dc:title>Unit 5</dc:title>
</cp:coreProperties>
</file>