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00EE-5A09-4E7E-A8FB-481B890C8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61D8-9784-4684-8E08-E53874C0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67FB-DA54-4564-B975-83A89F983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6C36-190A-4610-862C-94A81002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1D17-BF9B-47F4-B8B2-29BEC297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DF76-E0AA-4873-8657-BF0796EA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7B36-0A0E-48DB-8707-F760C4CF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A565-9E87-4098-9476-9112C032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6D68-776A-49A4-9AB9-6410A682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A011-20DF-41A8-B69B-47727BC8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7E9C-2366-46B1-B129-A64E7303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2B46-20BA-43B0-A9DC-8A312DAA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79A2-C3D5-417A-941A-6A32056E4A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3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3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4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4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4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4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4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4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4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3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3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3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3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3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3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4T03:12:36Z</dcterms:created>
  <dc:creator>USER13</dc:creator>
  <dc:description/>
  <dc:language>en-US</dc:language>
  <cp:lastModifiedBy>USER13</cp:lastModifiedBy>
  <dcterms:modified xsi:type="dcterms:W3CDTF">2002-05-04T03:16:18Z</dcterms:modified>
  <cp:revision>1</cp:revision>
  <dc:subject/>
  <dc:title>PowerPoint 演示文稿</dc:title>
</cp:coreProperties>
</file>